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6.gif" ContentType="image/gif"/>
  <Override PartName="/ppt/media/image22.wmf" ContentType="image/x-wmf"/>
  <Override PartName="/ppt/media/image25.gif" ContentType="image/gif"/>
  <Override PartName="/ppt/media/image21.wmf" ContentType="image/x-wmf"/>
  <Override PartName="/ppt/media/image6.jpeg" ContentType="image/jpeg"/>
  <Override PartName="/ppt/media/image24.gif" ContentType="image/gif"/>
  <Override PartName="/ppt/media/image19.gif" ContentType="image/gif"/>
  <Override PartName="/ppt/media/image14.jpeg" ContentType="image/jpe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49.wmf" ContentType="image/x-wmf"/>
  <Override PartName="/ppt/media/image27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30.gif" ContentType="image/gif"/>
  <Override PartName="/ppt/media/image32.gif" ContentType="image/gif"/>
  <Override PartName="/ppt/media/image35.gif" ContentType="image/gif"/>
  <Override PartName="/ppt/media/image39.gif" ContentType="image/gif"/>
  <Override PartName="/ppt/media/image41.gif" ContentType="image/gif"/>
  <Override PartName="/ppt/media/image40.gif" ContentType="image/gif"/>
  <Override PartName="/ppt/media/image42.wmf" ContentType="image/x-wmf"/>
  <Override PartName="/ppt/media/image46.gif" ContentType="image/gif"/>
  <Override PartName="/ppt/media/image9.wmf" ContentType="image/x-wmf"/>
  <Override PartName="/ppt/media/image8.gif" ContentType="image/gif"/>
  <Override PartName="/ppt/media/image38.gif" ContentType="image/gif"/>
  <Override PartName="/ppt/media/image34.wmf" ContentType="image/x-wmf"/>
  <Override PartName="/ppt/media/image31.gif" ContentType="image/gif"/>
  <Override PartName="/ppt/media/image43.gif" ContentType="image/gif"/>
  <Override PartName="/ppt/media/image36.gif" ContentType="image/gif"/>
  <Override PartName="/ppt/media/image44.wmf" ContentType="image/x-wmf"/>
  <Override PartName="/ppt/media/image48.gif" ContentType="image/gif"/>
  <Override PartName="/ppt/media/image13.gif" ContentType="image/gif"/>
  <Override PartName="/ppt/media/image23.gif" ContentType="image/gif"/>
  <Override PartName="/ppt/media/image5.jpeg" ContentType="image/jpeg"/>
  <Override PartName="/ppt/media/image11.wmf" ContentType="image/x-wmf"/>
  <Override PartName="/ppt/media/image47.gif" ContentType="image/gif"/>
  <Override PartName="/ppt/media/image10.gif" ContentType="image/gif"/>
  <Override PartName="/ppt/media/image12.gif" ContentType="image/gif"/>
  <Override PartName="/ppt/media/image45.wmf" ContentType="image/x-wmf"/>
  <Override PartName="/ppt/media/image7.gif" ContentType="image/gif"/>
  <Override PartName="/ppt/media/image33.wmf" ContentType="image/x-wmf"/>
  <Override PartName="/ppt/media/image37.gif" ContentType="image/gif"/>
  <Override PartName="/ppt/media/image3.jpeg" ContentType="image/jpeg"/>
  <Override PartName="/ppt/media/image2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50D-AD36-49C3-82D1-E0D2FDFB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90560" y="39643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2C0-9CB8-46FF-AA2F-928B65FA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4280" y="16002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90560" y="39643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4280" y="39643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7A0-76B5-4B70-96FE-C89870D7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2920" y="16002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90560" y="39643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1920" y="39643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2920" y="39643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5BC-A914-4FC3-B879-C61DE57E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FC37-0F59-485D-9E6B-8787A697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ADE9-8722-4426-AD2C-45F02491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F200-C7FF-49F0-B4C5-E4AFD780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14280" y="16002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383B-3D34-4CC2-B31C-DAFC320C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0F70-2EBA-4C17-8009-D77E20A2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90560" y="457200"/>
            <a:ext cx="60958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08C2-9458-494D-91DB-6E15CB62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14280" y="16002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90560" y="39643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FD77-F01E-4612-8D9C-2EE82AE3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B7B6-773A-4B71-BF8D-27BB6138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4280" y="16002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14280" y="39643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C786-4E17-4470-96DA-DA83D107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4280" y="16002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90560" y="39643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871A-F5BF-4FF9-8F34-C0A28C05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90560" y="39643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FF70-BA01-4CDA-8B54-F5E468C1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4280" y="16002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90560" y="39643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14280" y="39643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28CB-7331-4E52-A5BF-9DF07ECF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920" y="16002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12920" y="16002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90560" y="39643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51920" y="39643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12920" y="39643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BAF7-4E64-41B9-8D66-9B1F9FA6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7C5C-76A0-4643-9F03-4C8F722E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4280" y="16002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2BC-2080-4F17-9936-3BD26351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EF4-B254-476C-A8F4-C05B046A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90560" y="457200"/>
            <a:ext cx="60958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E69-48DB-4B74-BE1E-FA85A798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4280" y="16002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90560" y="39643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B02-988F-42F5-A961-72B06FE6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4280" y="16002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4280" y="39643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A4D1-647E-4A46-8FE0-1E7AF88A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4280" y="16002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90560" y="39643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DD70-48CF-4385-B777-4133A52A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8C0B-0DC8-4958-A0E6-DD1EFE597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0560" y="15238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F289-1B39-44FE-8E0B-C42357CF9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hop.com/op/Starlight_Express_(Broadway_Musical),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gif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6.gif"/><Relationship Id="rId3" Type="http://schemas.openxmlformats.org/officeDocument/2006/relationships/image" Target="../media/image47.gif"/><Relationship Id="rId4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90560" y="15238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3366"/>
                </a:solidFill>
                <a:latin typeface="Arial"/>
              </a:rPr>
              <a:t>Self-Concept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90560" y="35053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Dr. Aubrey H. Fine</a:t>
            </a:r>
            <a:endParaRPr b="0" lang="en-US" sz="3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866e"/>
                </a:solidFill>
                <a:latin typeface="Arial"/>
              </a:rPr>
              <a:t>The Builder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I saw them tearing a building down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A team of men in my hometown.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With a heave and a ho and a yes yes yell,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hey swung a beam and a sidewall fell.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And I said to the foreman, “Are these men skilled?”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ke the ones you’d use if you had to build?”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And he laughed and said, “Oh no, indeed…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he most common labor is all I need…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For I can destroy in a day or two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What takes a builder then years to do.”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o I thought to myself as I went on my way…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Am I one who is tearing down as I carelessly make my way around?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Or am I one who builds with care, in order to make the world a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ttle better…because I was there?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9907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0560" y="533520"/>
            <a:ext cx="60195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abcc2"/>
                </a:solidFill>
                <a:latin typeface="Arial"/>
              </a:rPr>
              <a:t>Characteristics of Risk Individuals</a:t>
            </a:r>
            <a:br>
              <a:rPr sz="3800"/>
            </a:br>
            <a:endParaRPr b="1" lang="en-US" sz="3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361960" y="23320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Weak perception of personal </a:t>
            </a:r>
            <a:r>
              <a:rPr b="0" i="1" lang="en-US" sz="2600" spc="-1" strike="noStrike">
                <a:solidFill>
                  <a:srgbClr val="cc0000"/>
                </a:solidFill>
                <a:latin typeface="Arial"/>
              </a:rPr>
              <a:t>capabilities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Weak perception of personal </a:t>
            </a:r>
            <a:r>
              <a:rPr b="0" i="1" lang="en-US" sz="2600" spc="-1" strike="noStrike">
                <a:solidFill>
                  <a:srgbClr val="cc0000"/>
                </a:solidFill>
                <a:latin typeface="Arial"/>
              </a:rPr>
              <a:t>significance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Weak perception of personal </a:t>
            </a:r>
            <a:r>
              <a:rPr b="0" i="1" lang="en-US" sz="2600" spc="-1" strike="noStrike">
                <a:solidFill>
                  <a:srgbClr val="cc0000"/>
                </a:solidFill>
                <a:latin typeface="Arial"/>
              </a:rPr>
              <a:t>influence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391520" y="5457960"/>
            <a:ext cx="1438200" cy="1095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adequate Intra-Personal Skills (Self-Assessment)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90560" y="233208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68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866e"/>
                </a:solidFill>
                <a:latin typeface="Arial"/>
              </a:rPr>
              <a:t>Inadequate inter-personal skills (dialogue, communication)</a:t>
            </a:r>
            <a:endParaRPr b="0" lang="en-US" sz="30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68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866e"/>
                </a:solidFill>
                <a:latin typeface="Arial"/>
              </a:rPr>
              <a:t>Inadequate systemic skills (responsibility, adaptability, etc.)</a:t>
            </a:r>
            <a:endParaRPr b="0" lang="en-US" sz="30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68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866e"/>
                </a:solidFill>
                <a:latin typeface="Arial"/>
              </a:rPr>
              <a:t>Inadequate judgmental skills (applying learned knowledge, wisdom)</a:t>
            </a:r>
            <a:endParaRPr b="0" lang="en-US" sz="3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ed Helplessness Define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1447920"/>
            <a:ext cx="7924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568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Learned helplessness results when a person expects that important events or outcomes in his/her life are independent of his or her own responding. [In other words, when the things that matter to a person are felt to be beyond that person’s control, then she/he becomes a victim of learned helplessness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14600" y="762120"/>
            <a:ext cx="64771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Three Broad Effects of Helplessness</a:t>
            </a:r>
            <a:br>
              <a:rPr sz="3400"/>
            </a:br>
            <a:endParaRPr b="1" lang="en-US" sz="3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297144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>
              <a:spcBef>
                <a:spcPts val="700"/>
              </a:spcBef>
              <a:buClr>
                <a:srgbClr val="6abcc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bcc2"/>
                </a:solidFill>
                <a:latin typeface="Arial"/>
              </a:rPr>
              <a:t>Reduces people’s motivation to control outcomes – becoming passive recipients. 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6abcc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bcc2"/>
                </a:solidFill>
                <a:latin typeface="Arial"/>
              </a:rPr>
              <a:t>Interferes with a person’s ability to learn that he/she can control outcomes.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6abcc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bcc2"/>
                </a:solidFill>
                <a:latin typeface="Arial"/>
              </a:rPr>
              <a:t>May produce levels of depression.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86600" y="1676520"/>
            <a:ext cx="1733400" cy="93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66"/>
                </a:solidFill>
                <a:latin typeface="Arial"/>
              </a:rPr>
              <a:t>Locus of Control</a:t>
            </a:r>
            <a:br>
              <a:rPr sz="4600"/>
            </a:br>
            <a:endParaRPr b="1" lang="en-US" sz="4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1523880"/>
            <a:ext cx="708660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hild’s perception of who is responsible for one’s success of failure in a particular achievement are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Internal vs. External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68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866e"/>
                </a:solidFill>
                <a:latin typeface="Arial"/>
              </a:rPr>
              <a:t>Internal – those who feel they control their reinforcements.</a:t>
            </a:r>
            <a:endParaRPr b="0" lang="en-US" sz="30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68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866e"/>
                </a:solidFill>
                <a:latin typeface="Arial"/>
              </a:rPr>
              <a:t>External – those who perceive their outcomes to be independent of their responses. </a:t>
            </a:r>
            <a:endParaRPr b="0" lang="en-US" sz="30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400800" y="3962520"/>
            <a:ext cx="213984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11430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ognitive Attribution Theories</a:t>
            </a: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90560" y="2666520"/>
            <a:ext cx="609588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568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866e"/>
                </a:solidFill>
                <a:latin typeface="Arial"/>
              </a:rPr>
              <a:t>Assumes that people’s </a:t>
            </a:r>
            <a:r>
              <a:rPr b="0" lang="en-US" sz="3200" spc="-1" strike="noStrike" u="sng">
                <a:solidFill>
                  <a:srgbClr val="56866e"/>
                </a:solidFill>
                <a:uFillTx/>
                <a:latin typeface="Arial"/>
              </a:rPr>
              <a:t>perceptions</a:t>
            </a:r>
            <a:r>
              <a:rPr b="0" lang="en-US" sz="3200" spc="-1" strike="noStrike">
                <a:solidFill>
                  <a:srgbClr val="56866e"/>
                </a:solidFill>
                <a:latin typeface="Arial"/>
              </a:rPr>
              <a:t> of the causes of their success and failures </a:t>
            </a:r>
            <a:r>
              <a:rPr b="0" lang="en-US" sz="3200" spc="-1" strike="noStrike" u="sng">
                <a:solidFill>
                  <a:srgbClr val="56866e"/>
                </a:solidFill>
                <a:uFillTx/>
                <a:latin typeface="Arial"/>
              </a:rPr>
              <a:t>influence</a:t>
            </a:r>
            <a:r>
              <a:rPr b="0" lang="en-US" sz="3200" spc="-1" strike="noStrike">
                <a:solidFill>
                  <a:srgbClr val="56866e"/>
                </a:solidFill>
                <a:latin typeface="Arial"/>
              </a:rPr>
              <a:t> the quality of their future achievement.</a:t>
            </a:r>
            <a:r>
              <a:rPr b="0" lang="en-US" sz="2800" spc="-1" strike="noStrike">
                <a:solidFill>
                  <a:srgbClr val="56866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90560" y="6858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Failure Avoiding </a:t>
            </a:r>
            <a:br>
              <a:rPr sz="4200"/>
            </a:br>
            <a:endParaRPr b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209680" y="17521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cribe successful to external factors (e.g. luck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cribe failure to inability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Motivated to Approach Success</a:t>
            </a:r>
            <a:br>
              <a:rPr sz="4600"/>
            </a:br>
            <a:endParaRPr b="1" lang="en-US" sz="4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90560" y="2437920"/>
            <a:ext cx="5562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Attribute success to a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Attribute failure to lack of effor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477120" y="480060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90920" y="457200"/>
            <a:ext cx="6248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3366"/>
                </a:solidFill>
                <a:latin typeface="Arial"/>
              </a:rPr>
              <a:t>Starlight Express</a:t>
            </a:r>
            <a:br>
              <a:rPr sz="5600"/>
            </a:br>
            <a:endParaRPr b="1" lang="en-US" sz="5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5" name="" descr="'Starlight Express (Broadway Musical),' Style a Movie Poster Print/Poster, Size: 17 inches x 11 inch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1600200"/>
            <a:ext cx="306072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90920" y="45720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Attribution Theory</a:t>
            </a:r>
            <a:br>
              <a:rPr sz="3800"/>
            </a:br>
            <a:endParaRPr b="1" lang="en-US" sz="3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90560" y="1371240"/>
            <a:ext cx="6095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Investigate person’s perceptions of causes</a:t>
            </a:r>
            <a:endParaRPr b="0" lang="en-US" sz="30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Factors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formational cause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istory of successes or failure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inforcement history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eedback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The allocation of responsibility influences subsequent behaviors</a:t>
            </a:r>
            <a:endParaRPr b="0" lang="en-US" sz="30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0"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391520" y="5457960"/>
            <a:ext cx="1438200" cy="1095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4240" y="3049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Factors Contributing to Negative Motivation</a:t>
            </a:r>
            <a:br>
              <a:rPr sz="3400"/>
            </a:br>
            <a:endParaRPr b="1" lang="en-US" sz="3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1752480"/>
            <a:ext cx="58672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 / Hom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Parent  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lassroom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90560" y="5335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ajor Perceived Causes for Achievement Performance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514600" y="2057040"/>
            <a:ext cx="4191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bility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ffor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Luck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ask Ease / Difficulty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553080" y="17524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6866e"/>
                </a:solidFill>
                <a:latin typeface="Arial"/>
              </a:rPr>
              <a:t>Understanding Your Explanatory Style to Your Behavior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1600200"/>
            <a:ext cx="655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Three dimensions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erman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ervas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ersonal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086600" y="2743200"/>
            <a:ext cx="1362240" cy="1362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14240" y="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244800"/>
            <a:ext cx="6172200" cy="42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3366"/>
                </a:solidFill>
                <a:latin typeface="Arial"/>
              </a:rPr>
              <a:t>OPTISISM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3366"/>
                </a:solidFill>
                <a:latin typeface="Arial"/>
              </a:rPr>
              <a:t>VS.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3366"/>
                </a:solidFill>
                <a:latin typeface="Arial"/>
              </a:rPr>
              <a:t>PESSIMISM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343400" y="3276720"/>
            <a:ext cx="261288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33360" y="380880"/>
            <a:ext cx="6476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6600"/>
                </a:solidFill>
                <a:latin typeface="Arial"/>
              </a:rPr>
              <a:t>OPTMISISM</a:t>
            </a:r>
            <a:br>
              <a:rPr sz="6200"/>
            </a:br>
            <a:endParaRPr b="1" lang="en-US" sz="6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505320" y="2057400"/>
            <a:ext cx="3733560" cy="3362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90920" y="533160"/>
            <a:ext cx="624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66"/>
                </a:solidFill>
                <a:latin typeface="Arial"/>
              </a:rPr>
              <a:t>People who are optimistic explain good events in terms of permanent causes.</a:t>
            </a:r>
            <a:br>
              <a:rPr sz="46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abcc2"/>
                </a:solidFill>
                <a:latin typeface="Arial"/>
              </a:rPr>
              <a:t>How you think about your concerns will either relieve or aggravate it.</a:t>
            </a:r>
            <a:endParaRPr b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391520" y="5457960"/>
            <a:ext cx="1438200" cy="1095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819520" y="348624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0560" y="68544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Pessimism produces a level of inertia rather than activity in the face of setbacks. Pessimism just like optimism is self-fulfilling. Pessimists don’t persist in the face of challenges, and therefore fail more frequently.</a:t>
            </a:r>
            <a:br>
              <a:rPr sz="3400"/>
            </a:br>
            <a:endParaRPr b="1" lang="en-US" sz="3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391520" y="5457960"/>
            <a:ext cx="1438200" cy="1095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14240" y="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259560"/>
            <a:ext cx="563868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cc0000"/>
                </a:solidFill>
                <a:latin typeface="Arial"/>
              </a:rPr>
              <a:t>RUMINATION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514600" y="2666880"/>
            <a:ext cx="1590840" cy="3638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810400" y="152388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19720" y="1523880"/>
            <a:ext cx="1617480" cy="2409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905120" y="685800"/>
            <a:ext cx="2219040" cy="3333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553080" y="685800"/>
            <a:ext cx="221940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38280" y="457200"/>
            <a:ext cx="6553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66"/>
                </a:solidFill>
                <a:latin typeface="Arial"/>
              </a:rPr>
              <a:t>Depression and a sense of helplessness occurs as a result of a lifelong series of habits and conscious thought.</a:t>
            </a:r>
            <a:br>
              <a:rPr sz="4600"/>
            </a:br>
            <a:endParaRPr b="1" lang="en-US" sz="4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200400" y="4800600"/>
            <a:ext cx="1343160" cy="1790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657600" y="4876920"/>
            <a:ext cx="3962520" cy="1676160"/>
          </a:xfrm>
          <a:prstGeom prst="rect">
            <a:avLst/>
          </a:prstGeom>
          <a:solidFill>
            <a:srgbClr val="6abc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4267080"/>
            <a:ext cx="914400" cy="381240"/>
          </a:xfrm>
          <a:prstGeom prst="rect">
            <a:avLst/>
          </a:prstGeom>
          <a:solidFill>
            <a:srgbClr val="6abc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71800" y="4267080"/>
            <a:ext cx="1066680" cy="381240"/>
          </a:xfrm>
          <a:prstGeom prst="rect">
            <a:avLst/>
          </a:prstGeom>
          <a:solidFill>
            <a:srgbClr val="6abc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14800" y="3200400"/>
            <a:ext cx="3124080" cy="380880"/>
          </a:xfrm>
          <a:prstGeom prst="rect">
            <a:avLst/>
          </a:prstGeom>
          <a:solidFill>
            <a:srgbClr val="7aba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1676520"/>
            <a:ext cx="5486400" cy="1066680"/>
          </a:xfrm>
          <a:prstGeom prst="rect">
            <a:avLst/>
          </a:prstGeom>
          <a:solidFill>
            <a:srgbClr val="7aba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1066680"/>
            <a:ext cx="1066680" cy="381240"/>
          </a:xfrm>
          <a:prstGeom prst="rect">
            <a:avLst/>
          </a:prstGeom>
          <a:solidFill>
            <a:srgbClr val="7aba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1143000"/>
            <a:ext cx="990720" cy="380880"/>
          </a:xfrm>
          <a:prstGeom prst="rect">
            <a:avLst/>
          </a:prstGeom>
          <a:solidFill>
            <a:srgbClr val="7aba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14240" y="30492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amifications of Success and Failur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1143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066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8120" y="1676520"/>
            <a:ext cx="5410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ustration                - Perceived Incompet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- Negative Responses from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32004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ralization Syndrom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1295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13716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191120" y="13716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248160" y="1371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4267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34320" y="4267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4876920"/>
            <a:ext cx="4648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External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Internal 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Perceived Compe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T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4343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4197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266720" y="44956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629040" y="4495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391520" y="5457960"/>
            <a:ext cx="1438200" cy="1095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590920" y="5335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bcc2"/>
                </a:solidFill>
                <a:latin typeface="Arial"/>
              </a:rPr>
              <a:t>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2438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9920" y="1371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866e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3809880"/>
            <a:ext cx="2895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SELF-ESTEEM (PERS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990720"/>
            <a:ext cx="2361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114800" y="1600200"/>
            <a:ext cx="1981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791320" y="1828800"/>
            <a:ext cx="7617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895480"/>
            <a:ext cx="19814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1143000"/>
            <a:ext cx="259092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172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abcc2"/>
                </a:solidFill>
                <a:latin typeface="Arial"/>
              </a:rPr>
              <a:t>The Three Magic Ingredients of Self-Esteem</a:t>
            </a: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362320"/>
            <a:ext cx="48769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568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866e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56866e"/>
                </a:solidFill>
                <a:latin typeface="Arial"/>
              </a:rPr>
              <a:t>Belong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68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866e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56866e"/>
                </a:solidFill>
                <a:latin typeface="Arial"/>
              </a:rPr>
              <a:t>Feeling compe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68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866e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56866e"/>
                </a:solidFill>
                <a:latin typeface="Arial"/>
              </a:rPr>
              <a:t>Feeling worthwhi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286000" y="1219320"/>
            <a:ext cx="1733400" cy="1238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362320" y="99072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The Three Major Ingredients to Successful Relationships</a:t>
            </a:r>
            <a:br>
              <a:rPr sz="4200"/>
            </a:b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752120" y="251424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00"/>
                </a:solidFill>
                <a:latin typeface="Arial"/>
              </a:rPr>
              <a:t>Dignity, Respect, Communication</a:t>
            </a:r>
            <a:endParaRPr b="0" lang="en-US" sz="3400" spc="-1" strike="noStrike">
              <a:solidFill>
                <a:srgbClr val="cc0000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- Democratic living is based on mutual respect.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09480" y="3581280"/>
            <a:ext cx="2584440" cy="2667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66"/>
                </a:solidFill>
                <a:latin typeface="Arial"/>
              </a:rPr>
              <a:t>The Difficulty of Being A Risk Taker</a:t>
            </a:r>
            <a:br>
              <a:rPr sz="4600"/>
            </a:br>
            <a:endParaRPr b="1" lang="en-US" sz="4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905120" y="2209680"/>
            <a:ext cx="7238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 Empty Glass vs. the Full Glas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657600" y="3962520"/>
            <a:ext cx="371484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6019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Arial"/>
              </a:rPr>
              <a:t>The only way to grow is to take risks and get involved.</a:t>
            </a:r>
            <a:br>
              <a:rPr sz="4200"/>
            </a:br>
            <a:endParaRPr b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7391520" y="5457960"/>
            <a:ext cx="1438200" cy="1095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666880" y="35812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37920" y="457200"/>
            <a:ext cx="6248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66"/>
                </a:solidFill>
                <a:latin typeface="Arial"/>
              </a:rPr>
              <a:t>Three Critical Beliefs</a:t>
            </a:r>
            <a:br>
              <a:rPr sz="4600"/>
            </a:br>
            <a:endParaRPr b="1" lang="en-US" sz="4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>
              <a:spcBef>
                <a:spcPts val="649"/>
              </a:spcBef>
              <a:buClr>
                <a:srgbClr val="cc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I am a capable person who can change if I choose.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1" marL="838080" indent="-380880">
              <a:spcBef>
                <a:spcPts val="649"/>
              </a:spcBef>
              <a:buClr>
                <a:srgbClr val="cc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My life is significant. (I must realize I’m important). 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1" marL="838080" indent="-380880">
              <a:spcBef>
                <a:spcPts val="649"/>
              </a:spcBef>
              <a:buClr>
                <a:srgbClr val="cc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I must discover that I have the power within.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114880" y="4267080"/>
            <a:ext cx="167184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ELPFUL BELIEF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Beliefs That Help Children Lead More Effective and Healthy Lives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90560" y="8380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66"/>
                </a:solidFill>
                <a:latin typeface="Arial"/>
              </a:rPr>
              <a:t>Belief 1: It is Important to Try</a:t>
            </a:r>
            <a:br>
              <a:rPr sz="4600"/>
            </a:br>
            <a:endParaRPr b="1" lang="en-US" sz="4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086280" y="19432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14600" y="380880"/>
            <a:ext cx="6477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0000"/>
                </a:solidFill>
                <a:latin typeface="Arial"/>
              </a:rPr>
              <a:t>...Only you have the power within you.</a:t>
            </a:r>
            <a:endParaRPr b="0" lang="en-US" sz="30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Arial"/>
              </a:rPr>
              <a:t>Just believe in yourself, the sea will part before you.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Arial"/>
              </a:rPr>
              <a:t>Stop the rain, turn the tide.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Arial"/>
              </a:rPr>
              <a:t>If only you use the power within you, 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Arial"/>
              </a:rPr>
              <a:t>You needn’t beg the world to turn around and help you.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Arial"/>
              </a:rPr>
              <a:t>If you draw on what you have within you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Arial"/>
              </a:rPr>
              <a:t>Somewhere deep inside…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I AM THE STARLIGHT</a:t>
            </a:r>
            <a:endParaRPr b="0" lang="en-US" sz="22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Starlight Express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315200" y="5486400"/>
            <a:ext cx="1362240" cy="990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172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Belief 2: Failure is an event, not a person.</a:t>
            </a:r>
            <a:br>
              <a:rPr sz="4400"/>
            </a:b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361960" y="2895120"/>
            <a:ext cx="647676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866e"/>
                </a:solidFill>
                <a:latin typeface="Arial"/>
              </a:rPr>
              <a:t>Mistakes are O.K., one can turn them into lesson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876920" y="4572000"/>
            <a:ext cx="1447560" cy="1817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8280" y="7617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 “</a:t>
            </a: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Nobody can make you feel inferior without your consent”.</a:t>
            </a:r>
            <a:br>
              <a:rPr sz="4200"/>
            </a:br>
            <a:endParaRPr b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14440" y="2971800"/>
            <a:ext cx="4800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– 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E. Roosevelt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819520" y="3070080"/>
            <a:ext cx="4362480" cy="3322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09320" y="609120"/>
            <a:ext cx="6782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Only when the mind is ready, the teacher appears.</a:t>
            </a:r>
            <a:br>
              <a:rPr sz="4400"/>
            </a:b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2666880"/>
            <a:ext cx="39625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6866e"/>
                </a:solidFill>
                <a:latin typeface="Arial"/>
              </a:rPr>
              <a:t>– </a:t>
            </a:r>
            <a:r>
              <a:rPr b="0" lang="en-US" sz="2600" spc="-1" strike="noStrike">
                <a:solidFill>
                  <a:srgbClr val="56866e"/>
                </a:solidFill>
                <a:latin typeface="Arial"/>
              </a:rPr>
              <a:t>Zen Ex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133720" y="2666880"/>
            <a:ext cx="1609560" cy="1609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0" y="457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6abcc2"/>
                </a:solidFill>
                <a:latin typeface="Arial"/>
              </a:rPr>
              <a:t>Belief 3: It is O.K. to Make Mistakes</a:t>
            </a:r>
            <a:br>
              <a:rPr sz="5200"/>
            </a:br>
            <a:endParaRPr b="1" lang="en-US" sz="5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419880" y="4133880"/>
            <a:ext cx="2724120" cy="27241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133720" y="2362320"/>
            <a:ext cx="3200400" cy="3058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Belief 4: I am responsible for my day.</a:t>
            </a:r>
            <a:br>
              <a:rPr sz="4800"/>
            </a:b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638680" y="228600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14600" y="76176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56866e"/>
                </a:solidFill>
                <a:latin typeface="Arial"/>
              </a:rPr>
              <a:t>Belief 5: I can handle it when things go wrong.</a:t>
            </a:r>
            <a:br>
              <a:rPr sz="5200"/>
            </a:br>
            <a:endParaRPr b="1" lang="en-US" sz="5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648320" y="3390840"/>
            <a:ext cx="2724120" cy="3467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6600"/>
                </a:solidFill>
                <a:latin typeface="Arial"/>
              </a:rPr>
              <a:t>Success is a journey…not a destination.</a:t>
            </a:r>
            <a:br>
              <a:rPr sz="5600"/>
            </a:br>
            <a:endParaRPr b="1" lang="en-US" sz="5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7391520" y="5457960"/>
            <a:ext cx="1438200" cy="1095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 rot="21138000">
            <a:off x="4572000" y="3352680"/>
            <a:ext cx="2095560" cy="3333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14240" y="685800"/>
            <a:ext cx="6248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Belief 6: Other people are O.K. and I am O.K.</a:t>
            </a:r>
            <a:br>
              <a:rPr sz="4800"/>
            </a:b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038480" y="2895480"/>
            <a:ext cx="2990880" cy="3333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43200" y="12193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cc0000"/>
                </a:solidFill>
                <a:latin typeface="Arial"/>
              </a:rPr>
              <a:t>Belief 7: I am capable.</a:t>
            </a:r>
            <a:br>
              <a:rPr sz="5600"/>
            </a:br>
            <a:endParaRPr b="1" lang="en-US" sz="5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572000" y="3141720"/>
            <a:ext cx="243828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90560" y="83772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4200" spc="-1" strike="noStrike">
                <a:solidFill>
                  <a:srgbClr val="003366"/>
                </a:solidFill>
                <a:latin typeface="Arial"/>
              </a:rPr>
              <a:t>Where a person’s treasure lies, the heart will be.”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590560" y="31237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A person’s uniqueness is his/her treasure</a:t>
            </a:r>
            <a:endParaRPr b="0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971800" y="228600"/>
            <a:ext cx="426708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7621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2286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31240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38862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47242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15238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3808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 hand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4343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 hand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5105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 hand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35053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 hand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743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 hand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19051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 hand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37920" y="76176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3366"/>
                </a:solidFill>
                <a:latin typeface="Arial"/>
              </a:rPr>
              <a:t>Empowerment </a:t>
            </a:r>
            <a:br>
              <a:rPr sz="5600"/>
            </a:br>
            <a:endParaRPr b="1" lang="en-US" sz="5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7391520" y="5457960"/>
            <a:ext cx="1438200" cy="1095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124080" y="3619440"/>
            <a:ext cx="2667240" cy="18669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6754680" y="2057400"/>
            <a:ext cx="191952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6866e"/>
                </a:solidFill>
                <a:latin typeface="Arial"/>
              </a:rPr>
              <a:t>What Children Need for Empowerment</a:t>
            </a:r>
            <a:br>
              <a:rPr sz="3800"/>
            </a:br>
            <a:endParaRPr b="1" lang="en-US" sz="3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1371600"/>
            <a:ext cx="59436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abc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bcc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nity…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affirmation of d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ams and a commitment can change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629400" y="1752480"/>
            <a:ext cx="2247840" cy="24768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7467480" y="1371600"/>
            <a:ext cx="118116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0920" y="457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Guidelines in Enhancing Motivation in Children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2666880" y="1676520"/>
            <a:ext cx="60962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Reduce social comparison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Increase involvement in learning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Focus on effort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Promote beliefs in competence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Increase chances for success</a:t>
            </a:r>
            <a:endParaRPr b="0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514600" y="53352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inciples for Enhancing Self Concept in Children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2057400" y="1752120"/>
            <a:ext cx="67816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628560" indent="-171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sten to and acknowledge children’s thoughts and feelings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lp children experience success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Give children reasonable control over their lives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emonstrate to children that they’re lovable and capable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“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odel” a health and positive self concept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178740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09320" y="45720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abcc2"/>
                </a:solidFill>
                <a:latin typeface="Arial"/>
              </a:rPr>
              <a:t>Increase Chances for Success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43200" y="1523880"/>
            <a:ext cx="6019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56866e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Provide skil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56866e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Use peer tu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56866e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Use cooperative team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56866e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Use individualized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56866e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Teach sel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56866e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6866e"/>
                </a:solidFill>
                <a:latin typeface="Arial"/>
              </a:rPr>
              <a:t>Teach and promote positive self 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The Man in the Glass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14600" y="837720"/>
            <a:ext cx="632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When you get what you want in your struggle for self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And the world makes you king for a day,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Just go to the mirror and look at yourself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And see what that man has to say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For it isn’t your father or mother or wife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Whose judgment upon you must pass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The fellow whose verdict counts most in your life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Is the one staring back from the glass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You may be like Jack Horner and chisel a plum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And think you’re a wonderful guy.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But the man in the glass says you’re only a bum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If you can’t look him straight in the eye.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You may fool the whole world down the pathway of years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And get pats on the back as you pass.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But your final reward will be heartache and tears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If you’ve cheated the man in the glass.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He’s the fellow to please – never mind all the rest,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For he’s with you clear to the end.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And you’ve passed your most dangerous, difficult test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If the man in the glass is your friend.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~ Author Unknown</a:t>
            </a: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6934320" y="1295280"/>
            <a:ext cx="1909800" cy="1981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971800" y="228600"/>
            <a:ext cx="426708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7621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2286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31240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38862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47242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15238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3808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11430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</a:t>
            </a:r>
            <a:r>
              <a:rPr b="0" lang="en-US" sz="2800" spc="-1" strike="noStrike">
                <a:solidFill>
                  <a:srgbClr val="000000"/>
                </a:solidFill>
                <a:latin typeface="Jolt"/>
              </a:rPr>
              <a:t>’t</a:t>
            </a: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 hand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43434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</a:t>
            </a:r>
            <a:r>
              <a:rPr b="0" lang="en-US" sz="2800" spc="-1" strike="noStrike">
                <a:solidFill>
                  <a:srgbClr val="000000"/>
                </a:solidFill>
                <a:latin typeface="Jolt"/>
              </a:rPr>
              <a:t>’t</a:t>
            </a: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 hand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5105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</a:t>
            </a:r>
            <a:r>
              <a:rPr b="0" lang="en-US" sz="2800" spc="-1" strike="noStrike">
                <a:solidFill>
                  <a:srgbClr val="000000"/>
                </a:solidFill>
                <a:latin typeface="Jolt"/>
              </a:rPr>
              <a:t>’t</a:t>
            </a: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 hand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35053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</a:t>
            </a:r>
            <a:r>
              <a:rPr b="0" lang="en-US" sz="2800" spc="-1" strike="noStrike">
                <a:solidFill>
                  <a:srgbClr val="000000"/>
                </a:solidFill>
                <a:latin typeface="Jolt"/>
              </a:rPr>
              <a:t>’t</a:t>
            </a: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 hand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2743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</a:t>
            </a:r>
            <a:r>
              <a:rPr b="0" lang="en-US" sz="2800" spc="-1" strike="noStrike">
                <a:solidFill>
                  <a:srgbClr val="000000"/>
                </a:solidFill>
                <a:latin typeface="Jolt"/>
              </a:rPr>
              <a:t>’t</a:t>
            </a: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 hand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19051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I can</a:t>
            </a:r>
            <a:r>
              <a:rPr b="0" lang="en-US" sz="2800" spc="-1" strike="noStrike">
                <a:solidFill>
                  <a:srgbClr val="000000"/>
                </a:solidFill>
                <a:latin typeface="Jolt"/>
              </a:rPr>
              <a:t>’t</a:t>
            </a:r>
            <a:r>
              <a:rPr b="0" lang="en-US" sz="2800" spc="-1" strike="noStrike">
                <a:solidFill>
                  <a:srgbClr val="000000"/>
                </a:solidFill>
                <a:latin typeface="Scribble"/>
              </a:rPr>
              <a:t> hand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762120"/>
            <a:ext cx="7010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6866e"/>
                </a:solidFill>
                <a:latin typeface="Arial"/>
              </a:rPr>
              <a:t> “</a:t>
            </a:r>
            <a:r>
              <a:rPr b="1" lang="en-US" sz="4200" spc="-1" strike="noStrike">
                <a:solidFill>
                  <a:srgbClr val="56866e"/>
                </a:solidFill>
                <a:latin typeface="Arial"/>
              </a:rPr>
              <a:t>The greatest evil that can befall man is that he should come to think evil of himself.”</a:t>
            </a:r>
            <a:br>
              <a:rPr sz="4200"/>
            </a:br>
            <a:endParaRPr b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3124080"/>
            <a:ext cx="30477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Goet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545160" y="3886200"/>
            <a:ext cx="2405160" cy="2703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6096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6600"/>
                </a:solidFill>
                <a:latin typeface="Arial"/>
              </a:rPr>
              <a:t>The Suitcase of Doom</a:t>
            </a:r>
            <a:br>
              <a:rPr sz="5600"/>
            </a:br>
            <a:endParaRPr b="1" lang="en-US" sz="5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3657600" cy="1886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324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66"/>
                </a:solidFill>
                <a:latin typeface="Arial"/>
              </a:rPr>
              <a:t> “</a:t>
            </a:r>
            <a:r>
              <a:rPr b="1" lang="en-US" sz="4600" spc="-1" strike="noStrike">
                <a:solidFill>
                  <a:srgbClr val="003366"/>
                </a:solidFill>
                <a:latin typeface="Arial"/>
              </a:rPr>
              <a:t>How to survive and not be a victim of failure.”</a:t>
            </a:r>
            <a:br>
              <a:rPr sz="4600"/>
            </a:br>
            <a:endParaRPr b="1" lang="en-US" sz="4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867280" y="2289240"/>
            <a:ext cx="299268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8:40:34Z</dcterms:created>
  <dc:creator>Adminassist2</dc:creator>
  <dc:description/>
  <dc:language>en-US</dc:language>
  <cp:lastModifiedBy>Faculty</cp:lastModifiedBy>
  <dcterms:modified xsi:type="dcterms:W3CDTF">2006-02-23T17:26:16Z</dcterms:modified>
  <cp:revision>137</cp:revision>
  <dc:subject/>
  <dc:title>Rainbow Crayons</dc:title>
</cp:coreProperties>
</file>