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700A-5F24-4859-9586-501CC4044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F9DD-6586-4B9B-A8EA-49D1DC2AE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85BD-CCBF-4E0A-A4BC-B8943256B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15B6-122A-430E-8003-1B6507F99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52531-BD0A-4C39-839A-8B5740C59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259E8-FB25-4AAF-836D-5A80A1B71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4CDEA-D90A-443E-87B0-F6B085587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ABE53-C31D-4955-95A5-152D5613F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9B30A-76A2-4D5C-8B58-94D6B9220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9589E-081B-4D33-B310-C3D0D8AA2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032FB-1684-4E47-AD88-2D7752DB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CCA9-AA82-471A-AC8C-4EC988DB3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EC378-7C6D-4A38-915F-41D57B4C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7EEB6-BBD6-43FA-A235-B08B76A8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F85DB-3DB1-458B-9B17-7A41130ED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50CD2-EEEB-4132-A630-6CDB7704C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05835-F244-4312-B42D-4EC3B083B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9DCA-BB4E-4597-B589-58573987A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F8ED-C6C5-4BEE-B4FA-86ADA3C1A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00D1-A216-4104-9B91-AD7D9EFA1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7373-5F0C-451A-A15E-E3B52543C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A264-2D66-4E75-A002-FF29E117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A6C9-F987-44F9-A820-D23B43B8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DF78-DDE6-4F57-9B90-34BAA966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4430E-91CC-4841-A4C4-763B89EA2EC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E4284-3B20-4CDB-B7B1-44E4EDC6245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Gender Role Developmen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Gender-Schema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ory suggests that childre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se gender as a schema to organize and guide their view of the worl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cquire gender-specific behaviors through social-learn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wn thought processes encourage gender develop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 combination of the social-learning and cognitive-developmental approach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Research on Gender Role Developmen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ago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one and Chur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emmer and Klieb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olombok and Fivus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adker and Sadk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dry and Cond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oldberg and Lewi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Research on Gender Differenc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fan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tudies have shown that most infant behaviors do not show gender differenc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Gender similarity is rule for most infant behavio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ctivity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ale infants have a greater activity level (more kicking, arm movements, fussing, and crying) than gir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ater in life boys are still seen as more activ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ggress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ne of the most consistently documented psychological gender differenc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ale children more aggressive than female children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Research on Gender Differences </a:t>
            </a:r>
            <a:br>
              <a:rPr sz="4400"/>
            </a:b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ontinue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ifferences hold true for the variety of aggressions, such as verbal and physical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ifferences tend to disappear later in life around the college yea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gender roles are the cause of gender differenc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girls realize that they should be passive and boys realize they must be aggressiv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prosocial or justified to be aggressive for male childre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ewards are give to boys who are aggressive and girls are punished for being aggressiv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Research on Gender Differences</a:t>
            </a:r>
            <a:br>
              <a:rPr sz="4400"/>
            </a:b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ontinue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ossibly explains why 80% of boys are classified as hyperactive compared to girls who are seen as passiv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nxie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tudies have shown that girls display more anxiety and fear than boy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iased interpretation of emo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oys’ anxiety is likely to be seen as ang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girls’ anxiety is likely to be seen as fe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cademic Abili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oys outperform girls in math and spatial task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Research on Gender Differences</a:t>
            </a:r>
            <a:br>
              <a:rPr sz="4400"/>
            </a:b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ontinue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7631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girls outperform boys n language arts (reading &amp; writing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xpectations of teachers and parents influence girls and boys academic performan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th and Spatial Abili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ultural beliefs and differential socialization of females and m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ore spatially complex environme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ore encouragement to play with spatially complex toy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anguage Abili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emales read earlier than m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emales continue to outperform males through high schoo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Research on Gender Differences</a:t>
            </a:r>
            <a:br>
              <a:rPr sz="4400"/>
            </a:b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ontinue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2280" y="1904760"/>
            <a:ext cx="88394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emales more encouraged to engage in passive activity (reading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arents work harder to engage girls in mutual social interac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lay and Friendship Patter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la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between 2 &amp;3 years of age, girls begin to prefer playing with other girls and boys with other boy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hildren reinforced by adults and possibly by other children for selecting same-gender playmates and gender-typed pla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hildren also prefer same-gender playmates because females and males have different play sty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Research on Gender Differences</a:t>
            </a:r>
            <a:br>
              <a:rPr sz="4400"/>
            </a:b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ontinue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riendship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ong-lasting friendships with peers do not occur until elementary schoo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-22392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Girl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pend more time conversing with each other, sharing secrets, and talking about mutual interests than boy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more likely to have a single best frien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-22392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oy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play in groups and tend not to have a single best frien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ctivities revolve around rule-governed gam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do not engage in long or intimate conversations with friend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Gender Role Development &amp; Androgyn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fini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combination of masculine and feminine psychological characteristics in an individu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Bem Sex Role Invento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est to measure androgyn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60 adjectiv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0 stereotypically feminin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0 stereotypically masculin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0 neutral, not gender typ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dividual classified as masculine, feminine, androgynous, or undifferentiat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Androgyny continue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dvantages to being Androgynou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ore independ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 pressure to conform to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ndrogynous people to well in all situations than nonandrogynous peop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igh self-esteem, important psychological characteristi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How do we develop our gender roles?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Sex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:                      The biological status of being male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     or fema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Gender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: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     The meanings that societies and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     individuals attach to being male or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     fema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Gender Role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:       The societal expectations for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     appropriate female and male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     behavio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Gender Identity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: How one psychologically perceives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               oneself as either male or fema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hen is Gender Identity acquired by children?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2362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y the age of 3, children know if they are male or fema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4191120"/>
            <a:ext cx="883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Gender Role Development begins . . .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5105520"/>
            <a:ext cx="883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t birth 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our Major Theori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27428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sychoanalytic Theor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reu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riks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cial-Learning Theo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gnitive-developmental Theo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ender-Schema Theo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sychoanalytic Theori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reu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ges 3 to 5, children feel sexually attracted to their other-sex pare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ges 5 to 6, children feel guilt ad anxiety over their attrac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nnection with same sex parent is crucial to long-term mental health and sex driv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riks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n extension of Freud’s Theor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ased on sexual differences between men and women to explain psychological differenc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ue to differing genital structures, males more intrusive and aggressive, and females more inclusive and passiv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ocial-Learning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mphasis on the power of the immediate situation and observable behavio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wo ways children learn their gender role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y receive rewards or punishments for specific gender role behavio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y watch and imitate the behavior of othe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elief that children imitate the same-sex pare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oes not believe that child feels guilt or anxiety over a supposed attraction to the other-sex pare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ocialization of children is one of the major causes of gender differences between boys and girls.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ocial-Learning Theory continue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hildren are encouraged to do the appropriate sex-typed activities by the following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aren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raditional roles feed to children in traditional famil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di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ortrays traditional roles for females and males; female is still placed in the traditional domestic ro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chool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ransmit the information of gender role stereotypes to childre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ognitive-Developmental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hildren’s own cognitions are primarily responsible for gender role developme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Kohlber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hildren identify with and imitate same-sex parents, and others of their same gend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fter children label themselves as male or female,  the development of gender related interests and behavior quickly follow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tage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085760" indent="-217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Gender Identity: children develop a concept of what sex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 category they belong 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085760" indent="-217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Gender Consistency:  children realize that their gender and that of other do not change with age, dress, or behavio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ognitive-Developmental Theory continue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ppropriate female or male activities identified and imitated, once gender consistency establish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xternal world rewards or punishes them for their choic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0T17:31:36Z</dcterms:created>
  <dc:creator>Enter your name here</dc:creator>
  <dc:description/>
  <dc:language>en-US</dc:language>
  <cp:lastModifiedBy>ahfine</cp:lastModifiedBy>
  <cp:lastPrinted>1999-04-12T20:15:02Z</cp:lastPrinted>
  <dcterms:modified xsi:type="dcterms:W3CDTF">2006-01-17T00:47:17Z</dcterms:modified>
  <cp:revision>31</cp:revision>
  <dc:subject/>
  <dc:title>Gender Role Development</dc:title>
</cp:coreProperties>
</file>