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3681-484F-441C-9807-6EBE9E26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BA2-F668-4305-9C3A-ACC14992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8EA4D-355C-4A59-8039-EA90F564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35873-4844-4DAA-B4B7-C7E76FA8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31F6F-7B2A-4E4A-99B3-E0CC9454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78C70-0955-439B-B62F-4C670753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A7DB8-49FD-4D28-BCCB-0C8AADEB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DB79A-F337-4FD5-8C7E-C07B0E38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154EA-E7DA-4AFC-814B-90A0A7A2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74550-2108-4B30-97B8-02F04F82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881F1-CFA7-4A83-BB6F-568AC28F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D5BF7-EDEE-4350-9586-8F3A78EB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299-F0BE-401D-BA09-CDE9D338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D10A6-2F1C-4013-AFDF-6883830C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4AC06-965F-4CA7-9A00-22E0B61F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4392C-DA1D-49FA-893D-9A47D5AA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569F8-AEA5-443A-8115-FC919C5E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21151-BE3D-4098-9B64-9A80906D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4FA4B-66D4-4AC7-8DF2-A07F9910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7DB15-3DDA-483D-BA8A-2715BAAE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04D93-BD6E-4C44-9FA6-AAA8DE4C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70716-2263-4A0D-AE11-14B0A700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4074D-CDB3-4CFB-A96E-ADB30ABE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948-2F26-4FE3-A0B9-90462C20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FA784-6D85-4232-A7CD-09B13783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0C330-936E-4CED-936E-21234E5F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E4CCC-EDDA-4E6B-9CF8-7D7E2A32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3548B-5621-45A7-8CF3-7C21DE42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9AD88-49EC-4A83-965C-BA0683B6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4527C-6E49-4B76-B467-D148170C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D408F-D5F4-4F1D-9153-7B28AEB5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8259C-B242-43CD-81B2-8864CE54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D09DC-D649-4940-94F6-9BDE4B39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C0981-FEBF-4D5C-AA4F-015BB3B9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4C79-71AA-47D7-B7F2-6C4EBACD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1468B-DF25-4806-BFEC-9E3FBCA8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6D502-A24A-462F-BD3F-07051394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A9556-6D6F-438F-B419-218F29DE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F6ED-FFE3-4805-9215-ABAFCE03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5797-C7E4-4105-AE09-52B9FB14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66D7-4DDE-45AB-A871-5B64205A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A5A7-DAE0-483E-A608-5F2B70D9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5668-BE26-481D-89B9-CDA5BCAF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3404-3B5D-4E67-9DE7-4D3229BD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AFA-CD7C-4F73-AB4C-0693457A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A984-F90B-42EE-8DB1-AE6894FE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BC0F-3A15-4DBB-ADE1-FEC97E6C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4634-3873-4E1A-A18E-B92AB3FE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ADFD-12C7-49A3-993D-D99A4792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5B57-262A-40DA-BE43-38A5FC5D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C3D46-4677-41C1-957E-8794BE29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13324-FF6B-4159-A4FD-C42E863B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46F57-CEBE-44FE-8602-618F8C79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07758-E4BC-41A3-8C0C-6FF956D5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0BC92-00B7-46B5-9659-736524B4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F55-26CE-4631-A269-1C344FBB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0F69D-5F49-4DA3-99D0-D826174A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02B6E-80C5-4A9D-A69C-E1A52F6C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D37AE-7381-4A4F-AB22-F588998B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952CF-7351-4F0C-A5C8-FD24BA21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6F1CF-F56F-456E-A844-1574B3F7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51AD8-8C66-47FF-AF11-3D65359E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50F4D-CEE1-41F9-B637-C58D5C6F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2CD1E-022B-47AD-B5AF-B3B4F16F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A34A4-40AD-474E-A663-71B4AF6A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CC7B9-F505-432E-85CB-55699EC2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306-14D1-4741-B198-5C8DF3A3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CC22E-3BC1-41A5-B24B-0853E1C1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AABA2-613F-449D-AE64-7396C54C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DFBF3-84A2-41D3-A2C8-0E9281F2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3F287-B117-4D95-A81E-967770B2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89D04-18C3-4DFF-973D-44A2A60A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A6E14-722E-4893-91ED-B1FA5C81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416AC-B8FB-4537-BE8C-CEA0B24C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B749B-B309-4A76-9653-CD7F236D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7B13B-D814-44A4-9869-A8971CB6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DAFE8-E318-42DB-A3FE-58237C59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DE1-8A7C-4E7B-80F4-D8257825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BC3BC-5756-493E-8EEC-6420FDEF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C9295-2EEB-437E-8259-02ECC4BB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4E215-0C47-4630-BE37-18CBD600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CAA22-A47A-4ECB-BAB8-B4E58741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820A6-887F-464B-86C5-498C01DF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37980-3BCA-4390-957E-87C93808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CEE00-95E4-473B-AD85-6D3B5B60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AF875-0737-497A-AB66-7ABDFD03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5F4E2-4060-4F19-A029-DCA9A69B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8D54F-1A44-4310-A3FC-3BB0F6CB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3F0-FCF7-4D0E-BAF2-28F98BA6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0FD73-92EB-45E0-8191-BC81E18F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40EB7-1466-4BEA-A4BC-E72D5A2E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A6F41-4A11-4BE8-A4CE-A0A10D99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F6B6F-D3AD-47DC-8A92-7F5CA473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F1362-7C9D-4057-86F0-093655F1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2BAAF-3403-4455-A55F-48123C5C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5FB27-9D19-4BBC-A3AC-AACB1D4C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2A26D-6D27-4464-94B1-2801D4DA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4D9A0-6933-487B-AAE2-965FACEB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2A22D-D68A-4381-BFD5-7AF99170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12D-3AAE-42D3-B642-3C12DB03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78759-C6E6-40D4-9AFB-CE2F3FDC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7271E-DA87-45B9-AA7D-EAE76462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116ED-2D70-48B3-B4B6-EE51C54C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1E243-2CFB-462E-B1FC-10F23660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6114D-449D-4F60-B029-71A003DB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AD623-B0AC-442F-95B1-ADC8DABA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F94BB-130A-47A2-82D3-6F06E60F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F3308-43D6-4D64-BC43-E304FB16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0339E-3A74-442C-B231-2353E93B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C7E40-8007-4FB3-8673-991BC488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066-0DD4-4D2A-8526-EEA2E5D0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33411-F97C-4501-9E20-8E3758D0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2B7C8-BAEE-4575-A869-6027F5B6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EF7EB-608E-43B3-BD9E-855E06E5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91D84-F727-41A2-84EF-08627D6C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8CB47-6B1C-42E8-8E0B-E6764944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558C0-B753-4060-B182-3EFE03BD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C5B88-DEF2-4964-8F67-7FA1E8F5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8DD30-54A3-4B39-AB4A-D630D5F4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A629A-B166-4F06-A60B-80180C64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B29D8-48D4-4746-B68D-CBE345C0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7A6A-71F6-439F-8D3A-619B4104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15AC5-C347-459C-8B86-664CA2DB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5A57A-7696-4A35-808B-E378FE08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C96FD-78C3-430F-8407-924B9455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7D9FF-F11D-476C-8A01-9B1587B4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71C13-99DD-4569-AE9B-5AF75860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CA1E4-D834-4CA5-986D-46C9DC8C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0FE56-762D-4BBB-9739-89CF40DA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855F5-5073-4A0D-92A4-E84F837C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5BB73-8810-45C1-A030-1D7F7465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8CA2A-1037-4E6C-9359-C69ADBA1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F8DB-9915-4C5F-83DA-D10A768A30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F3AC-1FE3-401E-87EB-FE604951AA72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dt" idx="3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3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3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688F-AB81-4A90-80E3-E7D075056FD7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B36B-3FCB-4431-9B0C-D019F44A82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AFDD-412A-4502-A59E-41CDB309ED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4A6B-0E14-4CD3-85B1-B59807D8AAB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45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2609-C002-4CDF-AD23-1E33357F4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26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30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EE3F-546B-40B1-AD2E-18045F27C96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7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7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3E3C-45B1-41F0-865E-5D9EE7660B8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20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79E1-B4FC-4198-AE67-5D56D2C22B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65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3529-D997-42B8-9F2D-A5347F2599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viro"/>
              </a:rPr>
              <a:t>Child Abuse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viro"/>
              </a:rPr>
              <a:t>Negl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Enviro"/>
              </a:rPr>
              <a:t>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17680" y="1714680"/>
            <a:ext cx="7788240" cy="46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Boys are at a greater risk of serious injury and of emotional neglect than girls. 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(</a:t>
            </a:r>
            <a:r>
              <a:rPr b="0" i="1" lang="en-US" sz="1000" spc="-1" strike="noStrike">
                <a:solidFill>
                  <a:srgbClr val="ffffcc"/>
                </a:solidFill>
                <a:latin typeface="Maiandra GD"/>
              </a:rPr>
              <a:t>Child Abuse Statistics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Girls are sexually about three times more often the boys. 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(</a:t>
            </a:r>
            <a:r>
              <a:rPr b="0" i="1" lang="en-US" sz="1000" spc="-1" strike="noStrike">
                <a:solidFill>
                  <a:srgbClr val="ffffcc"/>
                </a:solidFill>
                <a:latin typeface="Maiandra GD"/>
              </a:rPr>
              <a:t>Child Abuse Statistics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Children with disabilities are 4 to 10 times more vulnerable to sexual abuse than their non-disabled peers. 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(</a:t>
            </a:r>
            <a:r>
              <a:rPr b="0" i="1" lang="en-US" sz="1000" spc="-1" strike="noStrike">
                <a:solidFill>
                  <a:srgbClr val="ffffcc"/>
                </a:solidFill>
                <a:latin typeface="Maiandra GD"/>
              </a:rPr>
              <a:t>Child Abuse Statistics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The younger victims of sexual abuse are most likely to be black, while the older victims were mostly Asian. 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(</a:t>
            </a:r>
            <a:r>
              <a:rPr b="0" i="1" lang="en-US" sz="1000" spc="-1" strike="noStrike">
                <a:solidFill>
                  <a:srgbClr val="ffffcc"/>
                </a:solidFill>
                <a:latin typeface="Maiandra GD"/>
              </a:rPr>
              <a:t>Sexual Abuse of Childr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In 2000 younger children represented most of the maltreated victims. </a:t>
            </a:r>
            <a:r>
              <a:rPr b="0" lang="en-US" sz="1200" spc="-1" strike="noStrike">
                <a:solidFill>
                  <a:srgbClr val="ffffcc"/>
                </a:solidFill>
                <a:latin typeface="Maiandra GD"/>
              </a:rPr>
              <a:t>(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Rei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Most than half of maltreatment victims were white in 2000. 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(Rein)</a:t>
            </a: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Statistics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30,001 victims in 44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ypes of Abu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tional:  5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:  1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 2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ge Group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-3:  2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7:  27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11:  21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and over:  22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der of Victi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:  4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:  5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tistics continued . .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Angeles County Statistics (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9,436 victim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ypes of Abu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:  12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 36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tional:  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ge Group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-4:  2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12:  47.5%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and over:  23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der of Victim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:  4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:  51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457360" cy="3657600"/>
          </a:xfrm>
          <a:prstGeom prst="rect">
            <a:avLst/>
          </a:prstGeom>
          <a:ln w="57240">
            <a:solidFill>
              <a:srgbClr val="666699"/>
            </a:solidFill>
            <a:miter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Maiandra GD"/>
              </a:rPr>
              <a:t>Causes of Child Maltreat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Unemplo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Spous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Caring for children with dis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Toilet trai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Cultural customs</a:t>
            </a:r>
            <a:r>
              <a:rPr b="0" lang="en-US" sz="2000" spc="-1" strike="noStrike">
                <a:solidFill>
                  <a:srgbClr val="000000"/>
                </a:solidFill>
                <a:latin typeface="Serifa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sychological Impact of Abu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self-este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strust/F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xie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or Interpersonal Skil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ability to experience plea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ability to experience and express feelin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ggression/Impulsiv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lf-Blame/Guil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elings of loss/rej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lpless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rapmen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velopment of defense mechanis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maged goods syndrome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ild feels physically, emotionally, and socially damag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ck of self-mastery and contro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hild feels helpless as a result of the violation of his/her body and privac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457200" y="177120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ger/Hosti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fu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mbivalent feelings toward the perpetra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mbivalent feelings toward the non-offending par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ilure to complete developmental tas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ars concerning the reactions of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ild is concerned about the responses of siblings, friends, et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45080" y="17524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appropriate boy-girl relationships / Acting-o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hild mistrusts others the same sex as the perpetrator, displays inappropriate sexualized behaviors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havioral extrem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lf-destructive behavi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0880" y="60948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sychological Impact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Maiandra GD"/>
              </a:rPr>
              <a:t>Cross-culture definition of </a:t>
            </a:r>
            <a:br>
              <a:rPr sz="3200"/>
            </a:br>
            <a:r>
              <a:rPr b="1" lang="en-US" sz="3200" spc="-1" strike="noStrike">
                <a:solidFill>
                  <a:srgbClr val="666699"/>
                </a:solidFill>
                <a:latin typeface="Maiandra GD"/>
              </a:rPr>
              <a:t>Child Maltreatment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1676520" y="159984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rifa BT"/>
              </a:rPr>
              <a:t>Defining child maltreatment cross culturally is difficult because of cultural traditions and custom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rifa BT"/>
              </a:rPr>
              <a:t>The Convention the Rights of  the  Child  was adopted by the UN in 1989, setting the rights of children and establishing minimum standards for the protection of  childr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32080" y="2476440"/>
            <a:ext cx="694980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rifa BT"/>
              </a:rPr>
              <a:t>France and England both have define positions on child maltreatment and have made strong effort to preven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rifa BT"/>
              </a:rPr>
              <a:t>African and Latin American nations position vary regarding the subject of child maltreatment because of the diverse cultures in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rifa BT"/>
              </a:rPr>
              <a:t>China has a very Western view of children, however the Chinese leaders believe that it is the states responsibility to provide child c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205640" y="1201680"/>
            <a:ext cx="557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Maiandra GD"/>
              </a:rPr>
              <a:t>Overview of Global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5257800" y="380880"/>
            <a:ext cx="2133720" cy="14907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1514520" cy="16002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3"/>
          <a:stretch/>
        </p:blipFill>
        <p:spPr>
          <a:xfrm>
            <a:off x="228600" y="190512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4"/>
          <a:stretch/>
        </p:blipFill>
        <p:spPr>
          <a:xfrm>
            <a:off x="3200400" y="83808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5"/>
          <a:stretch/>
        </p:blipFill>
        <p:spPr>
          <a:xfrm>
            <a:off x="7772400" y="68580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 flipV="1">
            <a:off x="838080" y="144792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895480" y="83808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4800600" y="9907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391520" y="1371600"/>
            <a:ext cx="3808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676520" y="1905120"/>
            <a:ext cx="15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Child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258360" y="213372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Ab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094720" y="2057400"/>
            <a:ext cx="26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Preven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676520" y="3048120"/>
            <a:ext cx="6629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Reach out, anything you do to support kids and parents ca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help relieve the stress that often leads to abuse and negl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Report any suspected child abu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Educate yourself and others and help prevent chil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maltreatment in your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Available programs and service in communities specifically to help strengthen families, create positive and non abusive h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19320" y="1143000"/>
            <a:ext cx="71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Remember the risk factors. Child abuse and neglect occur in all segments of our society but the risk factors are greater in families where par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676520" y="2590920"/>
            <a:ext cx="662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Maiandra GD"/>
              </a:rPr>
              <a:t>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May have</a:t>
            </a:r>
            <a:r>
              <a:rPr b="0" lang="en-US" sz="2000" spc="-1" strike="noStrike">
                <a:solidFill>
                  <a:srgbClr val="99ccff"/>
                </a:solidFill>
                <a:latin typeface="Maiandra GD"/>
              </a:rPr>
              <a:t>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economic, housing or person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Isolation from family or commu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Have difficulty dealing with physical or men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    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health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Abuse of alcohol or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Appear to be uninterested in the well being of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    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child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5105520" y="4648320"/>
            <a:ext cx="2895480" cy="175572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1904760" cy="2722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03" name=""/>
          <p:cNvSpPr/>
          <p:nvPr/>
        </p:nvSpPr>
        <p:spPr>
          <a:xfrm>
            <a:off x="3781440" y="172548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nviro"/>
              </a:rPr>
              <a:t>Child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266688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nviro"/>
              </a:rPr>
              <a:t>Every human being below the age of 18 years unless under the law applicable to the child majority is attained earli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520" y="106668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rifa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Recognize the warning signs, the behavior of a child may signal abuse or neglect long before any change in physical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5334120" y="762120"/>
            <a:ext cx="3124080" cy="197784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584" name=""/>
          <p:cNvSpPr/>
          <p:nvPr/>
        </p:nvSpPr>
        <p:spPr>
          <a:xfrm>
            <a:off x="1660680" y="3292560"/>
            <a:ext cx="5425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355760" y="3216240"/>
            <a:ext cx="565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219320" y="3048120"/>
            <a:ext cx="60354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Nervousness around ad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Aggression towards adults and other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Unnatural interest in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Frequent or unexpected inju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Low self est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Poor 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Dramatic change in personality o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Inability to concentrate for long periods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apy groups furnish children with opportunities for improving their social skills, developing satisfactory interpersonal relationships, and increasing self-awareness and empathy.  Group therapy is most effective with preadolescents and adolesc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Play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play therapy provides children with a safe environment and allows them to use familiar play materials to express feelings.  Play therapy is particularly beneficial for preschool- and school-aged children who are unable to verbalize their feelings or who have severe psychological or behavior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reatment continued . .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therapy gives children the individual attention and support they may need to identify and resolve psychological issues related to abus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reasing tru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reasing the ability to delay gratifi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hancing self-este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proving the ability to verbalize feelings and conflic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reasing the capacity for pleasur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reaking the Cycle . . .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 society can do to help and protect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mmunity Child Advoc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more about child ab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public forums to educate your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 in, or organize a child advocacy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e that all types of youth services are providing thorough background checks on employees and volunt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abuse prevention curricula in all schools, beginning in the Kindergarte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where and how to check for sex offender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and encourage others to report, suspected child abuse to local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reaking the Cycle continued. .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nancial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ate time or money to non-profit advocacy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fund raisers for non-profit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hild Protection Legisl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State and Feder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ct the Alaska Resolution in your state, to reject the controversial research on the impact of child ab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up to date on pending 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your legislators and let them know how you want them to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ad the word to friends, and get more people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133360" y="1828440"/>
            <a:ext cx="647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Kristen ITC"/>
              </a:rPr>
              <a:t>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3276360" y="2895480"/>
            <a:ext cx="46479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abel Bk BT"/>
              </a:rPr>
              <a:t>Child abuse programs an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abel Bk BT"/>
              </a:rPr>
              <a:t>Education through the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Film and tel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Newspapers and Magaz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Enviro"/>
              </a:rPr>
              <a:t>What is child ab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nviro"/>
              </a:rPr>
              <a:t>The bad treatment of a child by a parent, caretaker, some one living in their home or someone who works with or around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nviro"/>
              </a:rPr>
              <a:t>Abuse of a child is anything that causes injury or puts the child in danger of physical inju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finition of Child Abu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abuse has occurred when one or more of the four types of abuse have been identified.  The four types of abuse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x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b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ycholog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finition of child abuse varies from state to state, but the main concepts of each definition remain consist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243828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viro"/>
              </a:rPr>
              <a:t>Physical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nvi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viro"/>
              </a:rPr>
              <a:t>The infliction of physical harm from the interaction or lack of interaction of a child by a person in a position of autho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" y="4038480"/>
            <a:ext cx="43592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viro"/>
              </a:rPr>
              <a:t>Sexual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nvi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viro"/>
              </a:rPr>
              <a:t>The involvement of sexual activity of a child and an adult that he or she may not fully comprehend, may not be able to give their consent, or violates the laws or taboos of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76920" y="2438280"/>
            <a:ext cx="42670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viro"/>
              </a:rPr>
              <a:t>Emotional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nvi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viro"/>
              </a:rPr>
              <a:t>The failure to provide a child developmentally appropriate, supportive</a:t>
            </a:r>
            <a:r>
              <a:rPr b="0" lang="en-US" sz="2400" spc="-1" strike="noStrike">
                <a:solidFill>
                  <a:srgbClr val="000000"/>
                </a:solidFill>
                <a:latin typeface="Envir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Enviro"/>
              </a:rPr>
              <a:t>environment cognitively, mentally or emotion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937040" y="4005360"/>
            <a:ext cx="4206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viro"/>
              </a:rPr>
              <a:t>Neg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nvi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viro"/>
              </a:rPr>
              <a:t>Depriving a child of their basic needs. This including the failure to provide for the development of the child in all spheres: health, education, nutrition, emotional development, shelter, and safe living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ypes of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bu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:  Refers to intentional behavior directed toward the child by the parents of caretaker to cause pain, injury, or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ual:  Refers to any sexual activity that involves exposure of genitalia, fondling, intercourse, oral sex, or porn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:  Refers to the a nonphysical and non-sexual abuse of child which may include a steady diet of putdowns, humiliation, labeling, name calling, scapegoating, and l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ypes of Abuse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. . 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23047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logical:  Refers to the disregard for the psychological needs of a child which may include demanding excessive responsibility, seductive behavior, ignoring, fear-inducing techniques, unrealistic expectations, and extreme inconsistenc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our types of abuse are interrelated, meaning that one type of abuse my cause another such as psychologic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Enviro"/>
              </a:rPr>
              <a:t>Examples of Child Abuse: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76240" y="2142720"/>
            <a:ext cx="690408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hysical Abuse-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hitting, shaking, burns, human bites, strangu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exual Abuse-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fondling, intercourse, incest, rape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prostitution or pornograph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motional Abuse-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belittling, constant disapproval, and teas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Neglect-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Failure to provide food, shelter, clothing, abandonment, inadequate supervision, and the allowance of drug or alcohol to be used by the child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Enviro"/>
              </a:rPr>
              <a:t>Child Abuse in the United Stat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57200" y="2752560"/>
          <a:ext cx="4038480" cy="22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52560"/>
                    <a:ext cx="403848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1900080" y="2054160"/>
          <a:ext cx="5389560" cy="393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0080" y="2054160"/>
                    <a:ext cx="538956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"/>
          <p:cNvSpPr/>
          <p:nvPr/>
        </p:nvSpPr>
        <p:spPr>
          <a:xfrm>
            <a:off x="6077520" y="6273720"/>
            <a:ext cx="22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Georgia"/>
              </a:rPr>
              <a:t>Child Abuse and Neglect</a:t>
            </a:r>
            <a:r>
              <a:rPr b="0" lang="en-US" sz="1000" spc="-1" strike="noStrike">
                <a:solidFill>
                  <a:srgbClr val="ffffcc"/>
                </a:solidFill>
                <a:latin typeface="Georgia"/>
              </a:rPr>
              <a:t>, Rei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4:04:06Z</dcterms:created>
  <dc:creator>brandy</dc:creator>
  <dc:description/>
  <dc:language>en-US</dc:language>
  <cp:lastModifiedBy>ahfine</cp:lastModifiedBy>
  <dcterms:modified xsi:type="dcterms:W3CDTF">2006-01-11T08:25:25Z</dcterms:modified>
  <cp:revision>10</cp:revision>
  <dc:subject/>
  <dc:title>Child Abuse 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