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5.gif" ContentType="image/gif"/>
  <Override PartName="/ppt/media/image1.jpeg" ContentType="image/jpeg"/>
  <Override PartName="/ppt/media/image2.jpeg" ContentType="image/jpeg"/>
  <Override PartName="/ppt/media/image6.gif" ContentType="image/gif"/>
  <Override PartName="/ppt/media/image14.wmf" ContentType="image/x-wmf"/>
  <Override PartName="/ppt/media/image3.gif" ContentType="image/gif"/>
  <Override PartName="/ppt/media/image8.gif" ContentType="image/gif"/>
  <Override PartName="/ppt/media/image13.gif" ContentType="image/gif"/>
  <Override PartName="/ppt/media/image5.gif" ContentType="image/gif"/>
  <Override PartName="/ppt/media/image7.wmf" ContentType="image/x-wmf"/>
  <Override PartName="/ppt/media/image11.jpeg" ContentType="image/jpeg"/>
  <Override PartName="/ppt/media/image12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EDD-A19A-4FA3-A58B-DEA3BCA7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6629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4401360"/>
            <a:ext cx="6629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592-424F-4BC2-A78B-A2534D11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400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397-7800-45BA-85DB-3F6CD953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8760" y="251460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0120" y="251460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440136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8760" y="440136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0120" y="440136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998-6419-4AEE-A112-DF0E2487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6F5D-EB4A-42C8-8E06-96B5DA06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4BD9-F285-4258-8EE6-28C0142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7832-4E74-43A5-BD13-CBBC2B25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F47B-FDBE-4F64-BD8B-69729B13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723-7493-4733-9DDE-C1EB9DC7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133F-E963-4CC9-A51B-956473A1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04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4ECA-80AA-4BBF-8E76-0DB019E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04D-9AD8-4562-810F-2E86C174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400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1065-FDC9-4621-828F-3AC0F07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040" y="4401360"/>
            <a:ext cx="6629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8580-CA95-4DC8-8E98-67A6BB3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6629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040" y="4401360"/>
            <a:ext cx="6629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E397-2D9C-4295-B24E-E876912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04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400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CCB5-CC34-4EB0-99C2-A24BDB9C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8760" y="251460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0120" y="251460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040" y="440136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8760" y="440136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0120" y="4401360"/>
            <a:ext cx="21344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8BB-F030-4944-BD98-40854558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029-43F6-4912-8EA0-2866F597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E26-0465-48CE-A0E2-BAECC2C5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00E-1548-4FA0-80E1-551436AC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B4E-670F-4F3A-97D1-5EC6B5A4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1B3-74DA-404A-918E-02CEFAE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4000" y="440136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8C7-DD2C-4843-984D-C5EBECD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2514600"/>
            <a:ext cx="323496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4401360"/>
            <a:ext cx="6629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A1A-440F-4CBD-8CFF-C23F86F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251460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08FD-E414-43D5-A78B-EDEF5649D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922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CE3-7050-44B1-80F0-5D8D7206F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bbe0e3"/>
                </a:solidFill>
                <a:latin typeface="Arial"/>
              </a:rPr>
              <a:t>Why Children Play Sports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42670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r. Aubrey H. F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99ff"/>
                </a:solidFill>
                <a:latin typeface="Arial"/>
              </a:rPr>
              <a:t>Eight Essential Lessons</a:t>
            </a:r>
            <a:endParaRPr b="1" lang="en-US" sz="4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sson 1 – Learning to cope with fail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sson 2 – Developing a sense of commit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sson 3 – Handling Fe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sson 4 – Handling Frust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495440" cy="1893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371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99ff"/>
                </a:solidFill>
                <a:latin typeface="Arial"/>
              </a:rPr>
              <a:t>Eight Essential Lessons – con’t</a:t>
            </a:r>
            <a:endParaRPr b="1" lang="en-US" sz="35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Lesson 5 – Being part of the team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8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Lesson 6 – Handling embarrassmen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8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Lesson 7 – Handling competi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8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Lesson 8 – Handling adjustment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Influential Words and Beliefs in Sports: A Formula for Longevity &amp; Everyday Living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720" y="1371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Influential Words</a:t>
            </a:r>
            <a:endParaRPr b="1" lang="en-US" sz="4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Five most important words – Surround yourself with good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Four most important words – Take care of yourself or I can handle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ree most important words – Class, character, conce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wo most important words – Thank you or I c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Single most important word - w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8129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Influential Words – con’t</a:t>
            </a:r>
            <a:endParaRPr b="1" lang="en-US" sz="4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85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be0e3"/>
                </a:solidFill>
                <a:latin typeface="Arial"/>
              </a:rPr>
              <a:t>Least important word – 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85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be0e3"/>
                </a:solidFill>
                <a:latin typeface="Arial"/>
              </a:rPr>
              <a:t>Two worst words – I qui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85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be0e3"/>
                </a:solidFill>
                <a:latin typeface="Arial"/>
              </a:rPr>
              <a:t>Three worst words – I don’t car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85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be0e3"/>
                </a:solidFill>
                <a:latin typeface="Arial"/>
              </a:rPr>
              <a:t>Four worst words – Everybody is doing i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850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be0e3"/>
                </a:solidFill>
                <a:latin typeface="Arial"/>
              </a:rPr>
              <a:t>Five worst words – Let somebody else do i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685800" y="-2286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be0e3"/>
                </a:solidFill>
                <a:latin typeface="Arial"/>
              </a:rPr>
              <a:t>Theories Explaining Why Children Play in Sports</a:t>
            </a:r>
            <a:endParaRPr b="1" lang="en-US" sz="4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iagetian The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lay as an area in which children can refine their developing skil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ocial Learning The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Children may play and learn sports from watching oth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Arousal The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Sports are played as a stimulus-seeking behavi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18916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6002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Arial"/>
              </a:rPr>
              <a:t>When children are at play they are, by definition, engaged in an experience that is inherently meaningful.</a:t>
            </a:r>
            <a:endParaRPr b="1" lang="en-US" sz="5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200016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1080" y="1599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Results of Recreation &amp; Leisure</a:t>
            </a:r>
            <a:endParaRPr b="1" lang="en-US" sz="3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720" y="2819520"/>
            <a:ext cx="6629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Principal source of perceived quality of lif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Reduces feelings of helpless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Sense of self-efficacy and empower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064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The 10 Most Important Reasons Why Children Play a School Sport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4760" y="17524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have fu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improve my skill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stay in shap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do something I’m good 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For the excitemen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387440" cy="1868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The 10 Most Important Reasons Why Children Play a School Sport – con’t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get exercis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play as part of a team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For the challenge of competi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learn new skill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To wi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19494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The 11 Most Important Reasons Children Stop Playing a Sport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I lost interes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I was not having fu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It took too much tim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Coach was a poor teacher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Too much pressur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17557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The 11 Most Important Reasons Children Stop Playing a Sport – con’t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933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Wanted non-sport activity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I was tired of i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Needed more time to study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Coach played favorite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Sport was bor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ff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Overemphasis on winn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11574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9ff"/>
                </a:solidFill>
                <a:latin typeface="Arial"/>
              </a:rPr>
              <a:t>The Eight Essential Lessons of Sports: Wisdom for Growth</a:t>
            </a:r>
            <a:endParaRPr b="1" lang="en-US" sz="4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00:07:40Z</dcterms:created>
  <dc:creator>Adminassist2</dc:creator>
  <dc:description/>
  <dc:language>en-US</dc:language>
  <cp:lastModifiedBy>Aubrey H. Fine</cp:lastModifiedBy>
  <dcterms:modified xsi:type="dcterms:W3CDTF">2006-02-08T18:51:07Z</dcterms:modified>
  <cp:revision>28</cp:revision>
  <dc:subject/>
  <dc:title>PHYSICAL HEALTH</dc:title>
</cp:coreProperties>
</file>