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064-2FD6-4071-B74D-48AD4C66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204-F0DF-42A8-BCA6-EDD9816B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FFFB-119C-4C43-A6E7-2D09E2E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33843-B307-480C-8A03-E4ECB42A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A085-A8E2-4315-8471-6535AEA5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5E541-7EEB-4936-A6A6-BAFA0A2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4418B-45BC-4195-A8E1-9A970C7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B8392-893F-465C-B40E-205C121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4BDB8-1885-46CF-8BE6-543E9DD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79DA5-252E-4A14-8251-C5F9213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071DF-DC50-4644-A734-492C6B4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D764-5FBC-40F9-A7B7-417945C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C33-1E60-4599-870C-63098DB0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9AEE0-8586-47B5-A2E4-40514CC9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9C4BC-78A0-45DB-B297-6C254D4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4AAE8-86B6-47A8-9FDD-A1C5767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4503A-3AAB-4BF9-8967-4552683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1EA4C-D543-412B-9393-13219C2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FA601-A170-4E6B-82FD-455890A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6B7C9-83CB-4B75-A69C-9ED759A3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83CCA-68FB-44A8-9154-EC2DAF5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225D-BA9E-46C8-BD5C-8BBF7F7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1AA80-ADE7-42A3-8844-64250C95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F0C-02CB-4940-A68C-906A707C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B60E-2CBB-4C84-9208-CC0B27D0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4F549-A4D1-4F37-9934-C0EA9CE4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F1F9D-7B43-466E-B53A-AF34A111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D444-CDF5-44DB-93C6-102696C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DEB25-495D-456D-BD49-CD2A5DD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F7071-9062-4FCF-AEAC-A200AF6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2500-CD92-46C6-92AE-441204C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48801-1BCC-4C06-A7E8-0D86B57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D127-0BD5-4F46-9644-2A3CBCF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5394-F6EF-4DC7-A0FE-3B873CB1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B63-8FBA-4410-9486-15254CEF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40920-F0B2-46CA-B50B-0E3BA675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D9FF2-AB8D-42FB-82E7-44D78D8B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2BEFE-C3E8-4BEB-9B4A-821DCFCD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384C-15F0-413B-A68E-44FAC20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339D-2113-4648-B335-9D5BB661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5D9-055D-4641-94C7-4E41482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B3CF-987E-47CC-8D08-81E7E8B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93B-35EA-4D3C-9B02-29057961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023E-C842-4E21-9FC8-E9409BA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CD3-19CE-4F7F-8112-D712F074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B782-52CC-4D06-A39D-A916E4B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1F1B-73B0-4A33-BE35-4DD675D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2D3-9390-4DC1-A90F-3C089CD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8A09-7FCD-426D-96C3-99A4F4B4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9E17-A9A8-4746-B884-C7432BFE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1405-399F-423F-AA10-379998C7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BB51-216D-4EBA-8C30-126C27AA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ABEA-5E49-4A24-A04C-4B46660B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ECFF-3184-4D4F-940B-C0509071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95059-BAB3-4495-8F27-1A60614E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62E-189E-474C-9A31-199B5E9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A8C6-FA8C-4219-A8B5-BA1B952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C757-9E99-444C-8269-5BD9CAF9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14E4-B40F-433B-B0A8-B6DCA3B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A131-0970-4062-B44B-F769F57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43C5-2EDC-4903-BA8F-34C0535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D65C-A3EC-474E-ABD3-79B762D4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CDD3-FB65-427B-8DB8-AA15EF96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F46F-78BE-4045-941D-F215E749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CD2C-B556-4FA2-A0FD-FE01833E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731D-0B6E-4DF2-84AA-E4FD777E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674-1811-4986-B644-3B850B7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5689-1149-4909-AEC4-322AF7A3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2EA4-77C2-4510-9FB5-7126E1E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246D-F66A-4989-B436-6F7F582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9F06-7933-4B43-94D0-8E59E28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7367-74CF-440F-AFDF-3B7B95F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693B-4430-48BC-89A2-545A76C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EAD4-8045-4457-B8A9-069D9EF6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09C0-B33B-43EB-8752-4F270E4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57B9-689F-49AE-A16A-DD7A6BE1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DF50-DCA9-4DD3-B835-5AC547F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B7F-C3F9-4AE9-ACFC-6A81494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4898-36D8-45D7-8590-0504AFA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385B-9189-49D5-9252-2DD1665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6831-9895-44B5-B113-A7B850D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58B8-5DEA-4A00-97BB-D0E5F75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7A26-FE7A-416C-B1AE-9C96995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3E3AA-F5E3-43BA-9D68-D1DCF2C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5C3A-785A-4684-9D28-4A14387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73E4-8EDE-4E9C-AFBE-EF6C85A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03E1-DFD7-4DF2-9E4E-0AFA20B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9F57-B7A4-4FDC-B53D-9980D80E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3BC-250D-477F-BE4B-50916837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8DF8-BF1A-4E1F-A71B-A9E2C631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34ED-2530-4E58-A9F1-A424CA62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17D1-6971-45F6-BBDF-DC92697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932EA-49E3-45FF-8E0B-2D59D203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58DD-164F-407F-BEE8-3169790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E16D6-C5A0-4F17-A0E3-1247B76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F3E3-2D4F-407C-9879-5D11060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3C8A-A085-409B-A101-CDA68C6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C85B1-C755-49DF-8E50-440DBB5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43A63-35E1-40F6-AF88-E4BCCB7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BBA-180B-41CE-9577-2B6810F1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50EE-3E72-40BA-B91F-CE94284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5B45-17C4-4CAF-9FF7-CD1B7E63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ECE9-9404-4EE1-8866-2BC73934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153B-58B6-4361-BB27-BE7C81A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7F818-EE11-4634-B7DB-D2D254C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0A4A-0EEE-4EC5-8FAE-8C47025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7E5E-D712-4325-9BB8-60D188A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EFD8F-7638-4517-AA16-674DDCC1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3078-BFDF-4E7E-B86D-F8154ADD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4370-E60E-4072-AD89-14C3F1F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E75-A11A-4D22-87D0-6D899C3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46FC-2253-4C7E-830B-09BAD37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6D6A-8748-45DF-BFA7-B076A30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964A-A827-41D7-BA07-0D5ABAF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5B1E-50C9-4932-BE30-17D4F838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DE96-487A-4C69-8F56-8CCFD10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01A4-0500-4D13-B01A-6BB1FA13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42AB-245B-467A-A953-AF02131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C623-DF9D-465E-B9D8-8935EBA1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59A4-925F-4756-8867-B60B7973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6B49-1099-44BD-8176-92A0E6CD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E39-93B0-4580-8BDF-CB57EA4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F18CF-616C-4527-9D39-3D1211AD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39B5-F1A7-4126-B538-2753C0E7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3FBD-DCA6-42CD-8240-7D8B0EB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E1A3-3649-4A9C-98B9-841E5CA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360CE-9065-4585-9BE0-A76625E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F27C2-4144-4C4B-89D6-577CB8ED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EBA1-D16A-4742-AA12-87B112D3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66D22-9FC2-473D-AB6A-2FEBACB3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3FEDD-3058-4BC5-9937-398A691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1DB9-A80E-4362-99DD-2CA048FD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C742-43CC-4C40-BC4B-BA15FBE9FD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B7A-BFF8-4526-958D-1324F51F1A1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7B8-733E-407E-811F-E976D11E863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6CE-FA46-4734-BE5E-273DCAB86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B42-E0D0-43E5-A269-F4BF9AEB94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06EB-D016-44BD-806C-48B1916DE9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45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C89A-8095-47BA-9394-5187A316D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2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E12-9CC3-442F-8BF6-7679565E3D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F7D-8607-42CE-B91C-543A11C6AB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2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A60-7F7F-45C1-BFF7-DC1D8A89E4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6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024-F3E1-46EF-BBA2-BFE240247F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Child Abuse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Enviro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7680" y="1714680"/>
            <a:ext cx="778824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Boys are at a greater risk of serious injury and of emotional neglect than girl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Girls are sexually about three times more often the boy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Children with disabilities are 4 to 10 times more vulnerable to sexual abuse than their non-disabled peers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Child Abuse Statistics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The younger victims of sexual abuse are most likely to be black, while the older victims were mostly Asian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Maiandra GD"/>
              </a:rPr>
              <a:t>Sexual Abuse of Childr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In 2000 younger children represented most of the maltreated victims. </a:t>
            </a:r>
            <a:r>
              <a:rPr b="0" lang="en-US" sz="1200" spc="-1" strike="noStrike">
                <a:solidFill>
                  <a:srgbClr val="ffffcc"/>
                </a:solidFill>
                <a:latin typeface="Maiandra GD"/>
              </a:rPr>
              <a:t>(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Re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Most than half of maltreatment victims were white in 2000. </a:t>
            </a:r>
            <a:r>
              <a:rPr b="0" lang="en-US" sz="1000" spc="-1" strike="noStrike">
                <a:solidFill>
                  <a:srgbClr val="ffffcc"/>
                </a:solidFill>
                <a:latin typeface="Maiandra GD"/>
              </a:rPr>
              <a:t>(Rein)</a:t>
            </a:r>
            <a:r>
              <a:rPr b="0" lang="en-US" sz="1800" spc="-1" strike="noStrike">
                <a:solidFill>
                  <a:srgbClr val="ffffcc"/>
                </a:solidFill>
                <a:latin typeface="Maiandra G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tistic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0,001 victims in 44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5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2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3: 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7:  27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11:  21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and over:  22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tistics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ngeles County Statistics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9,436 victim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:  12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 36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tional:  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e Group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4:  2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2:  47.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and over:  23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der of Victi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 4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 51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457360" cy="36576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Maiandra GD"/>
              </a:rPr>
              <a:t>Causes of Child Maltreat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Un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Spous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aring for children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Toilet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rifa BT"/>
              </a:rPr>
              <a:t>Cultural customs</a:t>
            </a: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sychological Impact of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self-este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strust/F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or Interpersonal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plea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bility to experience and express feel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gression/Impulsiv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Blame/Guil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lings of loss/rej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lpless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ap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 of defense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maged goods syndrom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feels physically, emotionally, and socially damag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self-mastery and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feels helpless as a result of the violation of his/her body and priv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77120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ger/Host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fu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perpet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bivalent feelings toward the non-offending pa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ilure to complete developmental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ars concerning the reactions of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is concerned about the responses of siblings, friends, et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5080" y="17524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appropriate boy-girl relationships / Acting-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hild mistrusts others the same sex as the perpetrator, displays inappropriate sexualized behavior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havioral extre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f-destructive behavi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6094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sychological Impac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ross-culture definition of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Maiandra GD"/>
              </a:rPr>
              <a:t>Child Maltreatmen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167652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Defining child maltreatment cross culturally is difficult because of cultural traditions and custo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The Convention the Rights of  the  Child  was adopted by the UN in 1989, setting the rights of children and establishing minimum standards for the protection of  childr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2080" y="2476440"/>
            <a:ext cx="69498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France and England both have define positions on child maltreatment and have made strong effort to prev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African and Latin American nations position vary regarding the subject of child maltreatment because of the diverse cultures in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rifa BT"/>
              </a:rPr>
              <a:t>China has a very Western view of children, however the Chinese leaders believe that it is the states responsibility to provide child 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05640" y="1201680"/>
            <a:ext cx="557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aiandra GD"/>
              </a:rPr>
              <a:t>Overview of Global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2133720" cy="1490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1514520" cy="1600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28600" y="190512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200400" y="838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7772400" y="6858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flipV="1">
            <a:off x="838080" y="144792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83808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800600" y="99072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13716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190512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Chil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8360" y="21337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094720" y="20574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risten ITC"/>
              </a:rPr>
              <a:t>Preven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3048120"/>
            <a:ext cx="6629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ach out, anything you do to support kids and parents ca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help relieve the stress that often leads to abuse and negl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Report any suspected child ab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Educate yourself and others and help prevent chil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maltreatment in your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Available programs and service in communities specifically to help strengthen families, create positive and non abusive h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14300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member the risk factors. Child abuse and neglect occur in all segments of our society but the risk factors are greater in families where par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76520" y="25909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May have</a:t>
            </a:r>
            <a:r>
              <a:rPr b="0" lang="en-US" sz="2000" spc="-1" strike="noStrike">
                <a:solidFill>
                  <a:srgbClr val="99ccff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economic, housing or person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Isolation from family o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ave difficulty dealing with physical or 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health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buse of alcohol or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Appear to be uninterested in the well being of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     </a:t>
            </a:r>
            <a:r>
              <a:rPr b="0" lang="en-US" sz="2000" spc="-1" strike="noStrike">
                <a:solidFill>
                  <a:srgbClr val="99ccff"/>
                </a:solidFill>
                <a:latin typeface="Serifa BT"/>
              </a:rPr>
              <a:t>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895480" cy="17557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904760" cy="272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3" name=""/>
          <p:cNvSpPr/>
          <p:nvPr/>
        </p:nvSpPr>
        <p:spPr>
          <a:xfrm>
            <a:off x="3781440" y="1725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nviro"/>
              </a:rPr>
              <a:t>Child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266688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Every human being below the age of 18 years unless under the law applicable to the child majority is attained earl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666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rifa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Recognize the warning signs, the behavior of a child may signal abuse or neglect long before any change in physical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124080" cy="19778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584" name=""/>
          <p:cNvSpPr/>
          <p:nvPr/>
        </p:nvSpPr>
        <p:spPr>
          <a:xfrm>
            <a:off x="1660680" y="3292560"/>
            <a:ext cx="5425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55760" y="3216240"/>
            <a:ext cx="565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3048120"/>
            <a:ext cx="6035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Nervousness around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Aggression towards adults and othe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Unnatural interest in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Frequent or unexpected inju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Low self 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Poo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Dramatic change in personality 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Serifa BT"/>
              </a:rPr>
              <a:t>Inability to concentrate for long periods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Serif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apy groups furnish children with opportunities for improving their social skills, developing satisfactory interpersonal relationships, and increasing self-awareness and empathy.  Group therapy is most effective with preadolescents and adoles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lay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lay therapy provides children with a safe environment and allows them to use familiar play materials to express feelings.  Play therapy is particularly beneficial for preschool- and school-aged children who are unable to verbalize their feelings or who have severe psychological or behavior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eatment continued 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therapy gives children the individual attention and support they may need to identify and resolve psychological issues related to abu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r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ability to delay gra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hancing self-este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roving the ability to verbalize feelings and confli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ing the capacity for pleas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. . .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society can do to help and protect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unity Child Advoc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more about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ublic forums to educate you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, or organize a child advocac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e that all types of youth services are providing thorough background checks on employees and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abuse prevention curricula in all schools, beginning in the Kindergarte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where and how to check for sex offender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and encourage others to report, suspected child abuse to local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reaking the Cycle continued. .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nanci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ate time or money to non-profit advocacy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fund raisers for non-profi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ild Protection Legis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State and Feder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ct the Alaska Resolution in your state, to reject the controversial research on the impact of chil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up to date on pending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your legislators and let them know how you want them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e word to friends, and get more people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33360" y="1828440"/>
            <a:ext cx="647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Kristen ITC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3276360" y="2895480"/>
            <a:ext cx="4647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Child abuse program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abel Bk BT"/>
              </a:rPr>
              <a:t>Education through th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Film and tel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Newspapers and Magaz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Enviro"/>
              </a:rPr>
              <a:t>What is child ab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The bad treatment of a child by a parent, caretaker, some one living in their home or someone who works with or around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nviro"/>
              </a:rPr>
              <a:t>Abuse of a child is anything that causes injury or puts the child in danger of physical inju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finition of Child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abuse has occurred when one or more of the four types of abuse have been identified.  The four types of abus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inition of child abuse varies from state to state, but the main concepts of each definition remain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24382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Physic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fliction of physical harm from the interaction or lack of interaction of a child by a person in a position of auth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4038480"/>
            <a:ext cx="4359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Sexu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involvement of sexual activity of a child and an adult that he or she may not fully comprehend, may not be able to give their consent, or violates the laws or taboos of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2438280"/>
            <a:ext cx="4267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Emotional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The failure to provide a child developmentally appropriate, supportive</a:t>
            </a:r>
            <a:r>
              <a:rPr b="0" lang="en-US" sz="2400" spc="-1" strike="noStrike">
                <a:solidFill>
                  <a:srgbClr val="000000"/>
                </a:solidFill>
                <a:latin typeface="Envir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environment cognitively, mentally or emotion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37040" y="4005360"/>
            <a:ext cx="420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viro"/>
              </a:rPr>
              <a:t>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Envi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viro"/>
              </a:rPr>
              <a:t>Depriving a child of their basic needs. This including the failure to provide for the development of the child in all spheres: health, education, nutrition, emotional development, shelter, and safe living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 Refers to intentional behavior directed toward the child by the parents of caretaker to cause pain, injury, or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:  Refers to any sexual activity that involves exposure of genitalia, fondling, intercourse, oral sex, or por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:  Refers to the a nonphysical and non-sexual abuse of child which may include a steady diet of putdowns, humiliation, labeling, name calling, scapegoating, and 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ypes of Abuse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2304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:  Refers to the disregard for the psychological needs of a child which may include demanding excessive responsibility, seductive behavior, ignoring, fear-inducing techniques, unrealistic expectations, and extreme inconsisten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ur types of abuse are interrelated, meaning that one type of abuse my cause another such as psycholog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Enviro"/>
              </a:rPr>
              <a:t>Examples of Child Abuse: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76240" y="2142720"/>
            <a:ext cx="6904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hysic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hitting, shaking, burns, human bites, strang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xu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ondling, intercourse, incest, rape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rostitution or pornograph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motional Abuse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belittling, constant disapproval, and tea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eglect-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Failure to provide food, shelter, clothing, abandonment, inadequate supervision, and the allowance of drug or alcohol to be used by the child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Enviro"/>
              </a:rPr>
              <a:t>Child Abuse in the United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27525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900080" y="2054160"/>
          <a:ext cx="5389560" cy="393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2054160"/>
                    <a:ext cx="538956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6077520" y="6273720"/>
            <a:ext cx="22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Georgia"/>
              </a:rPr>
              <a:t>Child Abuse and Neglect</a:t>
            </a:r>
            <a:r>
              <a:rPr b="0" lang="en-US" sz="1000" spc="-1" strike="noStrike">
                <a:solidFill>
                  <a:srgbClr val="ffffcc"/>
                </a:solidFill>
                <a:latin typeface="Georgia"/>
              </a:rPr>
              <a:t>, Rei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04:06Z</dcterms:created>
  <dc:creator>brandy</dc:creator>
  <dc:description/>
  <dc:language>en-US</dc:language>
  <cp:lastModifiedBy>ahfine</cp:lastModifiedBy>
  <dcterms:modified xsi:type="dcterms:W3CDTF">2006-01-11T08:25:25Z</dcterms:modified>
  <cp:revision>10</cp:revision>
  <dc:subject/>
  <dc:title>Child Abuse 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