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69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eaching in Americ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Aubrey H. 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igh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comprehensive school serves large and diverse student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chools have created “schools within school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gest changes: increased emphasis on health, social services, and prevention of social and health probl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goal is still focus on basic training and delivering a quality educ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472080" y="228600"/>
          <a:ext cx="2394000" cy="14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2080" y="228600"/>
                    <a:ext cx="23940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igh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tics:  more politics involved in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Affairs: schools are being run more like busin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ties: schools provide wider range of activities and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and Cooperation between students, staff, parents, and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Issues and Concerns: balancing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Relations: higher need for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lternative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from formation of schools by public schools and private groups to give public mor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 Schools:  designed to attract diverse students from all over district.  Usually have particular curriculum or program emphasis.  Federal government established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ter Schools:  independent alternative public schools designed to encourage school improvement.  Operated like public schools, supported by state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the Basis of School Law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4120" y="4818240"/>
            <a:ext cx="756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ublic and private schools are governed by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0916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stitution of the United Stat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itution doesn’t mention education, but individual rights affect, influence, and determines what happens in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premise of “promoting general welfare”, the government supports and spends on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ndments that influence educational practi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st: freedom of religion and spe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th: basic privacy and security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th; due process pro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80160" y="1143000"/>
          <a:ext cx="135108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80160" y="1143000"/>
                    <a:ext cx="135108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ederal Law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relates to constitutional requirements set forth in the Bill of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 Rights Act (1964) prohibits discrimination based on race in “any program or activity receiving federal financial assista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le XI of Education Amendment (1972) prohibits discrimination on the basis of g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s with Disabilities Act prohibits discrimination against disabled per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tate Law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nth amendment gives states powers not delegated to the federal government.  Education is mostly a state function, most laws governing education are state la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s delineate for teachers (exampl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courses and programs in teacher preparation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and conditions for entering profession and gaining cer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governing ethical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s for hiring and dismis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tate Law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s delineate for students (exampl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cours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ance and dismissal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c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process relating to freedom of religion, speech, searches, and urine t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tate Law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s delineate for schools (examples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 of the selection and purchase of text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iculum and required cour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and school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38560" y="4267080"/>
          <a:ext cx="20206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8560" y="4267080"/>
                    <a:ext cx="20206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ourt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ed to interpret laws. Most cases involve separation of church and state (1st Amendmen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cause--applied most often when schools try to initiate practices that have religious content or when government aid benefit religious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mon Test--three part test used to determine whether or not establishment clause was vio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it have a secular purpo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it excessively entangle government and relig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it advance or inhibit relig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467480" y="287280"/>
          <a:ext cx="1447920" cy="14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287280"/>
                    <a:ext cx="144792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ow Are Public Schools Organized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57280" y="2209680"/>
          <a:ext cx="4077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2209680"/>
                    <a:ext cx="4077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Are Your Legal Responsibilities As A Teacher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433600" y="3276720"/>
          <a:ext cx="3198960" cy="33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3600" y="3276720"/>
                    <a:ext cx="319896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41960" y="1844640"/>
            <a:ext cx="7869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 have rights as citizens, and teachers h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sponsibilities because they are ac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 lo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rent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in the place of parents” as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eventing Liabilit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t Liability:  civil wrong against the rights of others.  There are three kinds of to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ligence: unacceptable conduct or care that results in the injury of another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al: assault, batter, the intent to do harm, defa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ct Liability: injury resulting from unusu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 are responsible for “what a reasonable, prudent person, one of ordinary intelligence would do or should have done, in the same circumstanc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ty and standard of care: teachers are expected to supervise students, maintain safe environment, and give proper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ch of duty: when teachers are derelict in their du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ximate Cause: teachers’ failure resulted in loss o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jury and Damages: students suffer som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voiding Neglig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act so that you can pass the “What would a reasonable, prudent person do?”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for what you are going to do to ensure safety and well-be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what your duties and responsibilitie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safety consc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age and developmental levels of the students you are tea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 students proper behavior and what is expected of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 liability insurance provisions of NEA and 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eporting Child Abus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survey estimates more than 2.6 million reports of abuse pe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re required by federal law to report all suspected cases of child ab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re on the frontline defense in protecting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re protected from being sued for reporting suspected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signs of child abuse (Table 8.1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voiding Sexual Harassmen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27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d as unwelcome sexual advances, requests for sexual favors, and other verbal or physical conduct of a sexual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gs to 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familiar with your school’s or district’s sexual harassmen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situations in which you are alone with 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ppropriately at all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talk about sex, engage in flirtatious behavior, or tell sexually oriented jokes or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Are The Legal Rights of Students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976400" y="3643200"/>
          <a:ext cx="3648240" cy="259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6400" y="3643200"/>
                    <a:ext cx="364824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reedom of Expressio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Speech: includes all forms of expression (speech, talking, writing, wearing a political button, a t-shirt, a symbol, armband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ss Codes: courts have upheld right of school districts to set “reasonable” standards for dress and appearance of students and teacher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districts must be able to show that regulation of student appearance is necessary for proper functioning, related to district and school goal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ng attire has been restri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ue Proces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4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th and 4th Amendment and the Equal Protection Clause in 14th Amendment are important parts of student discipline policies and c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ipline:  students must be given notice of standards of conduct, should be give opportunity to regul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pension and Expulsion: students can’t be suspended or expelled without a hearing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pension is short term denial of attendance and particip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ulsion is removal of student from supervision and control of the scho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ight to Privacy (4th Amendment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and seizure: 4th Amendment applies to searches of students by school officials.  Protected from bodily searches and searches of private areas unless by search warrant or exception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Records: Access to records is limited--parents, students over 18, and educators with legitimate right to examine records.  Others only with parents’ written appr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me and Violence--many states and districts have laws designed to curb vio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Structure of Schooling in the United Stat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ation at the District Level:  School district is administrative unit empowered by state to run community’s school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de-Level Organization: age-grad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and School Organization:  Traditional-six-hour days, 180 days/school year.  Growing interest in year-round schooling and block sched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Size and Organization:  Large schools- more varied curriculum, but adversely affect attendance, student involvement in activities, increase drop out rate, vandalism, violenc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ight to Nondiscriminatio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and teachers are protected--especially influential in girls’ school sports programs and protection of married/pregnant students from ex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ingual education--courts rule that schools need to provide programs in bilingual education, (Civil Rights Act 196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education: Education for All Handicapped Children Act of 1975 a landm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: any persons carrying AIDS virus is protected by Rehabilitation Act of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e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rolls children between 3 and 5 before they enter kindergar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programs that encourage and support learning through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, they provide a full range of services, reflecting changing family patterns (single parents and two-wage earner fami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is growing, so is belief in intervention programs for addressing social problems.  E.g. Head start is influential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4800" y="295200"/>
          <a:ext cx="2367000" cy="13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295200"/>
                    <a:ext cx="23670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Kindergarte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children before they enter first gr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um age is usually 5 (before Sept.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in kindergart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readiness testing in promoting children to first g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or whole day programs designed to get children ready for the first g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4800" y="5334120"/>
          <a:ext cx="1811520" cy="14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5334120"/>
                    <a:ext cx="18115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imary and Elementary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s 1-3 known as “Primary”, Grades 4-6 known as “Elementa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organization reflect graded approach with 15-25 students and one teacher in class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ly, changes in curriculum and instructional methods have affected how classrooms are organ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403960" y="5334120"/>
          <a:ext cx="1407960" cy="132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3960" y="5334120"/>
                    <a:ext cx="140796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iddle and Junior High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dle schools (grades 6-8) are increasingly replacing junior highs as organiz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transition from elementary school, focuses on needs of young teena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sential features of a quality school:  guidance programs, transition programs, team teaching, career exploration, athl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s:  block scheduling, cross-disciplinary or thematically integrated curricula, teaching to students’ individual learning sty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iddle and Junior High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negie Council of Adolescent Development makes following recommenda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small communities for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 academic program that results in literacy in many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te tracking by achievement levels, promote cooperative learning, flexibility in instructional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ower teachers and administrators to make decisions about students’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iddle and Junior High Schoo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s (cont’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 schools with expert teachers specially prepared for middle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academic performance through fostering health and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engage families in the education of young adolesc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 schools with communities, share responsibility of edu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5T04:31:58Z</dcterms:created>
  <dc:creator>Bo-In Lin</dc:creator>
  <dc:description/>
  <cp:keywords/>
  <dc:language>en-US</dc:language>
  <cp:lastModifiedBy>ahfine</cp:lastModifiedBy>
  <cp:lastPrinted>31137-11-07T02:24:54Z</cp:lastPrinted>
  <dcterms:modified xsi:type="dcterms:W3CDTF">2005-10-18T18:03:50Z</dcterms:modified>
  <cp:revision>1</cp:revision>
  <dc:subject/>
  <dc:title>Teaching in America</dc:title>
</cp:coreProperties>
</file>