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00E3-275F-41D3-A7F7-120F3151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C305-61C4-4AEA-8EFA-5015F937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D27D-D71E-4D2C-8C47-7FA7B34D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7ECC-F014-41BB-9B97-D7D44817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30A3-B6C6-4926-BE9B-6069011A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1A31-1ACA-4F13-91E9-26CFA5C8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C727-9B59-42AE-930B-3732FD02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5681-F8AA-4431-B6BB-B1A93113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C8D2-606B-450A-8BE6-19F860A1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1757-64CB-48AA-B03A-8A99FDA4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89C9-A9FA-414F-A893-639EDB17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9BF0-3EB9-4DD6-AC53-D00DDCD2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12E2-2803-43FD-BE3C-777336C9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CC5F-2679-4124-BA7D-F6BA132D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538A-BD60-4CB9-909D-82309630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733D-6489-4E57-9E74-11B97482D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BBD5-1707-4DD3-8C66-9A5DA5EE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779E-F510-4C3B-8FBA-14ED0B49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6B5E-3986-4485-8550-5FFB2C5D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0C3F-E54F-4F23-B70A-52C3FAF2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D635-3A1E-4291-8762-B160D02B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2A96-D0B0-46AD-ADBD-2821CC18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A066-9595-49F9-B440-AC881991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4194-CE9C-44CD-9E3E-B22F279A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37DE-03F5-4987-B0E0-248EA0E679F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5551-0A54-4484-9F1C-721EA4F2037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ffective Teacher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bright="12000"/>
          </a:blip>
          <a:srcRect l="0" t="5706" r="2024" b="2853"/>
          <a:stretch/>
        </p:blipFill>
        <p:spPr>
          <a:xfrm>
            <a:off x="0" y="0"/>
            <a:ext cx="4724280" cy="65530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48320" y="38088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echno"/>
              </a:rPr>
              <a:t>Effective Teachers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19360" y="144756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echno"/>
              </a:rPr>
              <a:t>Tend to be good manager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echno"/>
              </a:rPr>
              <a:t>Have high expectations of themselves and their student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echno"/>
              </a:rPr>
              <a:t>Believe in their own effectiveness.</a:t>
            </a:r>
            <a:r>
              <a:rPr b="0" lang="en-US" sz="3400" spc="-1" strike="noStrike">
                <a:solidFill>
                  <a:srgbClr val="ffffcc"/>
                </a:solidFill>
                <a:latin typeface="Techno"/>
              </a:rPr>
              <a:t>	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5120" y="609480"/>
            <a:ext cx="431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echno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Techno"/>
              </a:rPr>
              <a:t>Effective Teachers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562720" y="1371600"/>
            <a:ext cx="3124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echno"/>
              </a:rPr>
              <a:t>Vary teaching strategie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echno"/>
              </a:rPr>
              <a:t>Handle discipline through prevention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echno"/>
              </a:rPr>
              <a:t>Are usually warm and caring. 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>
            <a:lum bright="12000"/>
          </a:blip>
          <a:srcRect l="4439" t="0" r="14785" b="0"/>
          <a:stretch/>
        </p:blipFill>
        <p:spPr>
          <a:xfrm>
            <a:off x="0" y="2209680"/>
            <a:ext cx="5586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10000" t="1915" r="7507" b="1915"/>
          <a:stretch/>
        </p:blipFill>
        <p:spPr>
          <a:xfrm>
            <a:off x="0" y="0"/>
            <a:ext cx="451656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95320" y="38052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echno"/>
              </a:rPr>
              <a:t>Effective Teachers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14440" y="13716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echno"/>
              </a:rPr>
              <a:t>Are democratic in their approach. 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echno"/>
              </a:rPr>
              <a:t>Are concerned with perceptual meanings rather than facts and events. 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echno"/>
              </a:rPr>
              <a:t>Are comfortable interacting with students and staff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echno"/>
              </a:rPr>
              <a:t>	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6058" t="0" r="8654" b="0"/>
          <a:stretch/>
        </p:blipFill>
        <p:spPr>
          <a:xfrm>
            <a:off x="0" y="1697040"/>
            <a:ext cx="5867280" cy="51609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echno"/>
              </a:rPr>
              <a:t>Effective Teacher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8840" y="609480"/>
            <a:ext cx="3809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echno"/>
              </a:rPr>
              <a:t>Have a strong grasp of subject matter. 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echno"/>
              </a:rPr>
              <a:t>Are readily available to students outside clas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echno"/>
              </a:rPr>
              <a:t>Tailor their teaching to meet their students’ need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2354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echno"/>
              </a:rPr>
              <a:t>Effective Teachers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4648320"/>
            <a:ext cx="8458200" cy="23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850"/>
              </a:spcBef>
              <a:buClr>
                <a:srgbClr val="f63f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cc00"/>
                </a:solidFill>
                <a:latin typeface="Techno"/>
              </a:rPr>
              <a:t>Are reflective practitioners, open to new learning theories and approaches, and to new classroom techniques.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8471" t="5088" r="8471" b="7632"/>
          <a:stretch/>
        </p:blipFill>
        <p:spPr>
          <a:xfrm>
            <a:off x="0" y="1542960"/>
            <a:ext cx="5791320" cy="5070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echno"/>
              </a:rPr>
              <a:t>Effective Teachers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720720"/>
            <a:ext cx="2743200" cy="64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850"/>
              </a:spcBef>
              <a:buClr>
                <a:srgbClr val="f63f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cc00"/>
                </a:solidFill>
                <a:latin typeface="Techno"/>
              </a:rPr>
              <a:t>Are flexible, enthusiastic, and imaginative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50"/>
              </a:spcBef>
              <a:buClr>
                <a:srgbClr val="f63f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cc00"/>
                </a:solidFill>
                <a:latin typeface="Techno"/>
              </a:rPr>
              <a:t>Can leap tall buildings in a single…..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8T20:18:14Z</dcterms:created>
  <dc:creator>Mario Ruiz</dc:creator>
  <dc:description/>
  <dc:language>en-US</dc:language>
  <cp:lastModifiedBy>mediastudent</cp:lastModifiedBy>
  <dcterms:modified xsi:type="dcterms:W3CDTF">2006-10-16T20:00:11Z</dcterms:modified>
  <cp:revision>10</cp:revision>
  <dc:subject/>
  <dc:title>School Finding</dc:title>
</cp:coreProperties>
</file>