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379-648D-4EE3-978C-F14EBB2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DC7-5D06-404B-B4CD-7CB792D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9C6-2008-4B00-9BDC-03063C0E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3D3-C3AA-48D1-8E7A-89DF729B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F290-FBE8-4F5D-83D2-831CFA31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D450-427A-4690-A48F-196A3012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8A4-310F-4E56-BFDC-B4F1E662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8906-3FEF-4390-B57C-0F844A03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CA9-25C1-4F60-93FF-EC013F5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BD4A-A4D1-4525-B385-EDBF02B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6A2-D1C9-471B-943D-AC83AE4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A1B-52F6-43E2-8E1A-A9B5A05A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848-7F70-435E-952A-949A77F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3478-E5F0-4FE0-AE3E-59FB85B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CFA7-FA4B-4B3A-81E4-0F936B74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AF71-7E44-4CB6-949A-77D4AD5A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CEE6-51F3-4F93-92FB-4ECBD8F9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322-6D36-4375-B204-53F95F4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67E-45A3-443A-A191-ABAE3BF5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532-E5DB-4F0F-838F-739226C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F4B-C060-476E-BFFF-8EF9132C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0BD-C1C0-46AB-A395-5DDD2C1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026-E070-4ADA-8B62-A2FBB3B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2C3-8196-4680-8A53-8BE7A96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FFD0-4331-41BC-8EC7-5484337271E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154B-60D5-40F2-9741-2BA0DC7AF3B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Disability VS. Handicap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inking Paths to Integr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809880"/>
            <a:ext cx="2438280" cy="1067040"/>
          </a:xfrm>
          <a:prstGeom prst="ellipse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Access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981080"/>
            <a:ext cx="1905120" cy="7621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Attitudes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3124080"/>
            <a:ext cx="1905120" cy="7621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Community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Involvement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124080"/>
            <a:ext cx="1905120" cy="7621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334120"/>
            <a:ext cx="1905120" cy="7617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5334120"/>
            <a:ext cx="1905120" cy="7617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ploymen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743200"/>
            <a:ext cx="0" cy="106668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733920"/>
            <a:ext cx="990360" cy="30456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4800240"/>
            <a:ext cx="838440" cy="60948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4724280"/>
            <a:ext cx="1295640" cy="60984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809520"/>
            <a:ext cx="1066680" cy="22860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1973 PL 93-112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ection 504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otherwise citizen in the USA shall be discriminated against any service provided by the U.S. government as a consequence of gender, race, or disabilities.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rinciples that Encourage Integr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1. Equity requires support of all of u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2. Activism and rights, not pity,    compassion, and benevolence, will foster integratio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3. Normalization must be accepted as the most optimal format to follow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4. The success of our ability to promote integration will be determined by our commitment to it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Times New Roman"/>
              </a:rPr>
              <a:t>Handicapism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3123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prejudice, stereotyping, and discrimination against the handicapped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Ken Kregal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28191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 personal story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tig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ttitudes which are based on minimal knowledge which negatively alter expectation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3 characteristics of stigm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hysical deformitie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lemishes in characte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ace, nation, and religio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Times New Roman"/>
              </a:rPr>
              <a:t>Labels are for Jars, not People.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enefits &amp; Disadvantages of labeling.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enefit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ssist in diagnosis and treatment of individuals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low special interest groups to promote specialized programs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ssist professionals in communicating and clarifying specific research findings on specific special groups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Times New Roman"/>
              </a:rPr>
              <a:t>Labels are for Jars, not People.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enefits &amp; Disadvantages of labeling.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ause others to think about the disabled only in terms of inadequacies or deficits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ause certain expectations which may hinder the potential progress of the individual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ad to reflection of the labeled child and cause feelings of inferiority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ad peers to reject or ridicule the labeled child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fficulty of achieving status of being a regular child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Implications of Handicapis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1. Presume sadness on the person who is disabled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2. Pity the individual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3. Focus on disability first and forget that disabled individuals are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people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rst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4. Disabled adults are often treated as childr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5. Avoidanc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arris Poll Study (1994) suggests that since the advent of ADA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. The younger generation of Americans seems more comfortable with citizens w/ disabilities than the previous generatio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. In most cases, there appear to have been an improvement in the acceptance of people w/ disabilities in the work forc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. When interviewing 6,000 individuals appx. 18-45, it appeared that certain individuals w/ disabilities were more easily accepted than other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a. persons w/ physical disorder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b. persons w/ psychological illnesses, mental retardation, &amp; facial disfigurement were accepted less well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Barriers to Integratio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1.  Technology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2.  Economic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3.  Barriers to architectur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4.  Transportation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5.  Attitud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0:28:18Z</dcterms:created>
  <dc:creator>Annie Cheng</dc:creator>
  <dc:description/>
  <dc:language>en-US</dc:language>
  <cp:lastModifiedBy>jnk</cp:lastModifiedBy>
  <cp:lastPrinted>1999-11-05T03:12:02Z</cp:lastPrinted>
  <dcterms:modified xsi:type="dcterms:W3CDTF">2004-11-03T23:54:17Z</dcterms:modified>
  <cp:revision>5</cp:revision>
  <dc:subject/>
  <dc:title>Disability VS. Handicap</dc:title>
</cp:coreProperties>
</file>