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26.gif" ContentType="image/gif"/>
  <Override PartName="/ppt/media/image22.wmf" ContentType="image/x-wmf"/>
  <Override PartName="/ppt/media/image25.gif" ContentType="image/gif"/>
  <Override PartName="/ppt/media/image21.wmf" ContentType="image/x-wmf"/>
  <Override PartName="/ppt/media/image6.jpeg" ContentType="image/jpeg"/>
  <Override PartName="/ppt/media/image24.gif" ContentType="image/gif"/>
  <Override PartName="/ppt/media/image19.gif" ContentType="image/gif"/>
  <Override PartName="/ppt/media/image14.jpeg" ContentType="image/jpeg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49.wmf" ContentType="image/x-wmf"/>
  <Override PartName="/ppt/media/image27.gif" ContentType="image/gif"/>
  <Override PartName="/ppt/media/image1.jpeg" ContentType="image/jpeg"/>
  <Override PartName="/ppt/media/image2.jpeg" ContentType="image/jpeg"/>
  <Override PartName="/ppt/media/image4.jpeg" ContentType="image/jpeg"/>
  <Override PartName="/ppt/media/image30.gif" ContentType="image/gif"/>
  <Override PartName="/ppt/media/image32.gif" ContentType="image/gif"/>
  <Override PartName="/ppt/media/image35.gif" ContentType="image/gif"/>
  <Override PartName="/ppt/media/image39.gif" ContentType="image/gif"/>
  <Override PartName="/ppt/media/image41.gif" ContentType="image/gif"/>
  <Override PartName="/ppt/media/image40.gif" ContentType="image/gif"/>
  <Override PartName="/ppt/media/image42.wmf" ContentType="image/x-wmf"/>
  <Override PartName="/ppt/media/image46.gif" ContentType="image/gif"/>
  <Override PartName="/ppt/media/image9.wmf" ContentType="image/x-wmf"/>
  <Override PartName="/ppt/media/image8.gif" ContentType="image/gif"/>
  <Override PartName="/ppt/media/image38.gif" ContentType="image/gif"/>
  <Override PartName="/ppt/media/image34.wmf" ContentType="image/x-wmf"/>
  <Override PartName="/ppt/media/image31.gif" ContentType="image/gif"/>
  <Override PartName="/ppt/media/image43.gif" ContentType="image/gif"/>
  <Override PartName="/ppt/media/image36.gif" ContentType="image/gif"/>
  <Override PartName="/ppt/media/image44.wmf" ContentType="image/x-wmf"/>
  <Override PartName="/ppt/media/image48.gif" ContentType="image/gif"/>
  <Override PartName="/ppt/media/image13.gif" ContentType="image/gif"/>
  <Override PartName="/ppt/media/image23.gif" ContentType="image/gif"/>
  <Override PartName="/ppt/media/image5.jpeg" ContentType="image/jpeg"/>
  <Override PartName="/ppt/media/image11.wmf" ContentType="image/x-wmf"/>
  <Override PartName="/ppt/media/image47.gif" ContentType="image/gif"/>
  <Override PartName="/ppt/media/image10.gif" ContentType="image/gif"/>
  <Override PartName="/ppt/media/image12.gif" ContentType="image/gif"/>
  <Override PartName="/ppt/media/image45.wmf" ContentType="image/x-wmf"/>
  <Override PartName="/ppt/media/image7.gif" ContentType="image/gif"/>
  <Override PartName="/ppt/media/image33.wmf" ContentType="image/x-wmf"/>
  <Override PartName="/ppt/media/image37.gif" ContentType="image/gif"/>
  <Override PartName="/ppt/media/image3.jpeg" ContentType="image/jpeg"/>
  <Override PartName="/ppt/media/image2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0744-3D3D-42C3-ADC7-27BD966EC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90560" y="45720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90560" y="16002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90560" y="39643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44E1-CB39-4275-8771-AB9F8BFA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90560" y="45720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90560" y="16002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14280" y="16002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90560" y="39643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14280" y="39643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D439-00B4-4A57-855A-D263DDBB5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0560" y="45720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90560" y="16002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920" y="16002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12920" y="16002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90560" y="39643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51920" y="39643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12920" y="39643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0965-B222-4481-B293-327972919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CCAA-6458-4CCE-B6FD-21113056B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90560" y="45720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9056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6F50-1C27-44F8-A711-3CF0C4A3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0560" y="45720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9056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D16A-2140-4FD9-9ECA-0D558B9C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0560" y="45720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90560" y="16002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714280" y="16002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E164-7882-489C-8F4E-55C96B4A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0560" y="45720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5281-73F7-4C23-AE88-5BE1363B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90560" y="457200"/>
            <a:ext cx="60958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9D25-8AA1-4E35-8C84-B1E59D0D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90560" y="45720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90560" y="16002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714280" y="16002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90560" y="39643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F030-2C57-4C46-9539-F80BC6B9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90560" y="45720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9056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1CCF-47C1-4437-8691-8EB56B72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90560" y="45720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90560" y="16002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4280" y="16002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714280" y="39643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CF5B-EB4D-4CB3-AA5B-2A88DD77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90560" y="45720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90560" y="16002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4280" y="16002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90560" y="39643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A644-9E61-4490-A9F5-B5BB1A53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90560" y="45720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90560" y="16002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90560" y="39643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D33C-CA1A-4291-B76D-B6374165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90560" y="45720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90560" y="16002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14280" y="16002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90560" y="39643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714280" y="39643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598F-01B6-481E-B42E-41004C94F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90560" y="45720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90560" y="16002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920" y="16002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12920" y="16002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90560" y="39643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51920" y="39643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12920" y="39643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2FC5-007B-49EF-BE24-D0F824F5A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90560" y="45720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9056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80CD-8B7B-406A-9D2E-FED48ACB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90560" y="45720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90560" y="16002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14280" y="16002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DB10-3D43-433E-B7A8-522B311B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90560" y="45720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5E98-021B-48D3-B2D1-33EF364C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90560" y="457200"/>
            <a:ext cx="60958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4B13-32EF-4317-B9F2-F02F8D6D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90560" y="45720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90560" y="16002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14280" y="16002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90560" y="39643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4BA5-FD78-4A88-B0B6-2242D250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90560" y="45720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90560" y="16002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14280" y="16002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14280" y="39643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6C0D-9538-4884-8567-4268722B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90560" y="45720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90560" y="16002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14280" y="16002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90560" y="39643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E7EB-2690-4BEA-A025-63ADB1C1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90560" y="45720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9056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B1E9-DB9F-42D0-AE36-7B9F69909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0560" y="152388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A0DA-230A-4B7C-9D68-D6EF50B63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cc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cc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hop.com/op/Starlight_Express_(Broadway_Musical),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6.gif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gif"/><Relationship Id="rId3" Type="http://schemas.openxmlformats.org/officeDocument/2006/relationships/image" Target="../media/image40.gif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1.gif"/><Relationship Id="rId3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3.gif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6.gif"/><Relationship Id="rId3" Type="http://schemas.openxmlformats.org/officeDocument/2006/relationships/image" Target="../media/image47.gif"/><Relationship Id="rId4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8.gif"/><Relationship Id="rId3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gi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90560" y="152388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003366"/>
                </a:solidFill>
                <a:latin typeface="Arial"/>
              </a:rPr>
              <a:t>Self-Concept</a:t>
            </a: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90560" y="3505320"/>
            <a:ext cx="6172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Dr. Aubrey H. Fine</a:t>
            </a:r>
            <a:endParaRPr b="0" lang="en-US" sz="3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90560" y="45720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6866e"/>
                </a:solidFill>
                <a:latin typeface="Arial"/>
              </a:rPr>
              <a:t>The Builder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9056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I saw them tearing a building down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A team of men in my hometown.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With a heave and a ho and a yes yes yell,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hey swung a beam and a sidewall fell.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And I said to the foreman, “Are these men skilled?”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Like the ones you’d use if you had to build?”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And he laughed and said, “Oh no, indeed…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he most common labor is all I need…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For I can destroy in a day or two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What takes a builder then years to do.”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o I thought to myself as I went on my way…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Am I one who is tearing down as I carelessly make my way around?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Or am I one who builds with care, in order to make the world a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Little better…because I was there?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371600" y="1600200"/>
            <a:ext cx="990720" cy="16765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90560" y="533520"/>
            <a:ext cx="60195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abcc2"/>
                </a:solidFill>
                <a:latin typeface="Arial"/>
              </a:rPr>
              <a:t>Characteristics of Risk Individuals</a:t>
            </a:r>
            <a:br>
              <a:rPr sz="3800"/>
            </a:br>
            <a:endParaRPr b="1" lang="en-US" sz="3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361960" y="23320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Weak perception of personal </a:t>
            </a:r>
            <a:r>
              <a:rPr b="0" i="1" lang="en-US" sz="2600" spc="-1" strike="noStrike">
                <a:solidFill>
                  <a:srgbClr val="cc0000"/>
                </a:solidFill>
                <a:latin typeface="Arial"/>
              </a:rPr>
              <a:t>capabilities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Weak perception of personal </a:t>
            </a:r>
            <a:r>
              <a:rPr b="0" i="1" lang="en-US" sz="2600" spc="-1" strike="noStrike">
                <a:solidFill>
                  <a:srgbClr val="cc0000"/>
                </a:solidFill>
                <a:latin typeface="Arial"/>
              </a:rPr>
              <a:t>significance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Weak perception of personal </a:t>
            </a:r>
            <a:r>
              <a:rPr b="0" i="1" lang="en-US" sz="2600" spc="-1" strike="noStrike">
                <a:solidFill>
                  <a:srgbClr val="cc0000"/>
                </a:solidFill>
                <a:latin typeface="Arial"/>
              </a:rPr>
              <a:t>influence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391520" y="5457960"/>
            <a:ext cx="1438200" cy="1095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19520" y="761760"/>
            <a:ext cx="6324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Inadequate Intra-Personal Skills (Self-Assessment)</a:t>
            </a:r>
            <a:br>
              <a:rPr sz="3600"/>
            </a:b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90560" y="233208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568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6866e"/>
                </a:solidFill>
                <a:latin typeface="Arial"/>
              </a:rPr>
              <a:t>Inadequate inter-personal skills (dialogue, communication)</a:t>
            </a:r>
            <a:endParaRPr b="0" lang="en-US" sz="30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568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6866e"/>
                </a:solidFill>
                <a:latin typeface="Arial"/>
              </a:rPr>
              <a:t>Inadequate systemic skills (responsibility, adaptability, etc.)</a:t>
            </a:r>
            <a:endParaRPr b="0" lang="en-US" sz="30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568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6866e"/>
                </a:solidFill>
                <a:latin typeface="Arial"/>
              </a:rPr>
              <a:t>Inadequate judgmental skills (applying learned knowledge, wisdom)</a:t>
            </a:r>
            <a:endParaRPr b="0" lang="en-US" sz="3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arned Helplessness Defined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19320" y="1447920"/>
            <a:ext cx="79246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568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866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56866e"/>
                </a:solidFill>
                <a:latin typeface="Arial"/>
              </a:rPr>
              <a:t>Learned helplessness results when a person expects that important events or outcomes in his/her life are independent of his or her own responding. [In other words, when the things that matter to a person are felt to be beyond that person’s control, then she/he becomes a victim of learned helplessness.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14600" y="762120"/>
            <a:ext cx="64771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6600"/>
                </a:solidFill>
                <a:latin typeface="Arial"/>
              </a:rPr>
              <a:t>Three Broad Effects of Helplessness</a:t>
            </a:r>
            <a:br>
              <a:rPr sz="3400"/>
            </a:br>
            <a:endParaRPr b="1" lang="en-US" sz="3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-380880">
              <a:spcBef>
                <a:spcPts val="700"/>
              </a:spcBef>
              <a:buClr>
                <a:srgbClr val="6abcc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abcc2"/>
                </a:solidFill>
                <a:latin typeface="Arial"/>
              </a:rPr>
              <a:t>Reduces people’s motivation to control outcomes – becoming passive recipients. 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buClr>
                <a:srgbClr val="6abcc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abcc2"/>
                </a:solidFill>
                <a:latin typeface="Arial"/>
              </a:rPr>
              <a:t>Interferes with a person’s ability to learn that he/she can control outcomes.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buClr>
                <a:srgbClr val="6abcc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abcc2"/>
                </a:solidFill>
                <a:latin typeface="Arial"/>
              </a:rPr>
              <a:t>May produce levels of depression.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86600" y="1676520"/>
            <a:ext cx="1733400" cy="933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3366"/>
                </a:solidFill>
                <a:latin typeface="Arial"/>
              </a:rPr>
              <a:t>Locus of Control</a:t>
            </a:r>
            <a:br>
              <a:rPr sz="4600"/>
            </a:br>
            <a:endParaRPr b="1" lang="en-US" sz="4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1523880"/>
            <a:ext cx="7086600" cy="26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child’s perception of who is responsible for one’s success of failure in a particular achievement are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90560" y="45720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Internal vs. External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9056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568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6866e"/>
                </a:solidFill>
                <a:latin typeface="Arial"/>
              </a:rPr>
              <a:t>Internal – those who feel they control their reinforcements.</a:t>
            </a:r>
            <a:endParaRPr b="0" lang="en-US" sz="30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568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6866e"/>
                </a:solidFill>
                <a:latin typeface="Arial"/>
              </a:rPr>
              <a:t>External – those who perceive their outcomes to be independent of their responses. </a:t>
            </a:r>
            <a:endParaRPr b="0" lang="en-US" sz="30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400800" y="3962520"/>
            <a:ext cx="2139840" cy="2590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1960" y="1143000"/>
            <a:ext cx="655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ognitive Attribution Theories</a:t>
            </a:r>
            <a:br>
              <a:rPr sz="4000"/>
            </a:b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90560" y="2666520"/>
            <a:ext cx="609588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568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866e"/>
                </a:solidFill>
                <a:latin typeface="Arial"/>
              </a:rPr>
              <a:t>Assumes that people’s </a:t>
            </a:r>
            <a:r>
              <a:rPr b="0" lang="en-US" sz="3200" spc="-1" strike="noStrike" u="sng">
                <a:solidFill>
                  <a:srgbClr val="56866e"/>
                </a:solidFill>
                <a:uFillTx/>
                <a:latin typeface="Arial"/>
              </a:rPr>
              <a:t>perceptions</a:t>
            </a:r>
            <a:r>
              <a:rPr b="0" lang="en-US" sz="3200" spc="-1" strike="noStrike">
                <a:solidFill>
                  <a:srgbClr val="56866e"/>
                </a:solidFill>
                <a:latin typeface="Arial"/>
              </a:rPr>
              <a:t> of the causes of their success and failures </a:t>
            </a:r>
            <a:r>
              <a:rPr b="0" lang="en-US" sz="3200" spc="-1" strike="noStrike" u="sng">
                <a:solidFill>
                  <a:srgbClr val="56866e"/>
                </a:solidFill>
                <a:uFillTx/>
                <a:latin typeface="Arial"/>
              </a:rPr>
              <a:t>influence</a:t>
            </a:r>
            <a:r>
              <a:rPr b="0" lang="en-US" sz="3200" spc="-1" strike="noStrike">
                <a:solidFill>
                  <a:srgbClr val="56866e"/>
                </a:solidFill>
                <a:latin typeface="Arial"/>
              </a:rPr>
              <a:t> the quality of their future achievement.</a:t>
            </a:r>
            <a:r>
              <a:rPr b="0" lang="en-US" sz="2800" spc="-1" strike="noStrike">
                <a:solidFill>
                  <a:srgbClr val="56866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90560" y="68580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Failure Avoiding </a:t>
            </a:r>
            <a:br>
              <a:rPr sz="4200"/>
            </a:br>
            <a:endParaRPr b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2209680" y="1752120"/>
            <a:ext cx="6934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scribe successful to external factors (e.g. luck)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scribe failure to inability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0000"/>
                </a:solidFill>
                <a:latin typeface="Arial"/>
              </a:rPr>
              <a:t>Motivated to Approach Success</a:t>
            </a:r>
            <a:br>
              <a:rPr sz="4600"/>
            </a:br>
            <a:endParaRPr b="1" lang="en-US" sz="4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90560" y="2437920"/>
            <a:ext cx="55623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Attribute success to ability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Attribute failure to lack of effort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477120" y="4800600"/>
            <a:ext cx="1485720" cy="1114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90920" y="457200"/>
            <a:ext cx="62481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3366"/>
                </a:solidFill>
                <a:latin typeface="Arial"/>
              </a:rPr>
              <a:t>Starlight Express</a:t>
            </a:r>
            <a:br>
              <a:rPr sz="5600"/>
            </a:br>
            <a:endParaRPr b="1" lang="en-US" sz="5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5" name="" descr="'Starlight Express (Broadway Musical),' Style a Movie Poster Print/Poster, Size: 17 inches x 11 inche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19720" y="1600200"/>
            <a:ext cx="3060720" cy="4724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90920" y="457200"/>
            <a:ext cx="6324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Attribution Theory</a:t>
            </a:r>
            <a:br>
              <a:rPr sz="3800"/>
            </a:br>
            <a:endParaRPr b="1" lang="en-US" sz="3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90560" y="1371240"/>
            <a:ext cx="6095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Investigate person’s perceptions of causes</a:t>
            </a:r>
            <a:endParaRPr b="0" lang="en-US" sz="3000" spc="-1" strike="noStrike">
              <a:solidFill>
                <a:srgbClr val="cc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6600"/>
                </a:solidFill>
                <a:uFillTx/>
                <a:latin typeface="Arial"/>
              </a:rPr>
              <a:t>Factors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Informational cause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History of successes or failure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einforcement history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Feedback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The allocation of responsibility influences subsequent behaviors</a:t>
            </a:r>
            <a:endParaRPr b="0" lang="en-US" sz="3000" spc="-1" strike="noStrike">
              <a:solidFill>
                <a:srgbClr val="cc0000"/>
              </a:solidFill>
              <a:latin typeface="Arial"/>
            </a:endParaRPr>
          </a:p>
          <a:p>
            <a:pPr lvl="3" marL="1600200" indent="0"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391520" y="5457960"/>
            <a:ext cx="1438200" cy="1095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14240" y="3049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6600"/>
                </a:solidFill>
                <a:latin typeface="Arial"/>
              </a:rPr>
              <a:t>Factors Contributing to Negative Motivation</a:t>
            </a:r>
            <a:br>
              <a:rPr sz="3400"/>
            </a:br>
            <a:endParaRPr b="1" lang="en-US" sz="3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1752480"/>
            <a:ext cx="58672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hool / Hom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Parent  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lassroom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alua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90560" y="53352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ajor Perceived Causes for Achievement Performance</a:t>
            </a:r>
            <a:br>
              <a:rPr sz="3600"/>
            </a:b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2514600" y="2057040"/>
            <a:ext cx="4191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bility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Effort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Luck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ask Ease / Difficulty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553080" y="175248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6866e"/>
                </a:solidFill>
                <a:latin typeface="Arial"/>
              </a:rPr>
              <a:t>Understanding Your Explanatory Style to Your Behavior</a:t>
            </a:r>
            <a:br>
              <a:rPr sz="3200"/>
            </a:b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1600200"/>
            <a:ext cx="655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Three dimensions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Perman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Pervas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Personaliz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7086600" y="2743200"/>
            <a:ext cx="1362240" cy="13622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14240" y="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14600" y="244800"/>
            <a:ext cx="6172200" cy="42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3366"/>
                </a:solidFill>
                <a:latin typeface="Arial"/>
              </a:rPr>
              <a:t>OPTISISM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3366"/>
                </a:solidFill>
                <a:latin typeface="Arial"/>
              </a:rPr>
              <a:t>VS.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3366"/>
                </a:solidFill>
                <a:latin typeface="Arial"/>
              </a:rPr>
              <a:t>PESSIMISM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343400" y="3276720"/>
            <a:ext cx="2612880" cy="2781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33360" y="380880"/>
            <a:ext cx="64767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6600"/>
                </a:solidFill>
                <a:latin typeface="Arial"/>
              </a:rPr>
              <a:t>OPTMISISM</a:t>
            </a:r>
            <a:br>
              <a:rPr sz="6200"/>
            </a:br>
            <a:endParaRPr b="1" lang="en-US" sz="6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505320" y="2057400"/>
            <a:ext cx="3733560" cy="3362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90920" y="533160"/>
            <a:ext cx="624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3366"/>
                </a:solidFill>
                <a:latin typeface="Arial"/>
              </a:rPr>
              <a:t>People who are optimistic explain good events in terms of permanent causes.</a:t>
            </a:r>
            <a:br>
              <a:rPr sz="46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abcc2"/>
                </a:solidFill>
                <a:latin typeface="Arial"/>
              </a:rPr>
              <a:t>How you think about your concerns will either relieve or aggravate it.</a:t>
            </a:r>
            <a:endParaRPr b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7391520" y="5457960"/>
            <a:ext cx="1438200" cy="10951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2819520" y="348624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90560" y="68544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6600"/>
                </a:solidFill>
                <a:latin typeface="Arial"/>
              </a:rPr>
              <a:t>Pessimism produces a level of inertia rather than activity in the face of setbacks. Pessimism just like optimism is self-fulfilling. Pessimists don’t persist in the face of challenges, and therefore fail more frequently.</a:t>
            </a:r>
            <a:br>
              <a:rPr sz="3400"/>
            </a:br>
            <a:endParaRPr b="1" lang="en-US" sz="3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7391520" y="5457960"/>
            <a:ext cx="1438200" cy="1095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14240" y="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19520" y="259560"/>
            <a:ext cx="563868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cc0000"/>
                </a:solidFill>
                <a:latin typeface="Arial"/>
              </a:rPr>
              <a:t>RUMINATION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514600" y="2666880"/>
            <a:ext cx="1590840" cy="36385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5810400" y="1523880"/>
            <a:ext cx="3333600" cy="3333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419720" y="1523880"/>
            <a:ext cx="1617480" cy="2409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1905120" y="685800"/>
            <a:ext cx="2219040" cy="3333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553080" y="685800"/>
            <a:ext cx="2219400" cy="3333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38280" y="457200"/>
            <a:ext cx="6553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3366"/>
                </a:solidFill>
                <a:latin typeface="Arial"/>
              </a:rPr>
              <a:t>Depression and a sense of helplessness occurs as a result of a lifelong series of habits and conscious thought.</a:t>
            </a:r>
            <a:br>
              <a:rPr sz="4600"/>
            </a:br>
            <a:endParaRPr b="1" lang="en-US" sz="4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200400" y="4800600"/>
            <a:ext cx="1343160" cy="1790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657600" y="4876920"/>
            <a:ext cx="3962520" cy="1676160"/>
          </a:xfrm>
          <a:prstGeom prst="rect">
            <a:avLst/>
          </a:prstGeom>
          <a:solidFill>
            <a:srgbClr val="6abc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34320" y="4267080"/>
            <a:ext cx="914400" cy="381240"/>
          </a:xfrm>
          <a:prstGeom prst="rect">
            <a:avLst/>
          </a:prstGeom>
          <a:solidFill>
            <a:srgbClr val="6abc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71800" y="4267080"/>
            <a:ext cx="1066680" cy="381240"/>
          </a:xfrm>
          <a:prstGeom prst="rect">
            <a:avLst/>
          </a:prstGeom>
          <a:solidFill>
            <a:srgbClr val="6abc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114800" y="3200400"/>
            <a:ext cx="3124080" cy="380880"/>
          </a:xfrm>
          <a:prstGeom prst="rect">
            <a:avLst/>
          </a:prstGeom>
          <a:solidFill>
            <a:srgbClr val="7aba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895480" y="1676520"/>
            <a:ext cx="5486400" cy="1066680"/>
          </a:xfrm>
          <a:prstGeom prst="rect">
            <a:avLst/>
          </a:prstGeom>
          <a:solidFill>
            <a:srgbClr val="7aba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29400" y="1066680"/>
            <a:ext cx="1066680" cy="381240"/>
          </a:xfrm>
          <a:prstGeom prst="rect">
            <a:avLst/>
          </a:prstGeom>
          <a:solidFill>
            <a:srgbClr val="7aba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895480" y="1143000"/>
            <a:ext cx="990720" cy="380880"/>
          </a:xfrm>
          <a:prstGeom prst="rect">
            <a:avLst/>
          </a:prstGeom>
          <a:solidFill>
            <a:srgbClr val="7aba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14240" y="30492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amifications of Success and Failure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95480" y="11430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0666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48120" y="1676520"/>
            <a:ext cx="54100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ustration                - Perceived Incompet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a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- Negative Responses from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g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14800" y="32004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ralization Syndrom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14800" y="12952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13716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191120" y="13716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6248160" y="13716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1008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971800" y="4267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934320" y="42670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9880" y="4876920"/>
            <a:ext cx="46483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 External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Internal 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d Perceived Compe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Ta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114800" y="4343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44197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266720" y="44956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6629040" y="4495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7391520" y="5457960"/>
            <a:ext cx="1438200" cy="10951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590920" y="5335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abcc2"/>
                </a:solidFill>
                <a:latin typeface="Arial"/>
              </a:rPr>
              <a:t>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14600" y="2438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19920" y="13716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866e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3809880"/>
            <a:ext cx="2895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SELF-ESTEEM (PERS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733920" y="990720"/>
            <a:ext cx="23619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114800" y="1600200"/>
            <a:ext cx="1981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5791320" y="1828800"/>
            <a:ext cx="76176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09880" y="2895480"/>
            <a:ext cx="19814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00400" y="1143000"/>
            <a:ext cx="259092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1722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abcc2"/>
                </a:solidFill>
                <a:latin typeface="Arial"/>
              </a:rPr>
              <a:t>The Three Magic Ingredients of Self-Esteem</a:t>
            </a:r>
            <a:br>
              <a:rPr sz="4000"/>
            </a:b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2362320"/>
            <a:ext cx="48769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568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866e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56866e"/>
                </a:solidFill>
                <a:latin typeface="Arial"/>
              </a:rPr>
              <a:t>Belong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568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866e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56866e"/>
                </a:solidFill>
                <a:latin typeface="Arial"/>
              </a:rPr>
              <a:t>Feeling compet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568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866e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56866e"/>
                </a:solidFill>
                <a:latin typeface="Arial"/>
              </a:rPr>
              <a:t>Feeling worthwhi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2286000" y="1219320"/>
            <a:ext cx="1733400" cy="1238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362320" y="99072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The Three Major Ingredients to Successful Relationships</a:t>
            </a:r>
            <a:br>
              <a:rPr sz="4200"/>
            </a:b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752120" y="2514240"/>
            <a:ext cx="7543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00"/>
                </a:solidFill>
                <a:latin typeface="Arial"/>
              </a:rPr>
              <a:t>Dignity, Respect, Communication</a:t>
            </a:r>
            <a:endParaRPr b="0" lang="en-US" sz="3400" spc="-1" strike="noStrike">
              <a:solidFill>
                <a:srgbClr val="cc0000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6600"/>
                </a:solidFill>
                <a:latin typeface="Arial"/>
              </a:rPr>
              <a:t>- Democratic living is based on mutual respect.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609480" y="3581280"/>
            <a:ext cx="2584440" cy="26672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3366"/>
                </a:solidFill>
                <a:latin typeface="Arial"/>
              </a:rPr>
              <a:t>The Difficulty of Being A Risk Taker</a:t>
            </a:r>
            <a:br>
              <a:rPr sz="4600"/>
            </a:br>
            <a:endParaRPr b="1" lang="en-US" sz="4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905120" y="2209680"/>
            <a:ext cx="7238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he Empty Glass vs. the Full Glass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3657600" y="3962520"/>
            <a:ext cx="371484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6019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6600"/>
                </a:solidFill>
                <a:latin typeface="Arial"/>
              </a:rPr>
              <a:t>The only way to grow is to take risks and get involved.</a:t>
            </a:r>
            <a:br>
              <a:rPr sz="4200"/>
            </a:br>
            <a:endParaRPr b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7391520" y="5457960"/>
            <a:ext cx="1438200" cy="1095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2666880" y="358128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37920" y="457200"/>
            <a:ext cx="6248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3366"/>
                </a:solidFill>
                <a:latin typeface="Arial"/>
              </a:rPr>
              <a:t>Three Critical Beliefs</a:t>
            </a:r>
            <a:br>
              <a:rPr sz="4600"/>
            </a:br>
            <a:endParaRPr b="1" lang="en-US" sz="4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-380880">
              <a:spcBef>
                <a:spcPts val="649"/>
              </a:spcBef>
              <a:buClr>
                <a:srgbClr val="cc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I am a capable person who can change if I choose.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  <a:p>
            <a:pPr lvl="1" marL="838080" indent="-380880">
              <a:spcBef>
                <a:spcPts val="649"/>
              </a:spcBef>
              <a:buClr>
                <a:srgbClr val="cc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My life is significant. (I must realize I’m important). 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  <a:p>
            <a:pPr lvl="1" marL="838080" indent="-380880">
              <a:spcBef>
                <a:spcPts val="649"/>
              </a:spcBef>
              <a:buClr>
                <a:srgbClr val="cc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I must discover that I have the power within.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5114880" y="4267080"/>
            <a:ext cx="1671840" cy="2438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90560" y="45720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ELPFUL BELIEF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9056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Beliefs That Help Children Lead More Effective and Healthy Lives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590560" y="83808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3366"/>
                </a:solidFill>
                <a:latin typeface="Arial"/>
              </a:rPr>
              <a:t>Belief 1: It is Important to Try</a:t>
            </a:r>
            <a:br>
              <a:rPr sz="4600"/>
            </a:br>
            <a:endParaRPr b="1" lang="en-US" sz="4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3086280" y="194328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514600" y="380880"/>
            <a:ext cx="64771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0000"/>
                </a:solidFill>
                <a:latin typeface="Arial"/>
              </a:rPr>
              <a:t>...Only you have the power within you.</a:t>
            </a:r>
            <a:endParaRPr b="0" lang="en-US" sz="30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0000"/>
                </a:solidFill>
                <a:latin typeface="Arial"/>
              </a:rPr>
              <a:t>Just believe in yourself, the sea will part before you.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0000"/>
                </a:solidFill>
                <a:latin typeface="Arial"/>
              </a:rPr>
              <a:t>Stop the rain, turn the tide.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0000"/>
                </a:solidFill>
                <a:latin typeface="Arial"/>
              </a:rPr>
              <a:t>If only you use the power within you, 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0000"/>
                </a:solidFill>
                <a:latin typeface="Arial"/>
              </a:rPr>
              <a:t>You needn’t beg the world to turn around and help you.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0000"/>
                </a:solidFill>
                <a:latin typeface="Arial"/>
              </a:rPr>
              <a:t>If you draw on what you have within you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0000"/>
                </a:solidFill>
                <a:latin typeface="Arial"/>
              </a:rPr>
              <a:t>Somewhere deep inside…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Arial"/>
              </a:rPr>
              <a:t>I AM THE STARLIGHT</a:t>
            </a:r>
            <a:endParaRPr b="0" lang="en-US" sz="2200" spc="-1" strike="noStrike">
              <a:solidFill>
                <a:srgbClr val="cc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Starlight Express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315200" y="5486400"/>
            <a:ext cx="1362240" cy="990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14240" y="456840"/>
            <a:ext cx="6172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Belief 2: Failure is an event, not a person.</a:t>
            </a:r>
            <a:br>
              <a:rPr sz="4400"/>
            </a:b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361960" y="2895120"/>
            <a:ext cx="647676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866e"/>
                </a:solidFill>
                <a:latin typeface="Arial"/>
              </a:rPr>
              <a:t>Mistakes are O.K., one can turn them into lesson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4876920" y="4572000"/>
            <a:ext cx="1447560" cy="1817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438280" y="7617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 “</a:t>
            </a: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Nobody can make you feel inferior without your consent”.</a:t>
            </a:r>
            <a:br>
              <a:rPr sz="4200"/>
            </a:br>
            <a:endParaRPr b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114440" y="2971800"/>
            <a:ext cx="4800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6600"/>
                </a:solidFill>
                <a:latin typeface="Arial"/>
              </a:rPr>
              <a:t>– </a:t>
            </a:r>
            <a:r>
              <a:rPr b="0" lang="en-US" sz="2600" spc="-1" strike="noStrike">
                <a:solidFill>
                  <a:srgbClr val="ff6600"/>
                </a:solidFill>
                <a:latin typeface="Arial"/>
              </a:rPr>
              <a:t>E. Roosevelt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2819520" y="3070080"/>
            <a:ext cx="4362480" cy="3322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09320" y="609120"/>
            <a:ext cx="67820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Only when the mind is ready, the teacher appears.</a:t>
            </a:r>
            <a:br>
              <a:rPr sz="4400"/>
            </a:b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2666880"/>
            <a:ext cx="39625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6866e"/>
                </a:solidFill>
                <a:latin typeface="Arial"/>
              </a:rPr>
              <a:t>– </a:t>
            </a:r>
            <a:r>
              <a:rPr b="0" lang="en-US" sz="2600" spc="-1" strike="noStrike">
                <a:solidFill>
                  <a:srgbClr val="56866e"/>
                </a:solidFill>
                <a:latin typeface="Arial"/>
              </a:rPr>
              <a:t>Zen Expr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133720" y="2666880"/>
            <a:ext cx="1609560" cy="1609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0" y="457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6abcc2"/>
                </a:solidFill>
                <a:latin typeface="Arial"/>
              </a:rPr>
              <a:t>Belief 3: It is O.K. to Make Mistakes</a:t>
            </a:r>
            <a:br>
              <a:rPr sz="5200"/>
            </a:br>
            <a:endParaRPr b="1" lang="en-US" sz="5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6419880" y="4133880"/>
            <a:ext cx="2724120" cy="27241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133720" y="2362320"/>
            <a:ext cx="3200400" cy="3058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880" y="5331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Belief 4: I am responsible for my day.</a:t>
            </a:r>
            <a:br>
              <a:rPr sz="4800"/>
            </a:b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5638680" y="2286000"/>
            <a:ext cx="3333960" cy="3333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14600" y="761760"/>
            <a:ext cx="6324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56866e"/>
                </a:solidFill>
                <a:latin typeface="Arial"/>
              </a:rPr>
              <a:t>Belief 5: I can handle it when things go wrong.</a:t>
            </a:r>
            <a:br>
              <a:rPr sz="5200"/>
            </a:br>
            <a:endParaRPr b="1" lang="en-US" sz="5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648320" y="3390840"/>
            <a:ext cx="2724120" cy="3467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6600"/>
                </a:solidFill>
                <a:latin typeface="Arial"/>
              </a:rPr>
              <a:t>Success is a journey…not a destination.</a:t>
            </a:r>
            <a:br>
              <a:rPr sz="5600"/>
            </a:br>
            <a:endParaRPr b="1" lang="en-US" sz="5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7391520" y="5457960"/>
            <a:ext cx="1438200" cy="1095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 rot="21138000">
            <a:off x="4572000" y="3352680"/>
            <a:ext cx="2095560" cy="3333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514240" y="685800"/>
            <a:ext cx="6248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Belief 6: Other people are O.K. and I am O.K.</a:t>
            </a:r>
            <a:br>
              <a:rPr sz="4800"/>
            </a:br>
            <a:endParaRPr b="1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4038480" y="2895480"/>
            <a:ext cx="2990880" cy="3333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43200" y="12193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cc0000"/>
                </a:solidFill>
                <a:latin typeface="Arial"/>
              </a:rPr>
              <a:t>Belief 7: I am capable.</a:t>
            </a:r>
            <a:br>
              <a:rPr sz="5600"/>
            </a:br>
            <a:endParaRPr b="1" lang="en-US" sz="5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4572000" y="3141720"/>
            <a:ext cx="243828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90560" y="837720"/>
            <a:ext cx="6172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en-US" sz="4200" spc="-1" strike="noStrike">
                <a:solidFill>
                  <a:srgbClr val="003366"/>
                </a:solidFill>
                <a:latin typeface="Arial"/>
              </a:rPr>
              <a:t>Where a person’s treasure lies, the heart will be.”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590560" y="31237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A person’s uniqueness is his/her treasure</a:t>
            </a:r>
            <a:endParaRPr b="0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228600" y="3352680"/>
            <a:ext cx="3333600" cy="3333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971800" y="228600"/>
            <a:ext cx="426708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76212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71800" y="22860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31240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38862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71800" y="47242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71800" y="15238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3808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bble"/>
              </a:rPr>
              <a:t>I 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0040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bble"/>
              </a:rPr>
              <a:t>I can handl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43434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bble"/>
              </a:rPr>
              <a:t>I can handl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51055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bble"/>
              </a:rPr>
              <a:t>I can handl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35053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bble"/>
              </a:rPr>
              <a:t>I can handl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27432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bble"/>
              </a:rPr>
              <a:t>I can handl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19051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bble"/>
              </a:rPr>
              <a:t>I can handl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437920" y="761760"/>
            <a:ext cx="6172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3366"/>
                </a:solidFill>
                <a:latin typeface="Arial"/>
              </a:rPr>
              <a:t>Empowerment </a:t>
            </a:r>
            <a:br>
              <a:rPr sz="5600"/>
            </a:br>
            <a:endParaRPr b="1" lang="en-US" sz="5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7391520" y="5457960"/>
            <a:ext cx="1438200" cy="10951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124080" y="3619440"/>
            <a:ext cx="2667240" cy="18669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6754680" y="2057400"/>
            <a:ext cx="1919520" cy="2590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56866e"/>
                </a:solidFill>
                <a:latin typeface="Arial"/>
              </a:rPr>
              <a:t>What Children Need for Empowerment</a:t>
            </a:r>
            <a:br>
              <a:rPr sz="3800"/>
            </a:br>
            <a:endParaRPr b="1" lang="en-US" sz="3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90720" y="1371600"/>
            <a:ext cx="59436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6abc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abcc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nity…Resp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affirmation of dr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eams and a commitment can change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6629400" y="1752480"/>
            <a:ext cx="2247840" cy="24768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7467480" y="1371600"/>
            <a:ext cx="1181160" cy="10382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0920" y="4572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Guidelines in Enhancing Motivation in Children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2666880" y="1676520"/>
            <a:ext cx="60962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685800" indent="-2286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Reduce social comparison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Increase involvement in learning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Focus on effort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Promote beliefs in competence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Increase chances for success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514600" y="53352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inciples for Enhancing Self Concept in Children</a:t>
            </a:r>
            <a:br>
              <a:rPr sz="3200"/>
            </a:b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2057400" y="1752120"/>
            <a:ext cx="67816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628560" indent="-1713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isten to and acknowledge children’s thoughts and feelings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elp children experience success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Give children reasonable control over their lives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Demonstrate to children that they’re lovable and capable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“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Model” a health and positive self concept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33520" y="1447920"/>
            <a:ext cx="178740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09320" y="457200"/>
            <a:ext cx="6705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abcc2"/>
                </a:solidFill>
                <a:latin typeface="Arial"/>
              </a:rPr>
              <a:t>Increase Chances for Success</a:t>
            </a:r>
            <a:br>
              <a:rPr sz="3200"/>
            </a:b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743200" y="1523880"/>
            <a:ext cx="60199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56866e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866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56866e"/>
                </a:solidFill>
                <a:latin typeface="Arial"/>
              </a:rPr>
              <a:t>Provide skill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56866e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866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56866e"/>
                </a:solidFill>
                <a:latin typeface="Arial"/>
              </a:rPr>
              <a:t>Use peer tu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56866e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866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56866e"/>
                </a:solidFill>
                <a:latin typeface="Arial"/>
              </a:rPr>
              <a:t>Use cooperative team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56866e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866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56866e"/>
                </a:solidFill>
                <a:latin typeface="Arial"/>
              </a:rPr>
              <a:t>Use individualized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56866e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866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56866e"/>
                </a:solidFill>
                <a:latin typeface="Arial"/>
              </a:rPr>
              <a:t>Teach self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56866e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866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56866e"/>
                </a:solidFill>
                <a:latin typeface="Arial"/>
              </a:rPr>
              <a:t>Teach and promote positive self t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The Man in the Glass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14600" y="837720"/>
            <a:ext cx="6324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When you get what you want in your struggle for self</a:t>
            </a:r>
            <a:endParaRPr b="0" lang="en-US" sz="1500" spc="-1" strike="noStrike">
              <a:solidFill>
                <a:srgbClr val="cc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And the world makes you king for a day,</a:t>
            </a:r>
            <a:endParaRPr b="0" lang="en-US" sz="1500" spc="-1" strike="noStrike">
              <a:solidFill>
                <a:srgbClr val="cc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Just go to the mirror and look at yourself</a:t>
            </a:r>
            <a:endParaRPr b="0" lang="en-US" sz="1500" spc="-1" strike="noStrike">
              <a:solidFill>
                <a:srgbClr val="cc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And see what that man has to say</a:t>
            </a:r>
            <a:endParaRPr b="0" lang="en-US" sz="1500" spc="-1" strike="noStrike">
              <a:solidFill>
                <a:srgbClr val="cc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cc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For it isn’t your father or mother or wife</a:t>
            </a:r>
            <a:endParaRPr b="0" lang="en-US" sz="1500" spc="-1" strike="noStrike">
              <a:solidFill>
                <a:srgbClr val="cc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Whose judgment upon you must pass</a:t>
            </a:r>
            <a:endParaRPr b="0" lang="en-US" sz="1500" spc="-1" strike="noStrike">
              <a:solidFill>
                <a:srgbClr val="cc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The fellow whose verdict counts most in your life</a:t>
            </a:r>
            <a:endParaRPr b="0" lang="en-US" sz="1500" spc="-1" strike="noStrike">
              <a:solidFill>
                <a:srgbClr val="cc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Is the one staring back from the glass</a:t>
            </a:r>
            <a:endParaRPr b="0" lang="en-US" sz="1500" spc="-1" strike="noStrike">
              <a:solidFill>
                <a:srgbClr val="cc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cc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You may be like Jack Horner and chisel a plum</a:t>
            </a:r>
            <a:endParaRPr b="0" lang="en-US" sz="1500" spc="-1" strike="noStrike">
              <a:solidFill>
                <a:srgbClr val="cc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And think you’re a wonderful guy.</a:t>
            </a:r>
            <a:endParaRPr b="0" lang="en-US" sz="1500" spc="-1" strike="noStrike">
              <a:solidFill>
                <a:srgbClr val="cc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But the man in the glass says you’re only a bum</a:t>
            </a:r>
            <a:endParaRPr b="0" lang="en-US" sz="1500" spc="-1" strike="noStrike">
              <a:solidFill>
                <a:srgbClr val="cc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If you can’t look him straight in the eye.</a:t>
            </a:r>
            <a:endParaRPr b="0" lang="en-US" sz="1500" spc="-1" strike="noStrike">
              <a:solidFill>
                <a:srgbClr val="cc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cc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You may fool the whole world down the pathway of years</a:t>
            </a:r>
            <a:endParaRPr b="0" lang="en-US" sz="1500" spc="-1" strike="noStrike">
              <a:solidFill>
                <a:srgbClr val="cc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And get pats on the back as you pass.</a:t>
            </a:r>
            <a:endParaRPr b="0" lang="en-US" sz="1500" spc="-1" strike="noStrike">
              <a:solidFill>
                <a:srgbClr val="cc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But your final reward will be heartache and tears</a:t>
            </a:r>
            <a:endParaRPr b="0" lang="en-US" sz="1500" spc="-1" strike="noStrike">
              <a:solidFill>
                <a:srgbClr val="cc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If you’ve cheated the man in the glass.</a:t>
            </a:r>
            <a:endParaRPr b="0" lang="en-US" sz="1500" spc="-1" strike="noStrike">
              <a:solidFill>
                <a:srgbClr val="cc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cc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He’s the fellow to please – never mind all the rest,</a:t>
            </a:r>
            <a:endParaRPr b="0" lang="en-US" sz="1500" spc="-1" strike="noStrike">
              <a:solidFill>
                <a:srgbClr val="cc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For he’s with you clear to the end.</a:t>
            </a:r>
            <a:endParaRPr b="0" lang="en-US" sz="1500" spc="-1" strike="noStrike">
              <a:solidFill>
                <a:srgbClr val="cc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And you’ve passed your most dangerous, difficult test</a:t>
            </a:r>
            <a:endParaRPr b="0" lang="en-US" sz="1500" spc="-1" strike="noStrike">
              <a:solidFill>
                <a:srgbClr val="cc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If the man in the glass is your friend.</a:t>
            </a:r>
            <a:endParaRPr b="0" lang="en-US" sz="1500" spc="-1" strike="noStrike">
              <a:solidFill>
                <a:srgbClr val="cc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cc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~ Author Unknown</a:t>
            </a:r>
            <a:endParaRPr b="0" lang="en-US" sz="1500" spc="-1" strike="noStrike">
              <a:solidFill>
                <a:srgbClr val="cc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cc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6934320" y="1295280"/>
            <a:ext cx="1909800" cy="1981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971800" y="228600"/>
            <a:ext cx="426708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76212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71800" y="22860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71800" y="31240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71800" y="38862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71800" y="47242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15238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3808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bble"/>
              </a:rPr>
              <a:t>I 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11430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bble"/>
              </a:rPr>
              <a:t>I can</a:t>
            </a:r>
            <a:r>
              <a:rPr b="0" lang="en-US" sz="2800" spc="-1" strike="noStrike">
                <a:solidFill>
                  <a:srgbClr val="000000"/>
                </a:solidFill>
                <a:latin typeface="Jolt"/>
              </a:rPr>
              <a:t>’t</a:t>
            </a:r>
            <a:r>
              <a:rPr b="0" lang="en-US" sz="2800" spc="-1" strike="noStrike">
                <a:solidFill>
                  <a:srgbClr val="000000"/>
                </a:solidFill>
                <a:latin typeface="Scribble"/>
              </a:rPr>
              <a:t> handl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71800" y="43434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bble"/>
              </a:rPr>
              <a:t>I can</a:t>
            </a:r>
            <a:r>
              <a:rPr b="0" lang="en-US" sz="2800" spc="-1" strike="noStrike">
                <a:solidFill>
                  <a:srgbClr val="000000"/>
                </a:solidFill>
                <a:latin typeface="Jolt"/>
              </a:rPr>
              <a:t>’t</a:t>
            </a:r>
            <a:r>
              <a:rPr b="0" lang="en-US" sz="2800" spc="-1" strike="noStrike">
                <a:solidFill>
                  <a:srgbClr val="000000"/>
                </a:solidFill>
                <a:latin typeface="Scribble"/>
              </a:rPr>
              <a:t> handl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5105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bble"/>
              </a:rPr>
              <a:t>I can</a:t>
            </a:r>
            <a:r>
              <a:rPr b="0" lang="en-US" sz="2800" spc="-1" strike="noStrike">
                <a:solidFill>
                  <a:srgbClr val="000000"/>
                </a:solidFill>
                <a:latin typeface="Jolt"/>
              </a:rPr>
              <a:t>’t</a:t>
            </a:r>
            <a:r>
              <a:rPr b="0" lang="en-US" sz="2800" spc="-1" strike="noStrike">
                <a:solidFill>
                  <a:srgbClr val="000000"/>
                </a:solidFill>
                <a:latin typeface="Scribble"/>
              </a:rPr>
              <a:t> handl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35053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bble"/>
              </a:rPr>
              <a:t>I can</a:t>
            </a:r>
            <a:r>
              <a:rPr b="0" lang="en-US" sz="2800" spc="-1" strike="noStrike">
                <a:solidFill>
                  <a:srgbClr val="000000"/>
                </a:solidFill>
                <a:latin typeface="Jolt"/>
              </a:rPr>
              <a:t>’t</a:t>
            </a:r>
            <a:r>
              <a:rPr b="0" lang="en-US" sz="2800" spc="-1" strike="noStrike">
                <a:solidFill>
                  <a:srgbClr val="000000"/>
                </a:solidFill>
                <a:latin typeface="Scribble"/>
              </a:rPr>
              <a:t> handl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27432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bble"/>
              </a:rPr>
              <a:t>I can</a:t>
            </a:r>
            <a:r>
              <a:rPr b="0" lang="en-US" sz="2800" spc="-1" strike="noStrike">
                <a:solidFill>
                  <a:srgbClr val="000000"/>
                </a:solidFill>
                <a:latin typeface="Jolt"/>
              </a:rPr>
              <a:t>’t</a:t>
            </a:r>
            <a:r>
              <a:rPr b="0" lang="en-US" sz="2800" spc="-1" strike="noStrike">
                <a:solidFill>
                  <a:srgbClr val="000000"/>
                </a:solidFill>
                <a:latin typeface="Scribble"/>
              </a:rPr>
              <a:t> handl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190512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bble"/>
              </a:rPr>
              <a:t>I can</a:t>
            </a:r>
            <a:r>
              <a:rPr b="0" lang="en-US" sz="2800" spc="-1" strike="noStrike">
                <a:solidFill>
                  <a:srgbClr val="000000"/>
                </a:solidFill>
                <a:latin typeface="Jolt"/>
              </a:rPr>
              <a:t>’t</a:t>
            </a:r>
            <a:r>
              <a:rPr b="0" lang="en-US" sz="2800" spc="-1" strike="noStrike">
                <a:solidFill>
                  <a:srgbClr val="000000"/>
                </a:solidFill>
                <a:latin typeface="Scribble"/>
              </a:rPr>
              <a:t> handl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762120"/>
            <a:ext cx="7010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866e"/>
                </a:solidFill>
                <a:latin typeface="Arial"/>
              </a:rPr>
              <a:t> “</a:t>
            </a:r>
            <a:r>
              <a:rPr b="1" lang="en-US" sz="4200" spc="-1" strike="noStrike">
                <a:solidFill>
                  <a:srgbClr val="56866e"/>
                </a:solidFill>
                <a:latin typeface="Arial"/>
              </a:rPr>
              <a:t>The greatest evil that can befall man is that he should come to think evil of himself.”</a:t>
            </a:r>
            <a:br>
              <a:rPr sz="4200"/>
            </a:br>
            <a:endParaRPr b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3124080"/>
            <a:ext cx="304776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Goet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057400" y="304812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545160" y="3886200"/>
            <a:ext cx="2405160" cy="2703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456840"/>
            <a:ext cx="60962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6600"/>
                </a:solidFill>
                <a:latin typeface="Arial"/>
              </a:rPr>
              <a:t>The Suitcase of Doom</a:t>
            </a:r>
            <a:br>
              <a:rPr sz="5600"/>
            </a:br>
            <a:endParaRPr b="1" lang="en-US" sz="5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895480" y="3200400"/>
            <a:ext cx="3657600" cy="1886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6324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3366"/>
                </a:solidFill>
                <a:latin typeface="Arial"/>
              </a:rPr>
              <a:t> “</a:t>
            </a:r>
            <a:r>
              <a:rPr b="1" lang="en-US" sz="4600" spc="-1" strike="noStrike">
                <a:solidFill>
                  <a:srgbClr val="003366"/>
                </a:solidFill>
                <a:latin typeface="Arial"/>
              </a:rPr>
              <a:t>How to survive and not be a victim of failure.”</a:t>
            </a:r>
            <a:br>
              <a:rPr sz="4600"/>
            </a:br>
            <a:endParaRPr b="1" lang="en-US" sz="4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867280" y="2289240"/>
            <a:ext cx="2992680" cy="2027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18:40:34Z</dcterms:created>
  <dc:creator>Adminassist2</dc:creator>
  <dc:description/>
  <dc:language>en-US</dc:language>
  <cp:lastModifiedBy>Faculty</cp:lastModifiedBy>
  <dcterms:modified xsi:type="dcterms:W3CDTF">2006-02-23T17:26:16Z</dcterms:modified>
  <cp:revision>137</cp:revision>
  <dc:subject/>
  <dc:title>Rainbow Crayons</dc:title>
</cp:coreProperties>
</file>