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026-1548-4307-A224-1ECE4695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F44-C372-46BD-8EED-BD0FAB8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B2CAE-11FC-4B5B-A054-E3FEB724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947DB-F417-41D2-8892-C8C14CAF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C0779-48EA-488B-BC67-F96AC62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84E62-CE4B-469D-A4F5-4D8AF10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019E1-78CE-411F-B761-E8D609B5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9DEC1-7519-4883-94B0-3B75563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D02FD-DE10-46D8-93AD-803E5674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A1975-1F37-40EF-A774-9948F16B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1C067-3906-4790-98B3-13F286CC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FC083-9978-43C6-8914-756E255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721-1256-4E2F-A2E4-2E0707FD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139BF-D4F4-44A7-900D-13C4C482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67631-730E-4290-BEEC-0DE4C077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0927B-D246-427C-8E3E-B20900D9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ABB64-F0EE-49CF-8B85-E04C7BC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A6C27-D270-4311-873F-2E096DD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0F7E5-4135-4C5D-BAEE-8822F0A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41D48-8281-427D-A017-B00D3E5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6468A-1CD2-47C3-951F-D4399AE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999F4-4A3E-448C-86BA-A2D37E7B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C2C1C-B270-4F7F-8F2F-25FAAE25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EAF-4BEC-4866-94B3-2EB40EB4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F574B-D5E0-4C7A-B89E-CDB0AB51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9478D-8BA7-43C0-889F-C8250E1C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067E0-4DCB-42BE-B327-AEA70BA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06F9C-FD67-4224-A62D-09F5F54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35A79-430E-417B-B9E8-70324483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D8B68-EFB0-41D1-9712-1D44BAA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6ACD1-DA57-411A-AB10-255C4E6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12A2-CC22-4784-B7D5-70AE2F1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71EF-D686-4207-875A-C77FA2A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2157B-3E33-46C2-8882-2A22CF5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F815-CAC3-4B88-B4CA-1C257B88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10B0D-5BF7-4BF3-A761-2C7C3BDE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5151-AD47-4842-AFB0-BB4C31E8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F70D-0902-4308-9211-1B1E9837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B432-5566-436E-B37E-ACF888F6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85D-B4B1-484B-8203-A8885AAA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417B-695D-4BDD-B596-AF99C29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7FE6-5481-4C75-A658-A9FAC06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25C-3DAC-45DD-B572-16E39C2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47C2-CB1F-47D1-91CE-AF694DB9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853-7674-431B-94EE-19B21D17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7AE0-FF35-496F-A2E8-39F6CB9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A6BA-E169-4EB7-8D53-20C7A9B9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9B35-9AE7-49A0-B1D9-09CDE5C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D5B-9353-467D-8EC6-C91537A1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50FE-2B3E-467E-ABC5-F954029D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3C1B-DCF0-452B-9651-30B37A1E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4F17-21E0-47DA-ABBE-12DAEE2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B48D-5A0A-4D8F-AA87-733E9B0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E383-F6CD-4581-899C-90C8965C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C778-E69C-473A-AB66-D93D81DD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28B-E342-4615-9AAD-471E2E5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FD216-2A1F-4A68-9FFC-71279D7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ABAA-A076-4828-9B8E-77391D8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1D8F-D9E1-46C2-916A-4E0EB34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1916-461A-4414-8B90-F3FBD12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DCCD-9154-4251-959B-494D2AAB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84FB-77FA-4DE7-A7AA-55C2A78A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FD25-22AB-47F9-9C94-75168F02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832E-9A13-4BB1-98D3-A5FD1C80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111B-DFB8-46B0-B7BE-1E5DA3F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C9E8-0EDB-4AAA-A4E9-D646A74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FB7-F50E-4870-8F3A-3D24FBBE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4576D-D9BA-4F9B-B346-278C9FC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F7A2-42D6-4F39-ACB7-C042EB03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9D5F-5170-4239-962F-B285CD59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15DE-5FF1-4EDA-A182-DFE7830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0FE7-6B9A-42DB-8736-62E9CAE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F03D-6E59-4302-98B4-09815F6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99968-A7A3-44F6-8749-A49F73B3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8E6D-1BB1-44A7-933C-097CCAED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B162-D667-4B51-9DE6-D37FF8D2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E731-ED58-4B77-8610-9B84116E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C71-BC6D-43D1-8DD8-9730F5B2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0098-8F73-481E-AFEC-23ABBB93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FF91-F41A-42DD-8D28-8ADD9F22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9C82-3F7B-431F-BB49-00F9724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8F4E-0B0A-4EC3-9490-DD23E07B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C4CB-0F88-4A35-8B49-F4ABF3EE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9445-7748-4CC1-AB2F-E352A9C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0CBF-B823-4C40-82F1-8929564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1A16-E210-4587-9EC9-405886D9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C324-C532-4699-8370-60BB3DB7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AF382-15CB-4F14-B24B-3619A668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C89-5225-4D24-BFBD-A7F9B20A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C301-3A2F-4C8A-9B83-0CF70B18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8250-1E75-4BE2-A8A6-88150C2B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492C6-615B-4F6A-A7E6-2C53A401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1ABE-9FEA-4DEA-89E1-D2EE1D4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2BF3F-FDC7-441E-9990-6D316F8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F5C8-443A-42BE-9518-538770A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2D0C-67B1-4314-A9AB-4C53889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742A3-2F17-460E-A8CA-CD00BEF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6C412-0D3C-4390-B9F9-BC54C8C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94EE-D499-4E01-9194-0440FE3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EE8-FEC6-4691-9782-0C3AD52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00E1E-4E71-4CBA-B2E4-EEBE946E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1AE9-3D29-4D36-9D6B-EB8FDF14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C821-7072-4D00-A8C3-081DE25D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A279-DCE3-4715-ADEC-1858C589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F4A8-C2E6-4322-B1AA-7D231F9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4C192-5451-49E6-8EF2-A3F70DF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3E35-0752-4FE3-B527-AC1B9F4A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2F5D-4441-454E-B938-F8607BD7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74C0A-0055-4FBF-BA00-68AEF2E2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6B01-9CFA-4A39-9B71-55D6289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A90-58BF-46D0-A3FD-CB5E4B6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C0A4-E9DF-4892-9AEB-0BDC84B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94ED-031F-41C4-B677-C88EEAF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D00C-2D6A-4800-B69A-8E95E3B2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27E0-29D5-43BB-88F4-1EBA4969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0F72-ACFD-4DD6-BB33-31608DB1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DF2BD-C664-4E5F-8CD0-5BC1B0F6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A23E-642D-4D89-BEB4-5C60BB1C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D7374-3750-4125-AEB7-69E5956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370E-BAE7-4FDC-9275-5C144D5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6C6A7-7051-48E1-8074-106EC6F4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5D3-EB5D-45E5-B6EE-DDB4499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8F55-BE9A-48D2-B4D2-0D27E268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B703-CC0B-49BC-97FF-AF65760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8301-CB39-4F40-8981-2DC9C0D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E0AC7-0CDF-4F44-847B-A8E8D1C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1D311-1A82-4485-8960-70EF3690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2315-E645-4F9E-8203-07A15AC5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9DC79-C412-4998-8604-998CD9D8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DC9C3-3DAC-437A-A84A-A0AB2AB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E1456-47E0-4250-9440-6F18847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C6B78-E95B-40F7-B903-1376721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704-0F88-4FFF-967E-6A98EB7DCC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5D24-69FC-40BB-A7B0-6EB5A614853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1843-4BF9-4FB5-97C9-B926A9103C4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7947-277A-4BA6-B9EF-FF0722BF91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5401-9F49-4B15-A52C-CAEEAE47A1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275-B107-4FD9-9542-820DD660A3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45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E5C-90F8-4673-B18C-6E80667BC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2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3DED-38BE-45ED-B298-9166BFF9D1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A10-6924-4ABF-AA8F-EF8EDFA5FB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2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4703-6E9B-46C6-981F-94563497AB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6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0A0-DF36-4054-9D5A-94B482F90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viro"/>
              </a:rPr>
              <a:t>Child Abuse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viro"/>
              </a:rPr>
              <a:t>Neg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nviro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7680" y="1714680"/>
            <a:ext cx="778824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Boys are at a greater risk of serious injury and of emotional neglect than girl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Girls are sexually about three times more often the boy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Children with disabilities are 4 to 10 times more vulnerable to sexual abuse than their non-disabled peer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The younger victims of sexual abuse are most likely to be black, while the older victims were mostly Asian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Sexual Abuse of Childr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In 2000 younger children represented most of the maltreated victims. </a:t>
            </a:r>
            <a:r>
              <a:rPr b="0" lang="en-US" sz="12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Re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Most than half of maltreatment victims were white in 2000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Rein)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atistic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0,001 victims in 44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:  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:  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 2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e Grou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3: 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7:  27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11:  21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and over:  22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der of Victi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 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 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tistics continued 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Angeles County Statistics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9,436 victim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:  12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 36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:  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e Grou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4:  2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2:  47.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and over:  23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der of Victi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 4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 51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457360" cy="365760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Maiandra GD"/>
              </a:rPr>
              <a:t>Causes of Child Maltreat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Un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Spous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Caring for children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Toilet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Cultural customs</a:t>
            </a: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sychological Impact of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self-este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strust/F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or Interpersonal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bility to experience plea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bility to experience and express feel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gression/Impulsiv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Blame/Guil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lings of loss/rej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lpless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ap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 of defense mech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maged goods syndrome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feels physically, emotionally, and socially damag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self-mastery and contr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hild feels helpless as a result of the violation of his/her body and priv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77120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ger/Host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bivalent feelings toward the perpet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bivalent feelings toward the non-offending pa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lure to complete developmental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ars concerning the reactions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is concerned about the responses of siblings, friends, et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5080" y="17524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ppropriate boy-girl relationships / Acting-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hild mistrusts others the same sex as the perpetrator, displays inappropriate sexualized behavior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havioral extre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destructive behavi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6094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sychological Impac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Maiandra GD"/>
              </a:rPr>
              <a:t>Cross-culture definition of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Maiandra GD"/>
              </a:rPr>
              <a:t>Child Maltreatmen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167652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Defining child maltreatment cross culturally is difficult because of cultural traditions and custom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The Convention the Rights of  the  Child  was adopted by the UN in 1989, setting the rights of children and establishing minimum standards for the protection of  childr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2080" y="2476440"/>
            <a:ext cx="69498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France and England both have define positions on child maltreatment and have made strong effort to preve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African and Latin American nations position vary regarding the subject of child maltreatment because of the diverse cultures in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China has a very Western view of children, however the Chinese leaders believe that it is the states responsibility to provide child c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05640" y="1201680"/>
            <a:ext cx="557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aiandra GD"/>
              </a:rPr>
              <a:t>Overview of Global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133720" cy="1490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1514520" cy="1600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3200400" y="838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7772400" y="6858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flipV="1">
            <a:off x="838080" y="14479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8380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800600" y="9907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13716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76520" y="190512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Chil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58360" y="21337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4720" y="20574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Preven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304812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Reach out, anything you do to support kids and parents ca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help relieve the stress that often leads to abuse and negl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Report any suspected child ab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Educate yourself and others and help prevent chil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maltreatment in your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Available programs and service in communities specifically to help strengthen families, create positive and non abusive h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14300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member the risk factors. Child abuse and neglect occur in all segments of our society but the risk factors are greater in families where par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76520" y="25909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May have</a:t>
            </a:r>
            <a:r>
              <a:rPr b="0" lang="en-US" sz="2000" spc="-1" strike="noStrike">
                <a:solidFill>
                  <a:srgbClr val="99ccff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economic, housing or person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Isolation from family o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Have difficulty dealing with physical or 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   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health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Abuse of alcohol or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Appear to be uninterested in the well being of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   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895480" cy="17557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904760" cy="272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03" name=""/>
          <p:cNvSpPr/>
          <p:nvPr/>
        </p:nvSpPr>
        <p:spPr>
          <a:xfrm>
            <a:off x="3781440" y="1725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nviro"/>
              </a:rPr>
              <a:t>Child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266688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nviro"/>
              </a:rPr>
              <a:t>Every human being below the age of 18 years unless under the law applicable to the child majority is attained earl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0666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rifa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cognize the warning signs, the behavior of a child may signal abuse or neglect long before any change in physical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124080" cy="19778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584" name=""/>
          <p:cNvSpPr/>
          <p:nvPr/>
        </p:nvSpPr>
        <p:spPr>
          <a:xfrm>
            <a:off x="1660680" y="3292560"/>
            <a:ext cx="5425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55760" y="3216240"/>
            <a:ext cx="565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3048120"/>
            <a:ext cx="6035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Nervousness around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Aggression towards adults and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Unnatural interest in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Frequent or unexpected inju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Low self 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Poo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Dramatic change in personality 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Inability to concentrate for long periods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apy groups furnish children with opportunities for improving their social skills, developing satisfactory interpersonal relationships, and increasing self-awareness and empathy.  Group therapy is most effective with preadolescents and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lay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play therapy provides children with a safe environment and allows them to use familiar play materials to express feelings.  Play therapy is particularly beneficial for preschool- and school-aged children who are unable to verbalize their feelings or who have severe psychological or behavior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eatment continued 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therapy gives children the individual attention and support they may need to identify and resolve psychological issues related to abu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ru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he ability to delay grat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hancing self-este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roving the ability to verbalize feelings and confli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he capacity for pleas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reaking the Cycle . . .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society can do to help and protect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unity Child Advoc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more about chil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ublic forums to educate you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, or organize a child advocac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 that all types of youth services are providing thorough background checks on employees and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abuse prevention curricula in all schools, beginning in the Kindergarte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where and how to check for sex offender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and encourage others to report, suspected child abuse to local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reaking the Cycle continued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nanci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ate time or money to non-profit advocacy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fund raisers for non-profi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ild Protection Legis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State and Feder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ct the Alaska Resolution in your state, to reject the controversial research on the impact of chil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up to date on pending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your legislators and let them know how you want them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the word to friends, and get more peopl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647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Kristen ITC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3276360" y="2895480"/>
            <a:ext cx="4647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bel Bk BT"/>
              </a:rPr>
              <a:t>Child abuse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bel Bk BT"/>
              </a:rPr>
              <a:t>Education through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Film and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Newspapers and Magaz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Enviro"/>
              </a:rPr>
              <a:t>What is child ab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nviro"/>
              </a:rPr>
              <a:t>The bad treatment of a child by a parent, caretaker, some one living in their home or someone who works with or around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nviro"/>
              </a:rPr>
              <a:t>Abuse of a child is anything that causes injury or puts the child in danger of physical inju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inition of Child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abuse has occurred when one or more of the four types of abuse have been identified.  The four types of abus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inition of child abuse varies from state to state, but the main concepts of each definition remain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24382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Physic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infliction of physical harm from the interaction or lack of interaction of a child by a person in a position of auth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4038480"/>
            <a:ext cx="4359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Sexu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involvement of sexual activity of a child and an adult that he or she may not fully comprehend, may not be able to give their consent, or violates the laws or taboos of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2438280"/>
            <a:ext cx="4267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Emotion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failure to provide a child developmentally appropriate, supportive</a:t>
            </a:r>
            <a:r>
              <a:rPr b="0" lang="en-US" sz="2400" spc="-1" strike="noStrike">
                <a:solidFill>
                  <a:srgbClr val="000000"/>
                </a:solidFill>
                <a:latin typeface="Envir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environment cognitively, mentally or emotion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37040" y="4005360"/>
            <a:ext cx="420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Depriving a child of their basic needs. This including the failure to provide for the development of the child in all spheres: health, education, nutrition, emotional development, shelter, and safe liv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 Refers to intentional behavior directed toward the child by the parents of caretaker to cause pain, injury, or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:  Refers to any sexual activity that involves exposure of genitalia, fondling, intercourse, oral sex, or por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:  Refers to the a nonphysical and non-sexual abuse of child which may include a steady diet of putdowns, humiliation, labeling, name calling, scapegoating, and l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ypes of Abuse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. .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2304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:  Refers to the disregard for the psychological needs of a child which may include demanding excessive responsibility, seductive behavior, ignoring, fear-inducing techniques, unrealistic expectations, and extreme inconsistenc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ur types of abuse are interrelated, meaning that one type of abuse my cause another such as psycholog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nviro"/>
              </a:rPr>
              <a:t>Examples of Child Abuse: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76240" y="2142720"/>
            <a:ext cx="6904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hysic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hitting, shaking, burns, human bites, strang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xu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ondling, intercourse, incest, rape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rostitution or pornograph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motion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elittling, constant disapproval, and teas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eglect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ailure to provide food, shelter, clothing, abandonment, inadequate supervision, and the allowance of drug or alcohol to be used by the child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Enviro"/>
              </a:rPr>
              <a:t>Child Abuse in the United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2752560"/>
          <a:ext cx="40384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1900080" y="2054160"/>
          <a:ext cx="5389560" cy="393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2054160"/>
                    <a:ext cx="538956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6077520" y="6273720"/>
            <a:ext cx="22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Georgia"/>
              </a:rPr>
              <a:t>Child Abuse and Neglect</a:t>
            </a:r>
            <a:r>
              <a:rPr b="0" lang="en-US" sz="1000" spc="-1" strike="noStrike">
                <a:solidFill>
                  <a:srgbClr val="ffffcc"/>
                </a:solidFill>
                <a:latin typeface="Georgia"/>
              </a:rPr>
              <a:t>, Rei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04:06Z</dcterms:created>
  <dc:creator>brandy</dc:creator>
  <dc:description/>
  <dc:language>en-US</dc:language>
  <cp:lastModifiedBy>ahfine</cp:lastModifiedBy>
  <dcterms:modified xsi:type="dcterms:W3CDTF">2006-01-11T08:25:25Z</dcterms:modified>
  <cp:revision>10</cp:revision>
  <dc:subject/>
  <dc:title>Child Abuse 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