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B12-F5BF-477A-86A6-0E53A195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5D7-B889-45DE-ABF6-AACB1C5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178-60BE-4D97-81DB-B2CBCA27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81B-706C-4AE9-993B-6548D63C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1957-5AB8-4567-A1A3-13C5100E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F4E6-F65E-4A63-860D-BBB65CB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ECA7-55DF-4808-A2DF-E22B5B37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B0A8-330A-4B9E-A43F-740C2EDF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CDDD-3D56-4089-B73F-04832822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6759-5C6A-48A9-B0E2-7C73FD6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7368-67EE-49B3-97A1-1939066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70E-D6DC-43F8-8AFC-B3D374C5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3CCD-6AEE-4EA7-9023-60B29C7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61E-518E-4245-AB30-388679F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5FC-50CB-47BD-9FDD-E0AA8BED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B18A-2BDD-4EA8-BD10-86BFA324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2BD9-4F21-462A-A8A7-B606C42C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6C9-0622-4510-B5F1-0877CD9D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843-13E2-485E-BDD3-07AB4A9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258-D000-4007-BC9C-E85DCFE8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88F-4E00-4382-A418-827825F5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17A-4362-43A4-9D43-D7A2691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5BE-AFB5-4D23-B886-CFC33DD6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144-3510-4E3F-90CB-FF85B11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5E8-0BF6-45E7-B35B-388BB729C49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3161-B2F3-49E5-A981-31990C2A1B8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room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n from C.M. Charles and Gail W. Senter’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uilding Classroom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fie Kohn (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yond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rning Commun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ue of Conflic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Meet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nda Albert (1989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operative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 Cho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taken Go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e C’s, Five A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de of Condu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rbara Coloroso (199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ner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ner Discipl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e types of Mis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aling with Bully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net Nelsen and Lynn Lott (199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Discipline in the Class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ignificant Sev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ective class meet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lutions rather than Consequenc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ed Jones (2000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ols for Teach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rol via Efficiency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dy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y, See, Do Teach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entive 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ing efficient hel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Preferred Activity Tim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PAT) must be attractive to the entire group and be available equally to al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goal of discipline is for students to assume responsibility for their actions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ry Wong (199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gmatic Classroom Manag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first days of scho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outines and 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81480" y="2583000"/>
            <a:ext cx="38102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ncer Kagan, Patricia Kyle, and Sally Scott (200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n-Win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ypes of interruptive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e Pill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 student pos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 the moment, follow-up, and long te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chard Curwin and Allen Mendler (198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with Dig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ally at ri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tivating difficult-to-control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aling with aggression, hostility, and viol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viting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toring hop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ane Gossen (200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through Self-Restit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titution Triang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st Coercive Ro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chele Borba (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through Moral Intellig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al Intellig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 and discipl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itz Redl and William Wattenberg (195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ipline through Influencing Group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aling with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its of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luence Techni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809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rvin Marshall (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through Raising Responsi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al rather than external moti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erarchy of social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nald Morrish (2000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l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lanced approach to disciplin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istence and do ov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.M. Charles (2000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nergetic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sential elements of syner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 student nee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ressing problems vs. confl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itz Redl and William Wattenber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Group Dynamic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defined as forces generated by and within groups, produce the group currents that strongly affect behavi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achers should remain mindful of student attitudes toward school and the class, show a clear desire to be helpful, show tolerance, and maintain a sense of hum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achers should us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nfluence techniqu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port student self-control, offer situational assistance, and appraise realit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itz Redl and William Wattenber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should involve students in setting class standards and deciding how transgressions should be handl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nishment, if it has to be used, should never be physically hurtful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should be only pre-planned consequences that are unpleasant to the student, such as sitting alone, making up unfinished work, or not being allowed to participate in certain class activit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.F. Skinn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havior is shaped by reinforcement that is received immediately after performing an a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Reinforce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which Skinner called the reinforcing stimulus, can be thought of as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rewar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Constant reinforcemen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s new learning become establish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.F. Skinn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termittent reinforce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given occasionally, is sufficient to maintain desired behavior once it has become establish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uccessive approxim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refers to a behavior-shaping progression in which behavior comes closer and closer to a present goal.  It helps build skills incrementally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as unpredictable effects and should not be used in behavior shap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cob Koun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must know what is going on in all parts of the classroom at all times, which is what Kounin call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itness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ective teachers keep students attentive and actively involved.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tudent accountabilit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maintained by regularly calling on students to respond, demonstrate, or expla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ective teachers make instructional activities enjoyable and challenging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im Gino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rning always takes place in the present tense, without pre-judgment or grudg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eachers at their bes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nfer dignity on their students by treating them as social equals capable of making good decisions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eachers at their wors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abel students, belittle them, and denigrate their character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is wise to use laconic language (short, concise, and brief) when responding to or redirecting student misbehavio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dolf Dreiku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od discipline occurs best i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emocrati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lassroom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ere teacher and students work together to make decisions about how the class will ru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should learn how to identify mistaken goals and deal with th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 for governing class behavior should be formulated jointly by teacher and studen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hould never be used in the classroom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.F. Skinner (195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Through Shaping Desired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 Sha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inforc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 Modif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e and Marlene Can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ents have the right to learn in a safe, calm environment, with full suppor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have the right to teach in a professional manner, without disruption, and to expect administrators and students’ caregivers to support the system they advocat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should use positive recognition.  Common ways include: encouragement, expressing appreciation, and positive notes and phone calls to caregivers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lliam Glass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behavior is our best attempt to control ourselves to meet five basic need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Surviva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the school environment is safe and free from personal threa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Belonging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students participate in class matters and receive attention and recognition from teachers and othe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students have class responsibilities and opportunities to cooperate with the teacher in making decisions about curriculum, activities, and class procedu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lliam Glass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. 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Fu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students work and talk with others, engage in interesting activities, and share their accomplishmen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. 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Freed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students make choices about what they study and how they will demonstrate their accomplishments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lliam Glass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Quality learn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requires both depth of understanding and a good grasp of its usefulnes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Lead teacher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rovide a stimulating learning environ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Seven connecting habi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are helpful to teachers: caring, listening, supporting, contributing, encouraging, trusting, and befrie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mas Gord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room behavior is accomplished best by helping students acquire an inner sense of self control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Non-controlling methods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 behavior change for influencing proper behavior: modifying the environment, sending I-messages,  practicing no-lose conflict resolution, acknowledging feelings and perceptions, actively listening to students, and avoiding roadblocks to communi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Misbehavi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behavior that produces undesirable consequences for the adul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 Major Element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f Gordon’s plan for Classroom Disciplin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 Influence rather than contr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 Preventive Sk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  Problem Owner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  Confrontive Sk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  Helping Sk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.  No-lose Conflict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fie Koh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ve caring, supportive classrooms so that students are able to pursue topics of interest in depth, and participate fully in solving class problems, including problems of behavior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place of teaching and discipline that do things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tudents, teachers should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invol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tudents as partners in the pro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must look beyond the techniques of discipline and ask questions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hat Teachers Should Consider When Assessing the Defensibility of Structure and Limit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Purpo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to the extent the objective is to protect students from ha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Restrictivenes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less is bett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Flexibili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must be ready to modify the structure in accordance with student nee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hat Teachers Should Consider When Assessing the Defensibility of Structure and Limit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Developmental Appropriate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Presentation Sty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students are more accepting if restrictions are suggested respectfully, rather than if they sound like or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Student Involve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student input makes structure acceptable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nda Alber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ents need to feel that they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belo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classroom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Encourage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the teacher’s most powerful teaching tool availabl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Three C’s:  capable, connected, contribu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Four R’s of consequences: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son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ably enforce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cob Kounin (197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through Lesson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aging Classroo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it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erting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laying Sati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rbara Coloros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ultimate purpose of discipline is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ve students make intelligent deci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pt the consequences of their deci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consequences to help them make better decisions in the futur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Righ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go hand in han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rbara Coloros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Proper 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does four things that lead students toward positive behavio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ws students what they have done wro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m ownership of the problems cre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them ways to solve the resultant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ves their dignity inta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rbara Coloros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behavior falls into three categori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tak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chie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The Three R’s of reconciliatory justice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guidance in helping students take responsibility and accept consequenc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ne Nelsen and Lynn Lo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ents need to perceive themselves as capable, significant, and able to control their own liv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Class meeting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e social skills (listening, taking turns, hearing different viewpoints, negotiating, communicating, helping one another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ed J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 average, teachers in typical classrooms lose 50% of their teaching time due to students being off tas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should establish clear classroom structures, use effective body language, use Say, See, Do Teaching, and provide help to studen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use of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non verbal communication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body language is one of the most effective discipline skills available to teache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im Ginott (197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ipline through Congruent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 Commun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e Mess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viting Coop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rrecting by Direc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dolf Dreikurs (197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through Democratic Tea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uine Go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taken Go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mocratic Tea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luence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e and Marlene Canter (1976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rtive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ucture and Car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ghts in the Classro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ing Good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ipline Hierarc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lliam Glasser (1986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coercive Discip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eting Student Nee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ality Curricul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ality, Lead Tea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ice The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mas Gordon (1989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as Self-Contr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 Owner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ective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-Lose Conflict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2:00:21Z</dcterms:created>
  <dc:creator>Adolph Maldonado</dc:creator>
  <dc:description/>
  <dc:language>en-US</dc:language>
  <cp:lastModifiedBy>Aubrey H. Fine</cp:lastModifiedBy>
  <dcterms:modified xsi:type="dcterms:W3CDTF">2008-08-04T18:18:21Z</dcterms:modified>
  <cp:revision>61</cp:revision>
  <dc:subject/>
  <dc:title>Classroom Management</dc:title>
</cp:coreProperties>
</file>