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51B-AFA2-4169-9F93-0C957E38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579132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7920" y="3961080"/>
            <a:ext cx="579132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B6B-AE1B-48AD-8218-BC1DA0B8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7920" y="396108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5760" y="396108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D2E-5463-48EE-B2C9-8A4B62C8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5960" y="167652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4000" y="167652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7920" y="396108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5960" y="396108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4000" y="396108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DAB-7DF3-461D-A88B-07830C0B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5CCA-FB5E-49EF-9D14-BBB10A2B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7920" y="1676520"/>
            <a:ext cx="579132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9E1F-5F94-4D3F-AD5E-9BE13ABE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57913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4FE5-4226-436A-A928-483EC5D1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28260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28260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5769-8A9B-4B03-8C0C-23D21186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3071-5ADF-4C64-85E5-D4205EB5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37920" y="639360"/>
            <a:ext cx="632484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D2D5-01F8-4562-ABCE-8D8B841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28260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37920" y="396108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A075-205E-466C-8D3D-1F2062E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7920" y="1676520"/>
            <a:ext cx="579132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F4C-1AD7-490F-8B61-B1B2C119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28260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05760" y="396108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0DC8-8C0F-4F0E-BBB6-B38C793B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7920" y="3961080"/>
            <a:ext cx="579132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6109-3B63-4181-A400-A031AD8D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579132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37920" y="3961080"/>
            <a:ext cx="579132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5B8D-BBEF-480B-966B-028ACF5A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7920" y="396108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05760" y="396108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AF1C-98AE-458C-A031-AC7D0427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5960" y="167652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4000" y="167652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37920" y="396108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5960" y="396108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4000" y="3961080"/>
            <a:ext cx="186444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6FF6-4121-4BD1-B1E2-9CD5100A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57913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B72-2DEA-4BD6-BAF2-86719988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28260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28260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E64-0806-4835-8F9A-2375F34B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48F-97F6-4747-BB6C-AFF1E92A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7920" y="639360"/>
            <a:ext cx="632484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B74-975D-47AE-8873-8A4F7694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28260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7920" y="396108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215-69F9-47C1-B25D-394A325C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28260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5760" y="396108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F1D-3409-441D-8020-F9146902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2826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7920" y="3961080"/>
            <a:ext cx="579132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292-3773-4155-816C-E06F2F3A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7920" y="1676520"/>
            <a:ext cx="57913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B20B-5BE5-4056-8563-84106929D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742840"/>
            <a:ext cx="73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3C3C-6242-4061-848C-50703C66E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bbe0e3"/>
                </a:solidFill>
                <a:latin typeface="Arial Black"/>
              </a:rPr>
              <a:t>Diagnostic Assessment for Asperger’s Syndrome</a:t>
            </a:r>
            <a:endParaRPr b="1" lang="en-US" sz="5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047760"/>
            <a:ext cx="8305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66"/>
                </a:solidFill>
                <a:latin typeface="Arial"/>
              </a:rPr>
              <a:t>The Continuum of Autism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From the work of Tony Atwoo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3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 Black"/>
              </a:rPr>
              <a:t>Dual Diagnosis</a:t>
            </a:r>
            <a:endParaRPr b="1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Attention deficit disor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Language disor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erebral pals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ourette’s disord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 Black"/>
              </a:rPr>
              <a:t>Secondary Psychiatric Disorder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57913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Depre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Anxiety disorder such as Obsessive Compulsive Disor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Anger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Schizophre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 Black"/>
              </a:rPr>
              <a:t>Residual Asperger’s Syndrome in an Adult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57913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Self referral due to a relative having the diagnosis or information from the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Agency referral from psychiatric services, forensic psychology and employment agen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632448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agnostic Assessment</a:t>
            </a:r>
            <a:endParaRPr b="0" lang="en-US" sz="40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133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ocial Impairmen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73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be0e3"/>
                </a:solidFill>
                <a:latin typeface="Arial Black"/>
              </a:rPr>
              <a:t>Social Impairment</a:t>
            </a:r>
            <a:endParaRPr b="1" lang="en-US" sz="4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8600" y="236196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99"/>
                </a:solidFill>
                <a:latin typeface="Arial"/>
              </a:rPr>
              <a:t>Reciprocity (the balance between participants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99"/>
                </a:solidFill>
                <a:latin typeface="Arial"/>
              </a:rPr>
              <a:t>Inclusion (welcome, cooperation and control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72200" y="3276720"/>
            <a:ext cx="278136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2320" y="304920"/>
            <a:ext cx="632448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 Black"/>
              </a:rPr>
              <a:t>Pretending to be Normal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62320" y="121932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“…</a:t>
            </a: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the fun came from setting up and arranging things. Maybe this desire to organize things rather than play with things, is the reason I never had a great interest in my peers. They always wanted to use the things I had so carefully arranged. They would want to rearrange and redo. They did not let me control the environment.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3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Black"/>
              </a:rPr>
              <a:t>Social Impairmen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evel of maturity in dec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mited ability with team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mited range of facial expressions and body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ifficulty reading the facial expressions and body language of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mited ability to conceptualize the thoughts and feelings of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Black"/>
              </a:rPr>
              <a:t>Speech and Language Characteristics</a:t>
            </a:r>
            <a:endParaRPr b="0" lang="en-US" sz="32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362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agmatics, Prosody and Ped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 Black"/>
              </a:rPr>
              <a:t>Pragmatic Aspects</a:t>
            </a:r>
            <a:endParaRPr b="0" lang="en-US" sz="40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33360" y="1066680"/>
            <a:ext cx="6172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art of conver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cipr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pairing a conver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Knowing when and how to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appropriate 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Keeping on 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marily interested in an exchange o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top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onologues or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cognizing and accepting different points of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iteral interpre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3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c603"/>
                </a:solidFill>
                <a:latin typeface="Arial Black"/>
              </a:rPr>
              <a:t>Prosody or the Melody of Speech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ack of change of vocal tone and volume to indicate emotion and ke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ack of variation in pitch, stress and rhy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ccent not consistent with that of the loca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ifficulty understanding the relevance of the change in tone, inflection or emphasis on certain words when listening to the speech of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What is Asperger’s Syndrome?</a:t>
            </a:r>
            <a:endParaRPr b="0" lang="en-US" sz="48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286000"/>
            <a:ext cx="403884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disorder within the Autistic Spectrum Disor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onsidered a Neurobiological dis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Major symptoms are Impairments in socialization, communication and imag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irst discussed by Hans Asperger in 19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rought to international attention in the 1990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uggested that the ratio of boys to girls is 10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3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Pedantic Speech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verly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xcessive technical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dult” quality, sophisticated grammar or phr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ust correct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cise inton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4648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Unusual Qualities of Speech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676520"/>
            <a:ext cx="4114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diosyncratic use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eolog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Vocalizing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Verbal fluency affected by anx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ate on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00"/>
                </a:solidFill>
                <a:latin typeface="Arial Black"/>
              </a:rPr>
              <a:t>Special Interests</a:t>
            </a:r>
            <a:endParaRPr b="0" lang="en-US" sz="42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57913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Dominate the person’s time and convers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Statistics, cataloguing and symm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Idiosyncrati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Motor Clumsiness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828800"/>
            <a:ext cx="37339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ocomotion (upper and lower limb coord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Ball catch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anual dext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vement disorder; Motor tics such as blinking and grimaces, vocal tics such as clicks and animal no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205740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3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Cognition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blems with advanced Theory of Mind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eak Central Coh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mpaired Executive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file on an Intelligenc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isualisers or verbalis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nclopedic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litary and idiosyncratic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ference for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mited flexibility in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riginality in problem sol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781680" y="3200400"/>
            <a:ext cx="15051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Arial Black"/>
              </a:rPr>
              <a:t>Sensory Sensitivity</a:t>
            </a:r>
            <a:endParaRPr b="0" lang="en-US" sz="48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3360" y="1828440"/>
            <a:ext cx="617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ound sensi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actile sensi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nsitivity to the taste or texture of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oic in response to pain or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ynaesthes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3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Relevant Information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mily history of similar individu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eports from teachers and therap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edical investigations and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velopmental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ior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sence of a psychiatric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bservation at school and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 Black"/>
              </a:rPr>
              <a:t>Issues Relevant to the Diagnostic Assessment</a:t>
            </a:r>
            <a:r>
              <a:rPr b="0" lang="en-US" sz="32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676520"/>
            <a:ext cx="396252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Profile of abilities in girls (same pattern, less severe expression, coping mechanisms, fewer referr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Assessment procedures and criteria for adults (time to respond and the quality of the response, validity of the developmental hist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Alternative explanations: shy, social phobia, gifted emotional neglect in inf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Choice of diagnostic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84796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Alternative Terms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FA and AS at the behavioral and treatment level, are more the same tha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ack of expertise, experience and confidence in the diagnosis of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09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igh Functioning Au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962520"/>
            <a:ext cx="830592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HFA more likely if the child has a developmental history of aut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AS not a mild form of autism but a more subtle ex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iagnosis of HFA can provide automatic access to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Use the term that provides more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Developing Social Skills and Understanding Emotions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3520" y="3755880"/>
            <a:ext cx="4114800" cy="2692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629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Arial Black"/>
              </a:rPr>
              <a:t>Symptoms of Asperger’s Syndrome</a:t>
            </a:r>
            <a:endParaRPr b="0" lang="en-US" sz="54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 flipV="1" rot="10800000">
            <a:off x="2285640" y="3429000"/>
            <a:ext cx="5794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Impairments in social interaction,  narrow interests, an insistence on repetitive routines, speech and language peculiarities, non-verbal communication problems and motor clumsin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 Black"/>
              </a:rPr>
              <a:t>Social Play</a:t>
            </a:r>
            <a:endParaRPr b="0" lang="en-US" sz="40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33360" y="1066680"/>
            <a:ext cx="6172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</a:rPr>
              <a:t>Observe and make notes of the social “play” of the child’s pe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</a:rPr>
              <a:t>Note the “script” and “act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</a:rPr>
              <a:t>Rehearse with an adult acting as a frie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</a:rPr>
              <a:t>Turn taking and hel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6699"/>
                </a:solidFill>
                <a:latin typeface="Arial"/>
              </a:rPr>
              <a:t>Rent a friend” as a “dress rehearsal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</a:rPr>
              <a:t>Practice with same age pe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</a:rPr>
              <a:t>Social Sandwi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</a:rPr>
              <a:t>Sharing experi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 Black"/>
              </a:rPr>
              <a:t>Strategies for Social Integration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Inclusion with Ordinary Children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bservation of appropriate social/emotional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eer group who know how to modify their behavior to accommodate and support the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Black"/>
              </a:rPr>
              <a:t>Knowledge of the Nature of Asperger’s Syndrome</a:t>
            </a:r>
            <a:endParaRPr b="0" lang="en-US" sz="32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2971800"/>
            <a:ext cx="39625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o recognize the challenges faced by the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o explain their behavior to other children and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Sixth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 Black"/>
              </a:rPr>
              <a:t>Teach Theory of Mind Skills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133360" y="1599840"/>
            <a:ext cx="617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hotographs, text, drawings, 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etaph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cial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mic Strip Convers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cial Skill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Encourage Friendship Skill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-360" y="198072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Behavioral strategies of task analysis, shaping, prompting and re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gnitive strategies to learn the theory and script using Social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962520"/>
            <a:ext cx="8305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5640" y="15192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cc00"/>
                </a:solidFill>
                <a:latin typeface="Arial Black"/>
              </a:rPr>
              <a:t>Four Levels in the Development of Friendship</a:t>
            </a:r>
            <a:endParaRPr b="0" lang="en-US" sz="5000" spc="-1" strike="noStrike">
              <a:solidFill>
                <a:srgbClr val="99cc00"/>
              </a:solidFill>
              <a:latin typeface="Arial Black"/>
            </a:endParaRPr>
          </a:p>
        </p:txBody>
      </p:sp>
    </p:spTree>
  </p:cSld>
  <p:transition spd="med"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32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c603"/>
                </a:solidFill>
                <a:latin typeface="Arial Black"/>
              </a:rPr>
              <a:t>Level 1: Approximately 3 to 6 Years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33360" y="1676160"/>
            <a:ext cx="617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cognition of turn t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gocentric concept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way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ximity and physical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hy is….your frie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ecause I like hi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 lives next do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 Black"/>
              </a:rPr>
              <a:t>Level 2: Approximately 6 to 9 Years</a:t>
            </a:r>
            <a:endParaRPr b="0" lang="en-US" sz="32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39625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ciprocity and being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utu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ke the sam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ware of the preferences, feelings and thoughts of the oth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Why is…your fri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he comes to my party and I go to h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he’s nice to 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333396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 Black"/>
              </a:rPr>
              <a:t>Level 3: Approximately 9 to 13 Year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-360" y="1981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ea9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92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9232"/>
                </a:solidFill>
                <a:latin typeface="Arial"/>
              </a:rPr>
              <a:t>Aware of other’s opinion of them and how their words and actions affect the feelings of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a9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92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9232"/>
                </a:solidFill>
                <a:latin typeface="Arial"/>
              </a:rPr>
              <a:t>Shared experiences and inte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a9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92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9232"/>
                </a:solidFill>
                <a:latin typeface="Arial"/>
              </a:rPr>
              <a:t>Greater selectivity and du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a9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92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9232"/>
                </a:solidFill>
                <a:latin typeface="Arial"/>
              </a:rPr>
              <a:t>Gender sp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a9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92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9232"/>
                </a:solidFill>
                <a:latin typeface="Arial"/>
              </a:rPr>
              <a:t>Trust, loyalty and keeping prom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962520"/>
            <a:ext cx="8305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 Black"/>
              </a:rPr>
              <a:t>Aloof</a:t>
            </a:r>
            <a:r>
              <a:rPr b="0" lang="en-US" sz="4000" spc="-1" strike="noStrike">
                <a:solidFill>
                  <a:srgbClr val="99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57913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void inter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ehavior the main means of commun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ascination with sensory exper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22287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 Black"/>
              </a:rPr>
              <a:t>Level 4: Adolescence to Adult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5640" y="1447560"/>
            <a:ext cx="5791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eer group acceptance more important than the opinion of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eater depth and breadth of self discl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sire to be understood by fri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types of friend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/She accepts me for who I a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e think the same way about thing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Characteristics Associated with Asperger’s Syndrome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9807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Motivation for friend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mmat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ntrol th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Describe what a friend should not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egative experie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962520"/>
            <a:ext cx="8305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5640" y="0"/>
            <a:ext cx="6705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 Black"/>
              </a:rPr>
              <a:t>Checklist of Social Behaviors Used as an Index of Friendship Skills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09680" y="1828440"/>
            <a:ext cx="609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ntry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Recognizing when and how to join 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he “welcome” provided for children who approach th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ssi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When and how to provide assist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Seeking assistance from oth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Knowing when criticism is appropriate and inappropri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How to critic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olerance of critic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ompl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Compliments at appropriate 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Responding to a friend’s compli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ccepting Sugg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Incorporating the ideas of others in the activ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Indicating agre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ciprocity and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An equitable distribution of conversation, direction and resour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892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Arial Black"/>
              </a:rPr>
              <a:t>Checklist of Social Behaviors Used as an Index of Friendship Skills - Con’t</a:t>
            </a:r>
            <a:endParaRPr b="0" lang="en-US" sz="35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09680" y="1905120"/>
            <a:ext cx="6096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onflict Re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Managing disagreement with compromi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Accepting the opinions of oth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Not responding with aggression or immature resolution mechanis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onitoring and List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Regularly observing the other person to monitor their contribution and body langu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heir own body language indicating an interest in the other per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mpat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Recognizing when appropriate comments and actions are required in response to the other person’s circumstances and positive and negative feel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voiding and E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Appropriate behavior and comments to maintain solitu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Appropriate behavior and comments to end the inter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22701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Encouraging Friendship Skill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-36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bc6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Assess which skills are observed or ab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bc6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Assess the quality and range of ex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bc6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Use behavior and cognitive strategies to acquire and develop specific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bc6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Task analysis, prompting, shaping and re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bc6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Reward all particip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bc6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Teach the theory as well as the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bc6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bc603"/>
                </a:solidFill>
                <a:latin typeface="Arial"/>
              </a:rPr>
              <a:t>Social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3962520"/>
            <a:ext cx="8305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9232"/>
                </a:solidFill>
                <a:latin typeface="Arial Black"/>
              </a:rPr>
              <a:t>Additional Strategies</a:t>
            </a:r>
            <a:endParaRPr b="0" lang="en-US" sz="36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676520"/>
            <a:ext cx="3962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523880"/>
            <a:ext cx="42674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riendship di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Matching individuals with similar inte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upport groups for 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Local and pen pal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Internet cha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Books of friend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Recognizing when someone is not a fri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Maintaining and ending friend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Tuition in characte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Characterization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Skill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usual in their perception and description of the personality characteristics of others and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imited lexicon to describe the different types of 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maturity and predominance of physical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ne dimension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fficulty reading a person’s character and adapting their behavior according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Teaching Characterization Skills</a:t>
            </a:r>
            <a:endParaRPr b="0" lang="en-US" sz="40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057040" y="1523880"/>
            <a:ext cx="6172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99cc00"/>
                </a:solidFill>
                <a:latin typeface="Arial"/>
              </a:rPr>
              <a:t>Mr. Men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99cc00"/>
                </a:solidFill>
                <a:latin typeface="Arial"/>
              </a:rPr>
              <a:t>Little Miss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xamples are Mr. Grumpy, Little Miss Chatterbox and Mr. Nos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hoosing an animal to represent someone’s pers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Reading dictionary definitions of character and identifying someone who has thos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Identifying the description of their own 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Social Skills Groups</a:t>
            </a:r>
            <a:endParaRPr b="0" lang="en-US" sz="40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676520"/>
            <a:ext cx="3962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1523880"/>
            <a:ext cx="42674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Friends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Theory of mind skil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Conversation skil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Reading and expressing body langu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714480" cy="2476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Black"/>
              </a:rPr>
              <a:t>The Understanding and Expression of Emotion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-3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 project on a specific e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eate a scrap book that illustrates the e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mpare and contrast other children’s scrap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dentify the facial elements that express the e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 “thermometer” to measure the degree of int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lace photographs and words at the appropriate point on the “thermometer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oint to the “degree” of expression in a particular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3962520"/>
            <a:ext cx="8305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Passive</a:t>
            </a:r>
            <a:endParaRPr b="0" lang="en-US" sz="48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19320"/>
            <a:ext cx="38862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pproach adults for assistance with objects and for physical st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longed solitary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ech requires an external prompt, (echolalia, seeing an object/picture, dialogue “borrowed” from a favorite vide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ascination with symmetry and collecting specific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204768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Black"/>
              </a:rPr>
              <a:t>The Understanding and Expression of Emotions – Con’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ppropriate tone of 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Drama games for appropriate body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Mirror and video recor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tory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ntence completion exerc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lternate positive and negative e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962520"/>
            <a:ext cx="8305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Arial Black"/>
              </a:rPr>
              <a:t>Imitation</a:t>
            </a:r>
            <a:endParaRPr b="0" lang="en-US" sz="48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57913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dentify individuals skilled in a specific 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bserve their actions and scrip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py or mimic their sty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peech and drama tra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639360"/>
            <a:ext cx="6324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Active but Odd</a:t>
            </a:r>
            <a:endParaRPr b="0" lang="en-US" sz="40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57913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ften initiates interactions of short d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Repetitive questions (social echolalia, script, alternative meaning, reassuranc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ack of social play with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ascination with a specific topic or pers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 Black"/>
              </a:rPr>
              <a:t>Six Pathways to a Diagnosis of Asperger’s Syndrome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bbe0e3"/>
                </a:solidFill>
                <a:latin typeface="Arial"/>
              </a:rPr>
              <a:t>Diagnosis of autism in early childh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bbe0e3"/>
                </a:solidFill>
                <a:latin typeface="Arial"/>
              </a:rPr>
              <a:t>Significant natural progress between 4 and 6 years of 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be0e3"/>
                </a:solidFill>
                <a:latin typeface="Arial"/>
              </a:rPr>
              <a:t>Effective early intervention progra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be0e3"/>
                </a:solidFill>
                <a:latin typeface="Arial"/>
              </a:rPr>
              <a:t>Progression along the continuum of aut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cognition of Characteristics When First Enrolled at School</a:t>
            </a:r>
            <a:endParaRPr b="0" lang="en-US" sz="32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3720" y="1676520"/>
            <a:ext cx="64008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o clear signs of autism in early child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acher notices conspicuous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voids social play with p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Unaware of the codes of social con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Unusual qualities in conversation and imaginative 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nse interest in a specific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lumsiness when running, writing and c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acher completes a developmental checklist for Asperger’s syndrome (AS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5080" y="3657600"/>
            <a:ext cx="157464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2485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agnosis of a Relative with Autism or Asperger’s Syndrome</a:t>
            </a:r>
            <a:endParaRPr b="0" lang="en-US" sz="3200" spc="-1" strike="noStrike">
              <a:solidFill>
                <a:srgbClr val="99cc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600200"/>
            <a:ext cx="411480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nother family member has a diagnosis and knowledge of the continuum of autism leads to other family members being diagno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ome families have Asperger’s syndrome within and between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333600" cy="3076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13:43Z</dcterms:created>
  <dc:creator>Adminassist2</dc:creator>
  <dc:description/>
  <dc:language>en-US</dc:language>
  <cp:lastModifiedBy>mediastudent</cp:lastModifiedBy>
  <dcterms:modified xsi:type="dcterms:W3CDTF">2006-05-17T20:49:49Z</dcterms:modified>
  <cp:revision>110</cp:revision>
  <dc:subject/>
  <dc:title>STELLAR</dc:title>
</cp:coreProperties>
</file>