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32C3-55DE-4D6D-920D-6CE81926A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00200" y="11430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00200" y="2133720"/>
            <a:ext cx="6781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00200" y="4203360"/>
            <a:ext cx="6781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3EDE-C523-404B-951A-28BDAB71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00200" y="11430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0200" y="2133720"/>
            <a:ext cx="33091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75280" y="2133720"/>
            <a:ext cx="33091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0200" y="4203360"/>
            <a:ext cx="33091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75280" y="4203360"/>
            <a:ext cx="33091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5E7C-01A1-422D-BF05-5EF8DC026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00200" y="11430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00200" y="2133720"/>
            <a:ext cx="2183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3040" y="2133720"/>
            <a:ext cx="2183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6240" y="2133720"/>
            <a:ext cx="2183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00200" y="4203360"/>
            <a:ext cx="2183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3040" y="4203360"/>
            <a:ext cx="2183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6240" y="4203360"/>
            <a:ext cx="2183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26D6-2841-4888-8CE2-BE2A001EA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55F3-3136-4AB3-93FB-69D4B1A7D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00200" y="11430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00200" y="2133720"/>
            <a:ext cx="678168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ebe2"/>
              </a:solidFill>
              <a:latin typeface="Univer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E274-0ACE-4B41-BB4C-ABE358CB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0200" y="11430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00200" y="2133720"/>
            <a:ext cx="6781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8A41B-94B0-4BEA-B584-95EC5AC9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00200" y="11430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00200" y="2133720"/>
            <a:ext cx="3309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75280" y="2133720"/>
            <a:ext cx="3309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50B43-FD81-41E2-91AD-65F0D092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1430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5678-7D81-4EDF-A7E1-0E8AD274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00200" y="1143000"/>
            <a:ext cx="6781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debe2"/>
              </a:solidFill>
              <a:latin typeface="Univer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17348-B168-4E48-AD2B-8F29EB7D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0200" y="11430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2133720"/>
            <a:ext cx="33091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75280" y="2133720"/>
            <a:ext cx="3309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600200" y="4203360"/>
            <a:ext cx="33091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79E8-205D-475C-9599-87065B02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00200" y="11430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00200" y="2133720"/>
            <a:ext cx="678168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ebe2"/>
              </a:solidFill>
              <a:latin typeface="Univer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FD0F-127F-47CE-8CCD-286FBF51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11430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0200" y="2133720"/>
            <a:ext cx="3309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75280" y="2133720"/>
            <a:ext cx="33091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5280" y="4203360"/>
            <a:ext cx="33091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1DCB-56C1-47D7-8994-9476B355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0200" y="11430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0200" y="2133720"/>
            <a:ext cx="33091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5280" y="2133720"/>
            <a:ext cx="33091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00200" y="4203360"/>
            <a:ext cx="6781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2B9AC-4ECA-4CC5-9927-FADEAFF0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0200" y="11430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00200" y="2133720"/>
            <a:ext cx="6781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600200" y="4203360"/>
            <a:ext cx="6781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BD51-74E5-4818-BE17-CBCE36D7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00200" y="11430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00200" y="2133720"/>
            <a:ext cx="33091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75280" y="2133720"/>
            <a:ext cx="33091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00200" y="4203360"/>
            <a:ext cx="33091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75280" y="4203360"/>
            <a:ext cx="33091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12C8-4184-4BA5-BF06-30005CBDD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11430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2133720"/>
            <a:ext cx="2183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3040" y="2133720"/>
            <a:ext cx="2183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6240" y="2133720"/>
            <a:ext cx="2183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600200" y="4203360"/>
            <a:ext cx="2183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93040" y="4203360"/>
            <a:ext cx="2183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6240" y="4203360"/>
            <a:ext cx="2183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42B61-8E53-4A9B-AD85-BA4B580DA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0200" y="11430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00200" y="2133720"/>
            <a:ext cx="6781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19AC-1DAE-4010-B0BD-BD9F9E98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0200" y="11430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2133720"/>
            <a:ext cx="3309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75280" y="2133720"/>
            <a:ext cx="3309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B834-2BCC-46A1-8140-B2C6A1F5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00200" y="11430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FCC1-A118-4A44-92E4-A85E5029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00200" y="1143000"/>
            <a:ext cx="6781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debe2"/>
              </a:solidFill>
              <a:latin typeface="Univer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6309-6AEB-4B36-8F7F-F7F69E3B8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0200" y="11430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0200" y="2133720"/>
            <a:ext cx="33091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75280" y="2133720"/>
            <a:ext cx="3309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00200" y="4203360"/>
            <a:ext cx="33091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50C5-9168-41FF-B0C0-899B3D87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00200" y="11430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00200" y="2133720"/>
            <a:ext cx="3309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5280" y="2133720"/>
            <a:ext cx="33091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75280" y="4203360"/>
            <a:ext cx="33091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5E1D-3E69-4B71-8C30-FDB44396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00200" y="11430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00200" y="2133720"/>
            <a:ext cx="33091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5280" y="2133720"/>
            <a:ext cx="33091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00200" y="4203360"/>
            <a:ext cx="6781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3684-8395-43E7-A728-B7E8CEB0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11430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Univers Condensed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0200" y="2133720"/>
            <a:ext cx="6781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ff99"/>
              </a:buClr>
              <a:buFont typeface="Univers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Univers Condensed"/>
              </a:rPr>
              <a:t>Click to edit the outline text format</a:t>
            </a: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  <a:p>
            <a:pPr lvl="1" marL="698400" indent="-268560">
              <a:spcBef>
                <a:spcPts val="799"/>
              </a:spcBef>
              <a:buClr>
                <a:srgbClr val="ccff99"/>
              </a:buClr>
              <a:buFont typeface="Univers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Univers Condensed"/>
              </a:rPr>
              <a:t>Second Outline Level</a:t>
            </a: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  <a:p>
            <a:pPr lvl="2" marL="1074240" indent="-214560">
              <a:spcBef>
                <a:spcPts val="799"/>
              </a:spcBef>
              <a:buClr>
                <a:srgbClr val="ccff99"/>
              </a:buClr>
              <a:buFont typeface="Univers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Univers Condensed"/>
              </a:rPr>
              <a:t>Third Outline Level</a:t>
            </a: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  <a:p>
            <a:pPr lvl="3" marL="1504080" indent="-214560">
              <a:spcBef>
                <a:spcPts val="799"/>
              </a:spcBef>
              <a:buClr>
                <a:srgbClr val="ccff99"/>
              </a:buClr>
              <a:buFont typeface="Univers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Univers Condensed"/>
              </a:rPr>
              <a:t>Fourth Outline Level</a:t>
            </a: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  <a:p>
            <a:pPr lvl="4" marL="1933920" indent="-214560">
              <a:spcBef>
                <a:spcPts val="799"/>
              </a:spcBef>
              <a:buClr>
                <a:srgbClr val="ccff99"/>
              </a:buClr>
              <a:buFont typeface="Univers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Univers Condensed"/>
              </a:rPr>
              <a:t>Fifth Outline Level</a:t>
            </a: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Univers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Univers Condensed"/>
              </a:rPr>
              <a:t>Sixth Outline Level</a:t>
            </a: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Univers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Univers Condensed"/>
              </a:rPr>
              <a:t>Seventh Outline Level</a:t>
            </a: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0970-3847-4FE1-8FD8-2C6F9B930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286000"/>
            <a:ext cx="38102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Univers Condensed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7AB8-05BD-4CD3-B601-C3316B525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ebe2"/>
                </a:solidFill>
                <a:latin typeface="Univers Condensed"/>
              </a:rPr>
              <a:t>Click to edit the outline text format</a:t>
            </a:r>
            <a:endParaRPr b="0" lang="en-US" sz="3200" spc="-1" strike="noStrike">
              <a:solidFill>
                <a:srgbClr val="cdebe2"/>
              </a:solidFill>
              <a:latin typeface="Univers Condense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Univers Condensed"/>
              </a:rPr>
              <a:t>Second Outline Level</a:t>
            </a:r>
            <a:endParaRPr b="0" lang="en-US" sz="2800" spc="-1" strike="noStrike">
              <a:solidFill>
                <a:srgbClr val="ccff99"/>
              </a:solidFill>
              <a:latin typeface="Univers Condensed"/>
            </a:endParaRPr>
          </a:p>
          <a:p>
            <a:pPr lvl="2" marL="914400" algn="ctr">
              <a:spcBef>
                <a:spcPts val="601"/>
              </a:spcBef>
              <a:buClr>
                <a:srgbClr val="ccff99"/>
              </a:buClr>
              <a:buFont typeface="Univers Condense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99"/>
                </a:solidFill>
                <a:latin typeface="Univers Condensed"/>
              </a:rPr>
              <a:t>Third Outline Level</a:t>
            </a:r>
            <a:endParaRPr b="0" lang="en-US" sz="2400" spc="-1" strike="noStrike">
              <a:solidFill>
                <a:srgbClr val="ccff99"/>
              </a:solidFill>
              <a:latin typeface="Univers Condensed"/>
            </a:endParaRPr>
          </a:p>
          <a:p>
            <a:pPr lvl="3" marL="1371600" algn="ctr">
              <a:spcBef>
                <a:spcPts val="499"/>
              </a:spcBef>
              <a:buClr>
                <a:srgbClr val="ccff99"/>
              </a:buClr>
              <a:buFont typeface="Univers Condense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99"/>
                </a:solidFill>
                <a:latin typeface="Univers Condensed"/>
              </a:rPr>
              <a:t>Fourth Outline Level</a:t>
            </a:r>
            <a:endParaRPr b="0" lang="en-US" sz="2000" spc="-1" strike="noStrike">
              <a:solidFill>
                <a:srgbClr val="ccff99"/>
              </a:solidFill>
              <a:latin typeface="Univers Condensed"/>
            </a:endParaRPr>
          </a:p>
          <a:p>
            <a:pPr lvl="4" marL="1828800" algn="ctr">
              <a:spcBef>
                <a:spcPts val="499"/>
              </a:spcBef>
              <a:buClr>
                <a:srgbClr val="ccff99"/>
              </a:buClr>
              <a:buFont typeface="Univers Condense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99"/>
                </a:solidFill>
                <a:latin typeface="Univers Condensed"/>
              </a:rPr>
              <a:t>Fifth Outline Level</a:t>
            </a:r>
            <a:endParaRPr b="0" lang="en-US" sz="2000" spc="-1" strike="noStrike">
              <a:solidFill>
                <a:srgbClr val="ccff99"/>
              </a:solidFill>
              <a:latin typeface="Univers Condense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Univers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99"/>
                </a:solidFill>
                <a:latin typeface="Univers Condensed"/>
              </a:rPr>
              <a:t>Sixth Outline Level</a:t>
            </a:r>
            <a:endParaRPr b="0" lang="en-US" sz="2000" spc="-1" strike="noStrike">
              <a:solidFill>
                <a:srgbClr val="ccff99"/>
              </a:solidFill>
              <a:latin typeface="Univers Condense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Univers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99"/>
                </a:solidFill>
                <a:latin typeface="Univers Condensed"/>
              </a:rPr>
              <a:t>Seventh Outline Level</a:t>
            </a:r>
            <a:endParaRPr b="0" lang="en-US" sz="2000" spc="-1" strike="noStrike">
              <a:solidFill>
                <a:srgbClr val="ccff99"/>
              </a:solidFill>
              <a:latin typeface="Univer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2286000"/>
            <a:ext cx="38102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nxiety and Related Disorders</a:t>
            </a:r>
            <a:endParaRPr b="0" lang="en-US" sz="54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040" y="5181120"/>
            <a:ext cx="3809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ebe2"/>
                </a:solidFill>
                <a:latin typeface="Arial"/>
              </a:rPr>
              <a:t>How do we identify and treat anxiety disorders?</a:t>
            </a:r>
            <a:endParaRPr b="0" lang="en-US" sz="3200" spc="-1" strike="noStrike">
              <a:solidFill>
                <a:srgbClr val="cdebe2"/>
              </a:solidFill>
              <a:latin typeface="Univers Condensed"/>
            </a:endParaRPr>
          </a:p>
        </p:txBody>
      </p:sp>
    </p:spTree>
  </p:cSld>
  <p:transition spd="med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ccff99"/>
                </a:solidFill>
                <a:latin typeface="Arial"/>
              </a:rPr>
              <a:t>What is an Obsession?</a:t>
            </a:r>
            <a:endParaRPr b="1" lang="en-US" sz="52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1676520"/>
            <a:ext cx="51814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voluntary intrusive 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yp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oubts (74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nking (34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ears (26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mpulses (17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mages (7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ther (2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72388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Examples of Obsessions</a:t>
            </a:r>
            <a:endParaRPr b="1" lang="en-US" sz="44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Doubt “Did I lock the door”</a:t>
            </a: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Thought that he had cancer</a:t>
            </a: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Thought / Image that he had knocked someone down in his car</a:t>
            </a: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Impulse + thought to shout obscenities in church</a:t>
            </a: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Image of corpse rotting away</a:t>
            </a: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Impulse to drink from inkpot and to strangle son</a:t>
            </a: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</p:txBody>
      </p:sp>
    </p:spTree>
  </p:cSld>
  <p:transition spd="med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920" y="837720"/>
            <a:ext cx="6781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mes in Obsessions</a:t>
            </a:r>
            <a:endParaRPr b="1" lang="en-US" sz="44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7239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Arial"/>
              </a:rPr>
              <a:t>Obsessions often have common themes</a:t>
            </a:r>
            <a:endParaRPr b="0" lang="en-US" sz="2800" spc="-1" strike="noStrike">
              <a:solidFill>
                <a:srgbClr val="ccff99"/>
              </a:solidFill>
              <a:latin typeface="Univers Condense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99"/>
                </a:solidFill>
                <a:latin typeface="Arial"/>
              </a:rPr>
              <a:t>Contamination, dirt, disease, illness (46%)</a:t>
            </a:r>
            <a:endParaRPr b="0" lang="en-US" sz="2400" spc="-1" strike="noStrike">
              <a:solidFill>
                <a:srgbClr val="ccff99"/>
              </a:solidFill>
              <a:latin typeface="Univers Condense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99"/>
                </a:solidFill>
                <a:latin typeface="Arial"/>
              </a:rPr>
              <a:t>Violence and aggression (29%)</a:t>
            </a:r>
            <a:endParaRPr b="0" lang="en-US" sz="2400" spc="-1" strike="noStrike">
              <a:solidFill>
                <a:srgbClr val="ccff99"/>
              </a:solidFill>
              <a:latin typeface="Univers Condense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99"/>
                </a:solidFill>
                <a:latin typeface="Arial"/>
              </a:rPr>
              <a:t>Moral and religious topics (11%)</a:t>
            </a:r>
            <a:endParaRPr b="0" lang="en-US" sz="2400" spc="-1" strike="noStrike">
              <a:solidFill>
                <a:srgbClr val="ccff99"/>
              </a:solidFill>
              <a:latin typeface="Univers Condense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99"/>
                </a:solidFill>
                <a:latin typeface="Arial"/>
              </a:rPr>
              <a:t>Symmetry and sequence (27%)</a:t>
            </a:r>
            <a:endParaRPr b="0" lang="en-US" sz="2400" spc="-1" strike="noStrike">
              <a:solidFill>
                <a:srgbClr val="ccff99"/>
              </a:solidFill>
              <a:latin typeface="Univers Condense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99"/>
                </a:solidFill>
                <a:latin typeface="Arial"/>
              </a:rPr>
              <a:t>Sex (10%)</a:t>
            </a:r>
            <a:endParaRPr b="0" lang="en-US" sz="2400" spc="-1" strike="noStrike">
              <a:solidFill>
                <a:srgbClr val="ccff99"/>
              </a:solidFill>
              <a:latin typeface="Univers Condense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99"/>
                </a:solidFill>
                <a:latin typeface="Arial"/>
              </a:rPr>
              <a:t>Other (22%)</a:t>
            </a:r>
            <a:endParaRPr b="0" lang="en-US" sz="2400" spc="-1" strike="noStrike">
              <a:solidFill>
                <a:srgbClr val="ccff99"/>
              </a:solidFill>
              <a:latin typeface="Univers Condense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Arial"/>
              </a:rPr>
              <a:t>The themes often reflect contemporary concerns (the devil, germs, AIDS)</a:t>
            </a:r>
            <a:endParaRPr b="0" lang="en-US" sz="2800" spc="-1" strike="noStrike">
              <a:solidFill>
                <a:srgbClr val="ccff99"/>
              </a:solidFill>
              <a:latin typeface="Univers Condensed"/>
            </a:endParaRPr>
          </a:p>
        </p:txBody>
      </p:sp>
    </p:spTree>
  </p:cSld>
  <p:transition spd="med"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00200" y="837720"/>
            <a:ext cx="6781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Examples of Compulsions</a:t>
            </a:r>
            <a:endParaRPr b="1" lang="en-US" sz="40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47560" y="1676520"/>
            <a:ext cx="6933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canning text for “life” having read “death”</a:t>
            </a: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ouching the ground after swallowing saliva</a:t>
            </a: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riving back to check he hadn’t knocked someone down in his car</a:t>
            </a: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unting 6,5,8,3,7,4 in your head</a:t>
            </a: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and washing</a:t>
            </a: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</p:txBody>
      </p:sp>
    </p:spTree>
  </p:cSld>
  <p:transition spd="med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81532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Linking Obsessions and Compulsions</a:t>
            </a:r>
            <a:endParaRPr b="1" lang="en-US" sz="40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19320" y="3733920"/>
            <a:ext cx="25146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lief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343400" y="1981080"/>
            <a:ext cx="17431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CD Cycl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343400" y="2819520"/>
            <a:ext cx="165744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bsessions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781680" y="3886200"/>
            <a:ext cx="160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xiet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038480" y="5638680"/>
            <a:ext cx="2266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mplus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"/>
          <p:cNvSpPr/>
          <p:nvPr/>
        </p:nvSpPr>
        <p:spPr>
          <a:xfrm>
            <a:off x="4952880" y="2362320"/>
            <a:ext cx="381240" cy="457200"/>
          </a:xfrm>
          <a:prstGeom prst="downArrow">
            <a:avLst>
              <a:gd name="adj1" fmla="val 50000"/>
              <a:gd name="adj2" fmla="val 29981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2743200"/>
            <a:ext cx="1524240" cy="91440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2476440" y="5067000"/>
            <a:ext cx="1219320" cy="99036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5400000">
            <a:off x="6743160" y="2628720"/>
            <a:ext cx="914400" cy="1447560"/>
          </a:xfrm>
          <a:custGeom>
            <a:avLst/>
            <a:gdLst>
              <a:gd name="textAreaLeft" fmla="*/ 0 w 914400"/>
              <a:gd name="textAreaRight" fmla="*/ 914760 w 91440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705720" y="4876920"/>
            <a:ext cx="1295280" cy="12189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debe2"/>
                </a:solidFill>
                <a:latin typeface="Arial"/>
              </a:rPr>
              <a:t>OCD and “Normal” Experience</a:t>
            </a:r>
            <a:endParaRPr b="1" lang="en-US" sz="40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Arial"/>
              </a:rPr>
              <a:t>Obsessional thoughts found in 90% of people</a:t>
            </a:r>
            <a:endParaRPr b="0" lang="en-US" sz="2800" spc="-1" strike="noStrike">
              <a:solidFill>
                <a:srgbClr val="ccff99"/>
              </a:solidFill>
              <a:latin typeface="Univers Condense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99"/>
                </a:solidFill>
                <a:latin typeface="Arial"/>
              </a:rPr>
              <a:t>It is well replicated that 80%+ of normal people have intrusive thoughts</a:t>
            </a:r>
            <a:endParaRPr b="0" lang="en-US" sz="2400" spc="-1" strike="noStrike">
              <a:solidFill>
                <a:srgbClr val="ccff99"/>
              </a:solidFill>
              <a:latin typeface="Univers Condense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99"/>
                </a:solidFill>
                <a:latin typeface="Arial"/>
              </a:rPr>
              <a:t>There thoughts are similar in content and form to OCD patients</a:t>
            </a:r>
            <a:endParaRPr b="0" lang="en-US" sz="2400" spc="-1" strike="noStrike">
              <a:solidFill>
                <a:srgbClr val="ccff99"/>
              </a:solidFill>
              <a:latin typeface="Univers Condense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Arial"/>
              </a:rPr>
              <a:t>Compulsions</a:t>
            </a:r>
            <a:endParaRPr b="0" lang="en-US" sz="2800" spc="-1" strike="noStrike">
              <a:solidFill>
                <a:srgbClr val="ccff99"/>
              </a:solidFill>
              <a:latin typeface="Univers Condense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99"/>
                </a:solidFill>
                <a:latin typeface="Arial"/>
              </a:rPr>
              <a:t>Many people have compulsions such as stereotyped or superstitious behaviors</a:t>
            </a:r>
            <a:endParaRPr b="0" lang="en-US" sz="2400" spc="-1" strike="noStrike">
              <a:solidFill>
                <a:srgbClr val="ccff99"/>
              </a:solidFill>
              <a:latin typeface="Univers Condense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99"/>
                </a:solidFill>
                <a:latin typeface="Arial"/>
              </a:rPr>
              <a:t>66% of normal people report some form of checking behavior</a:t>
            </a:r>
            <a:endParaRPr b="0" lang="en-US" sz="2400" spc="-1" strike="noStrike">
              <a:solidFill>
                <a:srgbClr val="ccff99"/>
              </a:solidFill>
              <a:latin typeface="Univers Condense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Arial"/>
              </a:rPr>
              <a:t>Is OCD qualitatively distinct?</a:t>
            </a:r>
            <a:endParaRPr b="0" lang="en-US" sz="2800" spc="-1" strike="noStrike">
              <a:solidFill>
                <a:srgbClr val="ccff99"/>
              </a:solidFill>
              <a:latin typeface="Univers Condensed"/>
            </a:endParaRPr>
          </a:p>
        </p:txBody>
      </p:sp>
    </p:spTree>
  </p:cSld>
  <p:transition spd="med"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00200" y="0"/>
            <a:ext cx="678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OCD Experience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Univers Condensed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90720" y="609480"/>
          <a:ext cx="8001000" cy="6013440"/>
        </p:xfrm>
        <a:graphic>
          <a:graphicData uri="http://schemas.openxmlformats.org/drawingml/2006/table">
            <a:tbl>
              <a:tblPr/>
              <a:tblGrid>
                <a:gridCol w="3846240"/>
                <a:gridCol w="846360"/>
                <a:gridCol w="3308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OC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Not OC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A man who washes his hands 100 times a day until they are red and ra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A woman who unfailingly washer her hands before every m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A women who locks and relocks her door before going to work every day – for half an h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A woman who double-checks that her apartment door and windows are locked each night before she goes to be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A college student who must tap on the door frame of every classroom 14 times before ente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A musician who practices a difficult passage over and over again until its 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A man who stores 19 years of newspapers “just in case” – with no system for filling or retrie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A woman who dedicates all her spare time and money to building her record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800600" y="2362320"/>
            <a:ext cx="990720" cy="13716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724280" y="3962520"/>
            <a:ext cx="1067040" cy="1149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4724280" y="5472000"/>
            <a:ext cx="1143000" cy="10112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4648320" y="1252440"/>
            <a:ext cx="1218960" cy="981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7621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Behavioral Explanation</a:t>
            </a:r>
            <a:endParaRPr b="1" lang="en-US" sz="44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owrer’s 2-Factor Theory</a:t>
            </a:r>
            <a:endParaRPr b="0" lang="en-US" sz="2800" spc="-1" strike="noStrike">
              <a:solidFill>
                <a:srgbClr val="ccff99"/>
              </a:solidFill>
              <a:latin typeface="Univers Condense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Obsessions come to evoke anxiety through classical conditioning</a:t>
            </a:r>
            <a:endParaRPr b="0" lang="en-US" sz="2400" spc="-1" strike="noStrike">
              <a:solidFill>
                <a:srgbClr val="ccff99"/>
              </a:solidFill>
              <a:latin typeface="Univers Condense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nxiety is reduced through compulsion, which are, therefore, reinforced (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operant conditioning)</a:t>
            </a:r>
            <a:endParaRPr b="0" lang="en-US" sz="2400" spc="-1" strike="noStrike">
              <a:solidFill>
                <a:srgbClr val="ccff99"/>
              </a:solidFill>
              <a:latin typeface="Univers Condense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vidence:</a:t>
            </a:r>
            <a:endParaRPr b="0" lang="en-US" sz="2800" spc="-1" strike="noStrike">
              <a:solidFill>
                <a:srgbClr val="ccff99"/>
              </a:solidFill>
              <a:latin typeface="Univers Condense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nimals learn to avoid aversive stimuli in an “obsessive” way</a:t>
            </a:r>
            <a:endParaRPr b="0" lang="en-US" sz="2400" spc="-1" strike="noStrike">
              <a:solidFill>
                <a:srgbClr val="ccff99"/>
              </a:solidFill>
              <a:latin typeface="Univers Condense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ut:</a:t>
            </a:r>
            <a:endParaRPr b="0" lang="en-US" sz="2800" spc="-1" strike="noStrike">
              <a:solidFill>
                <a:srgbClr val="ccff99"/>
              </a:solidFill>
              <a:latin typeface="Univers Condense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ren’t intrusive thoughts aversive to being with?</a:t>
            </a:r>
            <a:endParaRPr b="0" lang="en-US" sz="2400" spc="-1" strike="noStrike">
              <a:solidFill>
                <a:srgbClr val="ccff99"/>
              </a:solidFill>
              <a:latin typeface="Univers Condense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Why doesn’t everyone develop OCD?</a:t>
            </a:r>
            <a:endParaRPr b="0" lang="en-US" sz="2400" spc="-1" strike="noStrike">
              <a:solidFill>
                <a:srgbClr val="ccff99"/>
              </a:solidFill>
              <a:latin typeface="Univers Condensed"/>
            </a:endParaRPr>
          </a:p>
        </p:txBody>
      </p:sp>
    </p:spTree>
  </p:cSld>
  <p:transition spd="med"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76212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99"/>
                </a:solidFill>
                <a:latin typeface="Arial"/>
              </a:rPr>
              <a:t>Cognitive Aspects of OCD</a:t>
            </a:r>
            <a:endParaRPr b="1" lang="en-US" sz="40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240" y="15998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deb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debe2"/>
                </a:solidFill>
                <a:latin typeface="Arial"/>
              </a:rPr>
              <a:t>Responsibility for harm to self/others</a:t>
            </a:r>
            <a:endParaRPr b="0" lang="en-US" sz="2800" spc="-1" strike="noStrike">
              <a:solidFill>
                <a:srgbClr val="ccff99"/>
              </a:solidFill>
              <a:latin typeface="Univers Condense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deb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be2"/>
                </a:solidFill>
                <a:latin typeface="Arial"/>
              </a:rPr>
              <a:t>Any influence over outcome = responsibility for outcome </a:t>
            </a:r>
            <a:endParaRPr b="0" lang="en-US" sz="2400" spc="-1" strike="noStrike">
              <a:solidFill>
                <a:srgbClr val="ccff99"/>
              </a:solidFill>
              <a:latin typeface="Univers Condense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deb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be2"/>
                </a:solidFill>
                <a:latin typeface="Arial"/>
              </a:rPr>
              <a:t>Omission: “I will omit to do something that leads to myself/others being hurt”</a:t>
            </a:r>
            <a:endParaRPr b="0" lang="en-US" sz="2400" spc="-1" strike="noStrike">
              <a:solidFill>
                <a:srgbClr val="ccff99"/>
              </a:solidFill>
              <a:latin typeface="Univers Condense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deb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be2"/>
                </a:solidFill>
                <a:latin typeface="Arial"/>
              </a:rPr>
              <a:t>Magical thinking</a:t>
            </a:r>
            <a:endParaRPr b="0" lang="en-US" sz="2400" spc="-1" strike="noStrike">
              <a:solidFill>
                <a:srgbClr val="ccff99"/>
              </a:solidFill>
              <a:latin typeface="Univers Condense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deb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debe2"/>
                </a:solidFill>
                <a:latin typeface="Arial"/>
              </a:rPr>
              <a:t>Thought Action Fusion</a:t>
            </a:r>
            <a:endParaRPr b="0" lang="en-US" sz="2800" spc="-1" strike="noStrike">
              <a:solidFill>
                <a:srgbClr val="ccff99"/>
              </a:solidFill>
              <a:latin typeface="Univers Condense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deb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be2"/>
                </a:solidFill>
                <a:latin typeface="Arial"/>
              </a:rPr>
              <a:t>Thought = action “I will harm my child”</a:t>
            </a:r>
            <a:endParaRPr b="0" lang="en-US" sz="2400" spc="-1" strike="noStrike">
              <a:solidFill>
                <a:srgbClr val="ccff99"/>
              </a:solidFill>
              <a:latin typeface="Univers Condense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deb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debe2"/>
                </a:solidFill>
                <a:latin typeface="Arial"/>
              </a:rPr>
              <a:t>Obsessions = “going crazy”</a:t>
            </a:r>
            <a:endParaRPr b="0" lang="en-US" sz="2800" spc="-1" strike="noStrike">
              <a:solidFill>
                <a:srgbClr val="ccff99"/>
              </a:solidFill>
              <a:latin typeface="Univers Condense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deb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debe2"/>
                </a:solidFill>
                <a:latin typeface="Arial"/>
              </a:rPr>
              <a:t>Control: “Trying to hard”</a:t>
            </a:r>
            <a:endParaRPr b="0" lang="en-US" sz="2800" spc="-1" strike="noStrike">
              <a:solidFill>
                <a:srgbClr val="ccff99"/>
              </a:solidFill>
              <a:latin typeface="Univers Condense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deb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be2"/>
                </a:solidFill>
                <a:latin typeface="Arial"/>
              </a:rPr>
              <a:t>Suppression: “white bears”</a:t>
            </a:r>
            <a:endParaRPr b="0" lang="en-US" sz="2400" spc="-1" strike="noStrike">
              <a:solidFill>
                <a:srgbClr val="ccff99"/>
              </a:solidFill>
              <a:latin typeface="Univers Condense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deb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be2"/>
                </a:solidFill>
                <a:latin typeface="Arial"/>
              </a:rPr>
              <a:t>Pre-Occupation: “Looking for trouble”</a:t>
            </a:r>
            <a:endParaRPr b="0" lang="en-US" sz="2400" spc="-1" strike="noStrike">
              <a:solidFill>
                <a:srgbClr val="ccff99"/>
              </a:solidFill>
              <a:latin typeface="Univers Condensed"/>
            </a:endParaRPr>
          </a:p>
        </p:txBody>
      </p:sp>
    </p:spTree>
  </p:cSld>
  <p:transition spd="med"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00200" y="7621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CD: Therapy </a:t>
            </a:r>
            <a:endParaRPr b="1" lang="en-US" sz="44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152352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Arial"/>
              </a:rPr>
              <a:t>Exposure and Response Prevention (ERP)</a:t>
            </a:r>
            <a:endParaRPr b="0" lang="en-US" sz="2800" spc="-1" strike="noStrike">
              <a:solidFill>
                <a:srgbClr val="ccff99"/>
              </a:solidFill>
              <a:latin typeface="Univers Condense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Arial"/>
              </a:rPr>
              <a:t>Responsibility</a:t>
            </a:r>
            <a:endParaRPr b="0" lang="en-US" sz="2800" spc="-1" strike="noStrike">
              <a:solidFill>
                <a:srgbClr val="ccff99"/>
              </a:solidFill>
              <a:latin typeface="Univers Condense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99"/>
                </a:solidFill>
                <a:latin typeface="Arial"/>
              </a:rPr>
              <a:t>Am I a murderer or just worried about being one?</a:t>
            </a:r>
            <a:endParaRPr b="0" lang="en-US" sz="2400" spc="-1" strike="noStrike">
              <a:solidFill>
                <a:srgbClr val="ccff99"/>
              </a:solidFill>
              <a:latin typeface="Univers Condense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99"/>
                </a:solidFill>
                <a:latin typeface="Arial"/>
              </a:rPr>
              <a:t>Normalizing / Other explanations </a:t>
            </a:r>
            <a:endParaRPr b="0" lang="en-US" sz="2400" spc="-1" strike="noStrike">
              <a:solidFill>
                <a:srgbClr val="ccff99"/>
              </a:solidFill>
              <a:latin typeface="Univers Condense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Arial"/>
              </a:rPr>
              <a:t>Thought = action</a:t>
            </a:r>
            <a:endParaRPr b="0" lang="en-US" sz="2800" spc="-1" strike="noStrike">
              <a:solidFill>
                <a:srgbClr val="ccff99"/>
              </a:solidFill>
              <a:latin typeface="Univers Condense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99"/>
                </a:solidFill>
                <a:latin typeface="Arial"/>
              </a:rPr>
              <a:t>Can I think myself to death?</a:t>
            </a:r>
            <a:endParaRPr b="0" lang="en-US" sz="2400" spc="-1" strike="noStrike">
              <a:solidFill>
                <a:srgbClr val="ccff99"/>
              </a:solidFill>
              <a:latin typeface="Univers Condense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Arial"/>
              </a:rPr>
              <a:t>Neutralizing</a:t>
            </a:r>
            <a:endParaRPr b="0" lang="en-US" sz="2800" spc="-1" strike="noStrike">
              <a:solidFill>
                <a:srgbClr val="ccff99"/>
              </a:solidFill>
              <a:latin typeface="Univers Condense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99"/>
                </a:solidFill>
                <a:latin typeface="Arial"/>
              </a:rPr>
              <a:t>Experiment to show how thought suppression increases thought frequency</a:t>
            </a:r>
            <a:endParaRPr b="0" lang="en-US" sz="2400" spc="-1" strike="noStrike">
              <a:solidFill>
                <a:srgbClr val="ccff99"/>
              </a:solidFill>
              <a:latin typeface="Univers Condense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Arial"/>
              </a:rPr>
              <a:t>Exposure: Cued Intrusions </a:t>
            </a:r>
            <a:endParaRPr b="0" lang="en-US" sz="2800" spc="-1" strike="noStrike">
              <a:solidFill>
                <a:srgbClr val="ccff99"/>
              </a:solidFill>
              <a:latin typeface="Univers Condensed"/>
            </a:endParaRPr>
          </a:p>
        </p:txBody>
      </p:sp>
    </p:spTree>
  </p:cSld>
  <p:transition spd="med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640880" y="1183680"/>
            <a:ext cx="670032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nxiety Disorders</a:t>
            </a:r>
            <a:endParaRPr b="1" lang="en-US" sz="44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600200" y="2133720"/>
            <a:ext cx="6781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Arial"/>
              </a:rPr>
              <a:t>Affects 2–5% of the child population.</a:t>
            </a:r>
            <a:endParaRPr b="0" lang="en-US" sz="2800" spc="-1" strike="noStrike">
              <a:solidFill>
                <a:srgbClr val="ccff99"/>
              </a:solidFill>
              <a:latin typeface="Univers Condense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Arial"/>
              </a:rPr>
              <a:t>Affects 20–30% of students referred to clinics for behavior problems.</a:t>
            </a:r>
            <a:endParaRPr b="0" lang="en-US" sz="2800" spc="-1" strike="noStrike">
              <a:solidFill>
                <a:srgbClr val="ccff99"/>
              </a:solidFill>
              <a:latin typeface="Univers Condense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Arial"/>
              </a:rPr>
              <a:t>Equal prevalence in boys and girls.</a:t>
            </a:r>
            <a:endParaRPr b="0" lang="en-US" sz="2800" spc="-1" strike="noStrike">
              <a:solidFill>
                <a:srgbClr val="ccff99"/>
              </a:solidFill>
              <a:latin typeface="Univers Condense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Arial"/>
              </a:rPr>
              <a:t>Have both social and biological causes.</a:t>
            </a:r>
            <a:endParaRPr b="0" lang="en-US" sz="2800" spc="-1" strike="noStrike">
              <a:solidFill>
                <a:srgbClr val="ccff99"/>
              </a:solidFill>
              <a:latin typeface="Univers Condense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Arial"/>
              </a:rPr>
              <a:t>Appear amenable to social learning approaches.</a:t>
            </a:r>
            <a:endParaRPr b="0" lang="en-US" sz="2800" spc="-1" strike="noStrike">
              <a:solidFill>
                <a:srgbClr val="ccff99"/>
              </a:solidFill>
              <a:latin typeface="Univers Condensed"/>
            </a:endParaRPr>
          </a:p>
        </p:txBody>
      </p:sp>
    </p:spTree>
  </p:cSld>
  <p:transition spd="med"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520" y="837720"/>
            <a:ext cx="6781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Arial"/>
              </a:rPr>
              <a:t>Key Issues</a:t>
            </a:r>
            <a:endParaRPr b="1" lang="en-US" sz="44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3880" y="16761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deb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debe2"/>
                </a:solidFill>
                <a:latin typeface="Arial"/>
              </a:rPr>
              <a:t>What are the strengths and limitations of behavioral models of OCD?</a:t>
            </a:r>
            <a:endParaRPr b="0" lang="en-US" sz="2800" spc="-1" strike="noStrike">
              <a:solidFill>
                <a:srgbClr val="ccff99"/>
              </a:solidFill>
              <a:latin typeface="Univers Condense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deb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be2"/>
                </a:solidFill>
                <a:latin typeface="Arial"/>
              </a:rPr>
              <a:t>Think about the empirical findings of current psychological models such as Salkovskis’</a:t>
            </a:r>
            <a:endParaRPr b="0" lang="en-US" sz="2400" spc="-1" strike="noStrike">
              <a:solidFill>
                <a:srgbClr val="ccff99"/>
              </a:solidFill>
              <a:latin typeface="Univers Condense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deb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debe2"/>
                </a:solidFill>
                <a:latin typeface="Arial"/>
              </a:rPr>
              <a:t>Have cognitive models of obsessions and compulsions helped us understand OCD and how it should be treated?</a:t>
            </a:r>
            <a:endParaRPr b="0" lang="en-US" sz="2800" spc="-1" strike="noStrike">
              <a:solidFill>
                <a:srgbClr val="ccff99"/>
              </a:solidFill>
              <a:latin typeface="Univers Condense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deb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debe2"/>
                </a:solidFill>
                <a:latin typeface="Arial"/>
              </a:rPr>
              <a:t>How are intrusive thoughts in OCD different from “normal” intrusive thoughts?</a:t>
            </a:r>
            <a:endParaRPr b="0" lang="en-US" sz="2800" spc="-1" strike="noStrike">
              <a:solidFill>
                <a:srgbClr val="ccff99"/>
              </a:solidFill>
              <a:latin typeface="Univers Condense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deb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be2"/>
                </a:solidFill>
                <a:latin typeface="Arial"/>
              </a:rPr>
              <a:t>Are they different at all?</a:t>
            </a:r>
            <a:endParaRPr b="0" lang="en-US" sz="2400" spc="-1" strike="noStrike">
              <a:solidFill>
                <a:srgbClr val="ccff99"/>
              </a:solidFill>
              <a:latin typeface="Univers Condensed"/>
            </a:endParaRPr>
          </a:p>
        </p:txBody>
      </p:sp>
    </p:spTree>
  </p:cSld>
  <p:transition spd="med"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640880" y="1183680"/>
            <a:ext cx="670032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osttraumatic Stress Disorder</a:t>
            </a:r>
            <a:endParaRPr b="1" lang="en-US" sz="40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600200" y="2133720"/>
            <a:ext cx="6781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Arial"/>
              </a:rPr>
              <a:t>Repeatedly perceived memories of the trauma.</a:t>
            </a:r>
            <a:endParaRPr b="0" lang="en-US" sz="2800" spc="-1" strike="noStrike">
              <a:solidFill>
                <a:srgbClr val="ccff99"/>
              </a:solidFill>
              <a:latin typeface="Univers Condense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Arial"/>
              </a:rPr>
              <a:t>Repetitive behaviors that may be similar to obsessions or compulsions.</a:t>
            </a:r>
            <a:endParaRPr b="0" lang="en-US" sz="2800" spc="-1" strike="noStrike">
              <a:solidFill>
                <a:srgbClr val="ccff99"/>
              </a:solidFill>
              <a:latin typeface="Univers Condense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Arial"/>
              </a:rPr>
              <a:t>Fears linked to the traumatic event.</a:t>
            </a:r>
            <a:endParaRPr b="0" lang="en-US" sz="2800" spc="-1" strike="noStrike">
              <a:solidFill>
                <a:srgbClr val="ccff99"/>
              </a:solidFill>
              <a:latin typeface="Univers Condense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Arial"/>
              </a:rPr>
              <a:t>Altered attitudes toward people, life, or the future, reflecting feelings of vulnerability.</a:t>
            </a:r>
            <a:endParaRPr b="0" lang="en-US" sz="2800" spc="-1" strike="noStrike">
              <a:solidFill>
                <a:srgbClr val="ccff99"/>
              </a:solidFill>
              <a:latin typeface="Univers Condensed"/>
            </a:endParaRPr>
          </a:p>
        </p:txBody>
      </p:sp>
    </p:spTree>
  </p:cSld>
  <p:transition spd="med">
    <p:checke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640880" y="1183680"/>
            <a:ext cx="670032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Univers Condensed"/>
              </a:rPr>
              <a:t>Stereotyped Movement Disorders</a:t>
            </a:r>
            <a:endParaRPr b="1" lang="en-US" sz="44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600200" y="2133720"/>
            <a:ext cx="6781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Arial"/>
              </a:rPr>
              <a:t>Involuntary, repetitious, persistent, nonfunctional acts over which the individual can exert at least some voluntary control.</a:t>
            </a:r>
            <a:endParaRPr b="0" lang="en-US" sz="2800" spc="-1" strike="noStrike">
              <a:solidFill>
                <a:srgbClr val="ccff99"/>
              </a:solidFill>
              <a:latin typeface="Univers Condense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Arial"/>
              </a:rPr>
              <a:t>Self-stimulation</a:t>
            </a:r>
            <a:endParaRPr b="0" lang="en-US" sz="2800" spc="-1" strike="noStrike">
              <a:solidFill>
                <a:srgbClr val="ccff99"/>
              </a:solidFill>
              <a:latin typeface="Univers Condense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Arial"/>
              </a:rPr>
              <a:t>Self-injury</a:t>
            </a:r>
            <a:endParaRPr b="0" lang="en-US" sz="2800" spc="-1" strike="noStrike">
              <a:solidFill>
                <a:srgbClr val="ccff99"/>
              </a:solidFill>
              <a:latin typeface="Univers Condense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Arial"/>
              </a:rPr>
              <a:t>Tics</a:t>
            </a:r>
            <a:endParaRPr b="0" lang="en-US" sz="2800" spc="-1" strike="noStrike">
              <a:solidFill>
                <a:srgbClr val="ccff99"/>
              </a:solidFill>
              <a:latin typeface="Univers Condense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Arial"/>
              </a:rPr>
              <a:t>Tourette’s syndrome</a:t>
            </a:r>
            <a:endParaRPr b="0" lang="en-US" sz="2800" spc="-1" strike="noStrike">
              <a:solidFill>
                <a:srgbClr val="ccff99"/>
              </a:solidFill>
              <a:latin typeface="Univers Condensed"/>
            </a:endParaRPr>
          </a:p>
        </p:txBody>
      </p:sp>
    </p:spTree>
  </p:cSld>
  <p:transition spd="med">
    <p:checke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640880" y="1183680"/>
            <a:ext cx="670032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lective Mutism</a:t>
            </a:r>
            <a:endParaRPr b="1" lang="en-US" sz="44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600200" y="2133720"/>
            <a:ext cx="6781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99"/>
                </a:solidFill>
                <a:latin typeface="Arial"/>
              </a:rPr>
              <a:t>Children who are reluctant to speak although they know how to converse normally.</a:t>
            </a:r>
            <a:endParaRPr b="0" lang="en-US" sz="2400" spc="-1" strike="noStrike">
              <a:solidFill>
                <a:srgbClr val="ccff99"/>
              </a:solidFill>
              <a:latin typeface="Univers Condense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99"/>
                </a:solidFill>
                <a:latin typeface="Arial"/>
              </a:rPr>
              <a:t>May be a response to:</a:t>
            </a:r>
            <a:endParaRPr b="0" lang="en-US" sz="2400" spc="-1" strike="noStrike">
              <a:solidFill>
                <a:srgbClr val="ccff99"/>
              </a:solidFill>
              <a:latin typeface="Univers Condense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99"/>
                </a:solidFill>
                <a:latin typeface="Arial"/>
              </a:rPr>
              <a:t>Trauma </a:t>
            </a:r>
            <a:endParaRPr b="0" lang="en-US" sz="2400" spc="-1" strike="noStrike">
              <a:solidFill>
                <a:srgbClr val="ccff99"/>
              </a:solidFill>
              <a:latin typeface="Univers Condense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99"/>
                </a:solidFill>
                <a:latin typeface="Arial"/>
              </a:rPr>
              <a:t>Abuse</a:t>
            </a:r>
            <a:endParaRPr b="0" lang="en-US" sz="2400" spc="-1" strike="noStrike">
              <a:solidFill>
                <a:srgbClr val="ccff99"/>
              </a:solidFill>
              <a:latin typeface="Univers Condense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99"/>
                </a:solidFill>
                <a:latin typeface="Arial"/>
              </a:rPr>
              <a:t>Social Anxiety</a:t>
            </a:r>
            <a:endParaRPr b="0" lang="en-US" sz="2400" spc="-1" strike="noStrike">
              <a:solidFill>
                <a:srgbClr val="ccff99"/>
              </a:solidFill>
              <a:latin typeface="Univers Condense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99"/>
                </a:solidFill>
                <a:latin typeface="Arial"/>
              </a:rPr>
              <a:t>Most effective interventions incorporate social learning principles.</a:t>
            </a:r>
            <a:endParaRPr b="0" lang="en-US" sz="2400" spc="-1" strike="noStrike">
              <a:solidFill>
                <a:srgbClr val="ccff99"/>
              </a:solidFill>
              <a:latin typeface="Univers Condensed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99"/>
              </a:solidFill>
              <a:latin typeface="Univers Condensed"/>
            </a:endParaRPr>
          </a:p>
        </p:txBody>
      </p:sp>
    </p:spTree>
  </p:cSld>
  <p:transition spd="med">
    <p:checke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640880" y="1183680"/>
            <a:ext cx="670032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ating Disorders</a:t>
            </a:r>
            <a:endParaRPr b="1" lang="en-US" sz="44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600200" y="2133720"/>
            <a:ext cx="6781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Arial"/>
              </a:rPr>
              <a:t>Anorexia</a:t>
            </a: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Arial"/>
              </a:rPr>
              <a:t>Bulimia</a:t>
            </a: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Arial"/>
              </a:rPr>
              <a:t>Pica</a:t>
            </a: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Arial"/>
              </a:rPr>
              <a:t>Rumination</a:t>
            </a: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Arial"/>
              </a:rPr>
              <a:t>Highly exclusive food preferences</a:t>
            </a: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Arial"/>
              </a:rPr>
              <a:t>Obesity</a:t>
            </a: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</p:txBody>
      </p:sp>
    </p:spTree>
  </p:cSld>
  <p:transition spd="med"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640880" y="1183680"/>
            <a:ext cx="670032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imination Disorders</a:t>
            </a:r>
            <a:endParaRPr b="1" lang="en-US" sz="44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600200" y="2133720"/>
            <a:ext cx="6781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Arial"/>
              </a:rPr>
              <a:t>Enuresis</a:t>
            </a: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Arial"/>
              </a:rPr>
              <a:t>Encopresis</a:t>
            </a: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</p:txBody>
      </p:sp>
    </p:spTree>
  </p:cSld>
  <p:transition spd="med">
    <p:checke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640880" y="1183680"/>
            <a:ext cx="670032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Univers Condensed"/>
              </a:rPr>
              <a:t>Sexual Problems</a:t>
            </a:r>
            <a:endParaRPr b="1" lang="en-US" sz="44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600200" y="2133720"/>
            <a:ext cx="6781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99"/>
              </a:buClr>
              <a:buFont typeface="Univers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Univers Condensed"/>
              </a:rPr>
              <a:t>Autoerotic activity</a:t>
            </a: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  <a:p>
            <a:pPr marL="343080" indent="-343080">
              <a:spcBef>
                <a:spcPts val="799"/>
              </a:spcBef>
              <a:buClr>
                <a:srgbClr val="ccff99"/>
              </a:buClr>
              <a:buFont typeface="Univers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Univers Condensed"/>
              </a:rPr>
              <a:t>Incest</a:t>
            </a: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  <a:p>
            <a:pPr marL="343080" indent="-343080">
              <a:spcBef>
                <a:spcPts val="799"/>
              </a:spcBef>
              <a:buClr>
                <a:srgbClr val="ccff99"/>
              </a:buClr>
              <a:buFont typeface="Univers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Univers Condensed"/>
              </a:rPr>
              <a:t>Masochism</a:t>
            </a: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</p:txBody>
      </p:sp>
    </p:spTree>
  </p:cSld>
  <p:transition spd="med">
    <p:checke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640880" y="1183680"/>
            <a:ext cx="670032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Univers Condensed"/>
              </a:rPr>
              <a:t>Social Isolation</a:t>
            </a:r>
            <a:endParaRPr b="1" lang="en-US" sz="44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600200" y="2133720"/>
            <a:ext cx="6781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99"/>
              </a:buClr>
              <a:buFont typeface="Univers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Univers Condensed"/>
              </a:rPr>
              <a:t>Intervention using social skills training</a:t>
            </a: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  <a:p>
            <a:pPr lvl="1" marL="743040" indent="-285840">
              <a:spcBef>
                <a:spcPts val="700"/>
              </a:spcBef>
              <a:buClr>
                <a:srgbClr val="ccff99"/>
              </a:buClr>
              <a:buFont typeface="Univers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Univers Condensed"/>
              </a:rPr>
              <a:t>Modeling</a:t>
            </a:r>
            <a:endParaRPr b="0" lang="en-US" sz="2800" spc="-1" strike="noStrike">
              <a:solidFill>
                <a:srgbClr val="ccff99"/>
              </a:solidFill>
              <a:latin typeface="Univers Condensed"/>
            </a:endParaRPr>
          </a:p>
          <a:p>
            <a:pPr lvl="1" marL="743040" indent="-285840">
              <a:spcBef>
                <a:spcPts val="700"/>
              </a:spcBef>
              <a:buClr>
                <a:srgbClr val="ccff99"/>
              </a:buClr>
              <a:buFont typeface="Univers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Univers Condensed"/>
              </a:rPr>
              <a:t>Rehearsal</a:t>
            </a:r>
            <a:endParaRPr b="0" lang="en-US" sz="2800" spc="-1" strike="noStrike">
              <a:solidFill>
                <a:srgbClr val="ccff99"/>
              </a:solidFill>
              <a:latin typeface="Univers Condensed"/>
            </a:endParaRPr>
          </a:p>
          <a:p>
            <a:pPr lvl="1" marL="743040" indent="-285840">
              <a:spcBef>
                <a:spcPts val="700"/>
              </a:spcBef>
              <a:buClr>
                <a:srgbClr val="ccff99"/>
              </a:buClr>
              <a:buFont typeface="Univers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Univers Condensed"/>
              </a:rPr>
              <a:t>Guided Practice</a:t>
            </a:r>
            <a:endParaRPr b="0" lang="en-US" sz="2800" spc="-1" strike="noStrike">
              <a:solidFill>
                <a:srgbClr val="ccff99"/>
              </a:solidFill>
              <a:latin typeface="Univers Condensed"/>
            </a:endParaRPr>
          </a:p>
          <a:p>
            <a:pPr lvl="1" marL="743040" indent="-285840">
              <a:spcBef>
                <a:spcPts val="700"/>
              </a:spcBef>
              <a:buClr>
                <a:srgbClr val="ccff99"/>
              </a:buClr>
              <a:buFont typeface="Univers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Univers Condensed"/>
              </a:rPr>
              <a:t>Feedback</a:t>
            </a:r>
            <a:endParaRPr b="0" lang="en-US" sz="2800" spc="-1" strike="noStrike">
              <a:solidFill>
                <a:srgbClr val="ccff99"/>
              </a:solidFill>
              <a:latin typeface="Univers Condensed"/>
            </a:endParaRPr>
          </a:p>
        </p:txBody>
      </p:sp>
    </p:spTree>
  </p:cSld>
  <p:transition spd="med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640880" y="1183680"/>
            <a:ext cx="670032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terventions for School Phobia</a:t>
            </a:r>
            <a:endParaRPr b="1" lang="en-US" sz="40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600200" y="2133720"/>
            <a:ext cx="6781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Arial"/>
              </a:rPr>
              <a:t>Desensitize the child’s fear by role playing.</a:t>
            </a:r>
            <a:endParaRPr b="0" lang="en-US" sz="2800" spc="-1" strike="noStrike">
              <a:solidFill>
                <a:srgbClr val="ccff99"/>
              </a:solidFill>
              <a:latin typeface="Univers Condense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Arial"/>
              </a:rPr>
              <a:t>Reinforce school attendance, even for brief periods.</a:t>
            </a:r>
            <a:endParaRPr b="0" lang="en-US" sz="2800" spc="-1" strike="noStrike">
              <a:solidFill>
                <a:srgbClr val="ccff99"/>
              </a:solidFill>
              <a:latin typeface="Univers Condense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Arial"/>
              </a:rPr>
              <a:t>Include matter-of-fact parental statements that child will go back to school.</a:t>
            </a:r>
            <a:endParaRPr b="0" lang="en-US" sz="2800" spc="-1" strike="noStrike">
              <a:solidFill>
                <a:srgbClr val="ccff99"/>
              </a:solidFill>
              <a:latin typeface="Univers Condense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Arial"/>
              </a:rPr>
              <a:t>Remove reinforcers for staying home.</a:t>
            </a:r>
            <a:endParaRPr b="0" lang="en-US" sz="2800" spc="-1" strike="noStrike">
              <a:solidFill>
                <a:srgbClr val="ccff99"/>
              </a:solidFill>
              <a:latin typeface="Univers Condensed"/>
            </a:endParaRPr>
          </a:p>
        </p:txBody>
      </p:sp>
    </p:spTree>
  </p:cSld>
  <p:transition spd="med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4114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be0e3"/>
                </a:solidFill>
                <a:latin typeface="Arial"/>
              </a:rPr>
              <a:t>Obsessive Compulsive Disorder</a:t>
            </a:r>
            <a:endParaRPr b="0" lang="en-US" sz="54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4952520"/>
            <a:ext cx="3581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Arial"/>
              </a:rPr>
              <a:t>Dr. Aubrey H. Fine</a:t>
            </a:r>
            <a:endParaRPr b="0" lang="en-US" sz="3200" spc="-1" strike="noStrike">
              <a:solidFill>
                <a:srgbClr val="cdebe2"/>
              </a:solidFill>
              <a:latin typeface="Univers Condensed"/>
            </a:endParaRPr>
          </a:p>
        </p:txBody>
      </p:sp>
    </p:spTree>
  </p:cSld>
  <p:transition spd="med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640880" y="1183680"/>
            <a:ext cx="670032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Univers Condensed"/>
              </a:rPr>
              <a:t>Obsessive Compulsive Disorder</a:t>
            </a:r>
            <a:endParaRPr b="1" lang="en-US" sz="44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600200" y="2133720"/>
            <a:ext cx="6781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ff99"/>
              </a:buClr>
              <a:buFont typeface="Univers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Univers Condensed"/>
              </a:rPr>
              <a:t>OCD may include:</a:t>
            </a: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  <a:p>
            <a:pPr lvl="1" marL="676080" indent="-259920">
              <a:spcBef>
                <a:spcPts val="700"/>
              </a:spcBef>
              <a:buClr>
                <a:srgbClr val="ccff99"/>
              </a:buClr>
              <a:buFont typeface="Univers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Univers Condensed"/>
              </a:rPr>
              <a:t>Washing, checking, or other repetitive motor behavior</a:t>
            </a:r>
            <a:endParaRPr b="0" lang="en-US" sz="2800" spc="-1" strike="noStrike">
              <a:solidFill>
                <a:srgbClr val="ccff99"/>
              </a:solidFill>
              <a:latin typeface="Univers Condensed"/>
            </a:endParaRPr>
          </a:p>
          <a:p>
            <a:pPr lvl="1" marL="676080" indent="-259920">
              <a:spcBef>
                <a:spcPts val="700"/>
              </a:spcBef>
              <a:buClr>
                <a:srgbClr val="ccff99"/>
              </a:buClr>
              <a:buFont typeface="Univers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Univers Condensed"/>
              </a:rPr>
              <a:t>Cognitive compulsions consisting of words, phrases, prayers, or sequences of numbers</a:t>
            </a:r>
            <a:endParaRPr b="0" lang="en-US" sz="2800" spc="-1" strike="noStrike">
              <a:solidFill>
                <a:srgbClr val="ccff99"/>
              </a:solidFill>
              <a:latin typeface="Univers Condensed"/>
            </a:endParaRPr>
          </a:p>
          <a:p>
            <a:pPr lvl="1" marL="676080" indent="-259920">
              <a:spcBef>
                <a:spcPts val="700"/>
              </a:spcBef>
              <a:buClr>
                <a:srgbClr val="ccff99"/>
              </a:buClr>
              <a:buFont typeface="Univers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Univers Condensed"/>
              </a:rPr>
              <a:t>Obsessional slowness</a:t>
            </a:r>
            <a:endParaRPr b="0" lang="en-US" sz="2800" spc="-1" strike="noStrike">
              <a:solidFill>
                <a:srgbClr val="ccff99"/>
              </a:solidFill>
              <a:latin typeface="Univers Condensed"/>
            </a:endParaRPr>
          </a:p>
          <a:p>
            <a:pPr lvl="1" marL="676080" indent="-259920">
              <a:spcBef>
                <a:spcPts val="700"/>
              </a:spcBef>
              <a:buClr>
                <a:srgbClr val="ccff99"/>
              </a:buClr>
              <a:buFont typeface="Univers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Univers Condensed"/>
              </a:rPr>
              <a:t>Doubts and questions that elevate anxiety</a:t>
            </a:r>
            <a:endParaRPr b="0" lang="en-US" sz="2800" spc="-1" strike="noStrike">
              <a:solidFill>
                <a:srgbClr val="ccff99"/>
              </a:solidFill>
              <a:latin typeface="Univers Condensed"/>
            </a:endParaRPr>
          </a:p>
        </p:txBody>
      </p:sp>
    </p:spTree>
  </p:cSld>
  <p:transition spd="med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5280" y="91404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debe2"/>
                </a:solidFill>
                <a:latin typeface="Arial"/>
              </a:rPr>
              <a:t>Aims and Learning Outcomes</a:t>
            </a:r>
            <a:endParaRPr b="1" lang="en-US" sz="40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00200" y="2133720"/>
            <a:ext cx="6781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Arial"/>
              </a:rPr>
              <a:t>Describing OCD</a:t>
            </a: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Arial"/>
              </a:rPr>
              <a:t>Classification</a:t>
            </a: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Arial"/>
              </a:rPr>
              <a:t>Theories</a:t>
            </a: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Arial"/>
              </a:rPr>
              <a:t>Biological</a:t>
            </a:r>
            <a:endParaRPr b="0" lang="en-US" sz="2800" spc="-1" strike="noStrike">
              <a:solidFill>
                <a:srgbClr val="ccff99"/>
              </a:solidFill>
              <a:latin typeface="Univers Condense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Arial"/>
              </a:rPr>
              <a:t>Behavioral</a:t>
            </a:r>
            <a:endParaRPr b="0" lang="en-US" sz="2800" spc="-1" strike="noStrike">
              <a:solidFill>
                <a:srgbClr val="ccff99"/>
              </a:solidFill>
              <a:latin typeface="Univers Condense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Arial"/>
              </a:rPr>
              <a:t>Cognitive</a:t>
            </a:r>
            <a:endParaRPr b="0" lang="en-US" sz="2800" spc="-1" strike="noStrike">
              <a:solidFill>
                <a:srgbClr val="ccff99"/>
              </a:solidFill>
              <a:latin typeface="Univers Condense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</p:txBody>
      </p:sp>
    </p:spTree>
  </p:cSld>
  <p:transition spd="med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6094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Facts and Figures</a:t>
            </a:r>
            <a:endParaRPr b="1" lang="en-US" sz="44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086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revalence</a:t>
            </a:r>
            <a:endParaRPr b="0" lang="en-US" sz="3200" spc="-1" strike="noStrike">
              <a:solidFill>
                <a:srgbClr val="ccff99"/>
              </a:solidFill>
              <a:latin typeface="Univers Condense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Originally believed to be rare</a:t>
            </a:r>
            <a:endParaRPr b="0" lang="en-US" sz="2800" spc="-1" strike="noStrike">
              <a:solidFill>
                <a:srgbClr val="ccff99"/>
              </a:solidFill>
              <a:latin typeface="Univers Condense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&gt;0.1%</a:t>
            </a:r>
            <a:endParaRPr b="0" lang="en-US" sz="2400" spc="-1" strike="noStrike">
              <a:solidFill>
                <a:srgbClr val="ccff99"/>
              </a:solidFill>
              <a:latin typeface="Univers Condense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ecent evidence suggests 1-3% Onset / Characteristics:</a:t>
            </a:r>
            <a:endParaRPr b="0" lang="en-US" sz="2800" spc="-1" strike="noStrike">
              <a:solidFill>
                <a:srgbClr val="ccff99"/>
              </a:solidFill>
              <a:latin typeface="Univers Condense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les:, high prevalence of checking</a:t>
            </a:r>
            <a:endParaRPr b="0" lang="en-US" sz="2800" spc="-1" strike="noStrike">
              <a:solidFill>
                <a:srgbClr val="ccff99"/>
              </a:solidFill>
              <a:latin typeface="Univers Condense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emales:, high prevalence of washing</a:t>
            </a:r>
            <a:endParaRPr b="0" lang="en-US" sz="2800" spc="-1" strike="noStrike">
              <a:solidFill>
                <a:srgbClr val="ccff99"/>
              </a:solidFill>
              <a:latin typeface="Univers Condensed"/>
            </a:endParaRPr>
          </a:p>
        </p:txBody>
      </p:sp>
    </p:spTree>
  </p:cSld>
  <p:transition spd="med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ebe2"/>
                </a:solidFill>
                <a:latin typeface="Arial"/>
              </a:rPr>
              <a:t>OCD Diagnosis (1): DSM IV</a:t>
            </a:r>
            <a:endParaRPr b="1" lang="en-US" sz="44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240" y="159984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Arial"/>
              </a:rPr>
              <a:t>Obsessions defined by all of the following:</a:t>
            </a:r>
            <a:endParaRPr b="0" lang="en-US" sz="2800" spc="-1" strike="noStrike">
              <a:solidFill>
                <a:srgbClr val="ccff99"/>
              </a:solidFill>
              <a:latin typeface="Univers Condense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99"/>
                </a:solidFill>
                <a:latin typeface="Arial"/>
              </a:rPr>
              <a:t>Recurrent and persistent thoughts, impulses or images experience at some time during the disturbance, as intrusive and inappropriate and that cause marked anxiety or distress.</a:t>
            </a:r>
            <a:endParaRPr b="0" lang="en-US" sz="2400" spc="-1" strike="noStrike">
              <a:solidFill>
                <a:srgbClr val="ccff99"/>
              </a:solidFill>
              <a:latin typeface="Univers Condense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99"/>
                </a:solidFill>
                <a:latin typeface="Arial"/>
              </a:rPr>
              <a:t>The thoughts/impulses/images are not simply excessive worries about real life problems.</a:t>
            </a:r>
            <a:endParaRPr b="0" lang="en-US" sz="2400" spc="-1" strike="noStrike">
              <a:solidFill>
                <a:srgbClr val="ccff99"/>
              </a:solidFill>
              <a:latin typeface="Univers Condense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99"/>
                </a:solidFill>
                <a:latin typeface="Arial"/>
              </a:rPr>
              <a:t>The person attempts to ignore or suppress such thoughts/impulses/images, or neutralize them with some other thought or action.</a:t>
            </a:r>
            <a:endParaRPr b="0" lang="en-US" sz="2400" spc="-1" strike="noStrike">
              <a:solidFill>
                <a:srgbClr val="ccff99"/>
              </a:solidFill>
              <a:latin typeface="Univers Condense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99"/>
                </a:solidFill>
                <a:latin typeface="Arial"/>
              </a:rPr>
              <a:t>The person recognizes that the obsessional thoughts/impulses/images are a product of their own mind (not imposed from without).</a:t>
            </a:r>
            <a:endParaRPr b="0" lang="en-US" sz="2400" spc="-1" strike="noStrike">
              <a:solidFill>
                <a:srgbClr val="ccff99"/>
              </a:solidFill>
              <a:latin typeface="Univers Condense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99"/>
              </a:solidFill>
              <a:latin typeface="Univers Condensed"/>
            </a:endParaRPr>
          </a:p>
        </p:txBody>
      </p:sp>
    </p:spTree>
  </p:cSld>
  <p:transition spd="med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ebe2"/>
                </a:solidFill>
                <a:latin typeface="Arial"/>
              </a:rPr>
              <a:t>OCD Diagnosis (2): DSM IV</a:t>
            </a:r>
            <a:endParaRPr b="1" lang="en-US" sz="44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240" y="159984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Arial"/>
              </a:rPr>
              <a:t>Compulsions defined by:</a:t>
            </a:r>
            <a:endParaRPr b="0" lang="en-US" sz="2800" spc="-1" strike="noStrike">
              <a:solidFill>
                <a:srgbClr val="ccff99"/>
              </a:solidFill>
              <a:latin typeface="Univers Condense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99"/>
                </a:solidFill>
                <a:latin typeface="Arial"/>
              </a:rPr>
              <a:t>Repetitive behaviors or mental acts that the person feels driven to perform in response to an obsession, or according to rules which must be applied rigidly</a:t>
            </a:r>
            <a:endParaRPr b="0" lang="en-US" sz="2400" spc="-1" strike="noStrike">
              <a:solidFill>
                <a:srgbClr val="ccff99"/>
              </a:solidFill>
              <a:latin typeface="Univers Condense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99"/>
                </a:solidFill>
                <a:latin typeface="Arial"/>
              </a:rPr>
              <a:t>The behaviors or mental acts are aimed at preventing or reducing distress or preventing some dreaded event or situation; however, these behaviors or mental acts either are not connected in a realistic way with what they are designed to neutralize or prevent, or are clearly excessive</a:t>
            </a:r>
            <a:endParaRPr b="0" lang="en-US" sz="2400" spc="-1" strike="noStrike">
              <a:solidFill>
                <a:srgbClr val="ccff99"/>
              </a:solidFill>
              <a:latin typeface="Univers Condense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Arial"/>
              </a:rPr>
              <a:t>Not better accounted for by other diagnosis</a:t>
            </a:r>
            <a:endParaRPr b="0" lang="en-US" sz="2800" spc="-1" strike="noStrike">
              <a:solidFill>
                <a:srgbClr val="ccff99"/>
              </a:solidFill>
              <a:latin typeface="Univers Condensed"/>
            </a:endParaRPr>
          </a:p>
        </p:txBody>
      </p:sp>
    </p:spTree>
  </p:cSld>
  <p:transition spd="med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9:11:57Z</dcterms:created>
  <dc:creator>Adminassist2</dc:creator>
  <dc:description/>
  <dc:language>en-US</dc:language>
  <cp:lastModifiedBy>ahfine</cp:lastModifiedBy>
  <dcterms:modified xsi:type="dcterms:W3CDTF">2006-05-01T03:05:05Z</dcterms:modified>
  <cp:revision>30</cp:revision>
  <dc:subject/>
  <dc:title>FREEFALL</dc:title>
</cp:coreProperties>
</file>