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C65F2-6EB2-4B5D-A2DD-4EEDB5C98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0D49-E900-442C-9DAC-80B27321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1B425-D292-4E5F-8B7D-9024CF41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42932-7BAA-4347-83D4-E00C45A55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58125-EE48-48D3-8416-04F055752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39ED7-A1F0-482B-9D7D-C2B0A80BC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A32A9-8929-49EA-89F1-261FB8924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5D09D-4239-4E91-8F16-20A8DDEE2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9690D-5AED-4E7E-B2D4-6D2D941DA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F777C-3774-4E4B-9D3F-8ED83D56C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11D7D-C79F-41B1-856C-DD4261F6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0399-6DA5-480D-A1CA-5C6F2F09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777D-73BC-4E72-8B75-5190DF86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03985-53DF-4335-9B7B-F1EE000EB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47B4C-75C0-40F6-837B-2E282FBE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89890-F59D-4694-A0A8-D9DC13766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ACBC2-EF1E-4C51-AE9C-CC0FE555E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F6D4-B317-4011-B35A-091B970F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A852-0401-433F-BE6C-446C505E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008D-075D-4F09-9E69-A0821B04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BC843-3680-4502-8DE5-FE89B7999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F629-0F4E-4D09-B206-E89BEF4A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C97B-8E88-4C1C-8810-40759353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7270-2181-4F7C-B4F6-AA4544AF9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3E7A-BB0C-44DC-8253-AA6368C01C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58A0-00AD-457B-8DA3-395E110A364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evalence: The Extent of the Problem</a:t>
            </a:r>
            <a:endParaRPr b="1" lang="en-US" sz="3600" spc="-1" strike="noStrike">
              <a:solidFill>
                <a:srgbClr val="003366"/>
              </a:solidFill>
              <a:latin typeface="Arial"/>
            </a:endParaRPr>
          </a:p>
        </p:txBody>
      </p:sp>
      <p:sp>
        <p:nvSpPr>
          <p:cNvPr id="96" name="PlaceHolder 2"/>
          <p:cNvSpPr>
            <a:spLocks noGrp="1"/>
          </p:cNvSpPr>
          <p:nvPr>
            <p:ph type="subTitle"/>
          </p:nvPr>
        </p:nvSpPr>
        <p:spPr>
          <a:xfrm>
            <a:off x="1980720" y="2895120"/>
            <a:ext cx="6705720" cy="1854360"/>
          </a:xfrm>
          <a:prstGeom prst="rect">
            <a:avLst/>
          </a:prstGeom>
          <a:solidFill>
            <a:srgbClr val="ffffff"/>
          </a:solidFill>
          <a:ln w="0">
            <a:noFill/>
          </a:ln>
        </p:spPr>
        <p:txBody>
          <a:bodyPr lIns="90000" rIns="90000" tIns="46800" bIns="46800" anchor="b">
            <a:noAutofit/>
          </a:bodyPr>
          <a:p>
            <a:pPr>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What is the prevalence of students with emotional and behavior disorders?</a:t>
            </a:r>
            <a:endParaRPr b="0" lang="en-US" sz="2800" spc="-1" strike="noStrike">
              <a:solidFill>
                <a:srgbClr val="006666"/>
              </a:solidFill>
              <a:latin typeface="Arial"/>
            </a:endParaRPr>
          </a:p>
          <a:p>
            <a:pPr>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What percentage of these students are being served by special education?</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o Has the Disorder?</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T.J. have an emotional or behavior disorde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he need special education intervention o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forms of help?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J. is 11 years old. He has no particular academic difficulties and his IQ is 115. Teachers describe him as difficult to manage (teasing, talking out loud, fighting, and temper outbursts). T.J. doesn’t have close friends. His parents are not interested in his progress at school. He is failing most of his academic subject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ing of Prevalence and Incidence</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alence: Number of individuals with X disorder in a population. </a:t>
            </a:r>
            <a:r>
              <a:rPr b="0" i="1" lang="en-US" sz="2400" spc="-1" strike="noStrike">
                <a:solidFill>
                  <a:srgbClr val="003366"/>
                </a:solidFill>
                <a:latin typeface="Arial"/>
              </a:rPr>
              <a:t>The number of students with emotional or behavioral disorders or mental retardati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idence: Number of new cases of X disorder in a population. </a:t>
            </a:r>
            <a:r>
              <a:rPr b="0" i="1" lang="en-US" sz="2400" spc="-1" strike="noStrike">
                <a:solidFill>
                  <a:srgbClr val="003366"/>
                </a:solidFill>
                <a:latin typeface="Arial"/>
              </a:rPr>
              <a:t>The incidence of pregnancy, suicidal behavior, drug and alcohol use among students in public schoo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ing of Prevalence and Incidence</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Prevalence and incidence estimation is important for those who plan for intervention programs districtwide, statewide, or at a national level.</a:t>
            </a:r>
            <a:endParaRPr b="0" lang="en-US" sz="3000" spc="-1" strike="noStrike">
              <a:solidFill>
                <a:srgbClr val="003366"/>
              </a:solidFill>
              <a:latin typeface="Arial"/>
            </a:endParaRPr>
          </a:p>
          <a:p>
            <a:pPr marL="343080" indent="-343080">
              <a:lnSpc>
                <a:spcPct val="90000"/>
              </a:lnSpc>
              <a:spcBef>
                <a:spcPts val="7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Problems in estimation:</a:t>
            </a:r>
            <a:endParaRPr b="0" lang="en-US" sz="30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ack of standard defini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imation, false positives, and false negativ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policy and economic factors.</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ing of Prevalence and Incidence</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estimates of prevale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to 6 percent of the population is believed to have behavior problems that require special education intervention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ing of Prevalence and Incidence</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ercentage of students served under the </a:t>
            </a:r>
            <a:r>
              <a:rPr b="1" i="1" lang="en-US" sz="2000" spc="-1" strike="noStrike">
                <a:solidFill>
                  <a:srgbClr val="003366"/>
                </a:solidFill>
                <a:latin typeface="Arial"/>
              </a:rPr>
              <a:t>seriously emotionally disturbed</a:t>
            </a:r>
            <a:r>
              <a:rPr b="0" lang="en-US" sz="2400" spc="-1" strike="noStrike">
                <a:solidFill>
                  <a:srgbClr val="003366"/>
                </a:solidFill>
                <a:latin typeface="Arial"/>
              </a:rPr>
              <a:t> category has been declining since 1986 for the following reas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clear definition of SED eligibility exists in the law.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operational definition of SED differs from state to stat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conomic realities: Serving 2 percent would require several more billions of dollars in one year.</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age of adequately trained personnel.</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igma of labeling a child as “severely emotionally disturb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actors Affecting Prevalence and the Placement of Services</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BD is not identified at the same rate across age groups: Identification is more likely at a later age than the early school yea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otional or behavioral disorders are not identified in the same proportion across all ethnic group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17:55:56Z</dcterms:created>
  <dc:creator>Lama Othman</dc:creator>
  <dc:description/>
  <dc:language>en-US</dc:language>
  <cp:lastModifiedBy>Sheryl Langner</cp:lastModifiedBy>
  <dcterms:modified xsi:type="dcterms:W3CDTF">2004-06-24T13:09:58Z</dcterms:modified>
  <cp:revision>29</cp:revision>
  <dc:subject/>
  <dc:title>Prevalence: The Extent of the Problem</dc:title>
</cp:coreProperties>
</file>