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9F42C-864F-4073-A81D-F1071AF93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EFD31-67EF-402E-BE41-12D51B7EF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6894D-452D-42EC-9E86-680F67936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D530A-1DA1-4BC0-9CB6-6EF87C1A8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64402-ABB8-4412-9405-03A0CAB7EC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16DBF-7B0D-4E52-9645-8A2450DA0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46117-2BB3-490D-88DC-54E945F6A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E7A95-2925-4D12-B2DA-ED76C4CD2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C8C07-6938-4F94-978B-198F18F75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61893-EF63-42C3-B38E-EDAAAD1F7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AEC34-8538-4D5D-9C76-9FF7A4BCE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3D5A1-3667-41CE-8BFC-0F641B759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12AC9-A13A-443F-B019-6DB28248F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44C7C-29A4-4FAF-B648-3AC585152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FE26F-C9A9-46A6-91EF-7BA6533E5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2F118-DAC7-47D6-BD13-E0B46CBF3A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7DB322-A12D-44B2-AB1F-177747B7FA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5F217-4075-4D9B-90AB-C83EC483D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0C060-022B-416F-8889-11AFB0948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DD039-99B7-42BE-AF1F-735159256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848BC-B2E6-409F-809A-F067D8E5F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793EE-1878-4C0A-9B71-EB3886BF9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C9547-2305-4C58-B7B8-E02237DA8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D5087-1D64-41F7-9568-2E610D554E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7F97-C5FC-477E-AC50-13F088EEB6B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A4CA-838E-4195-8DC6-57185AE4883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finition:</a:t>
            </a:r>
            <a:br>
              <a:rPr sz="3600"/>
            </a:br>
            <a:r>
              <a:rPr b="1" lang="en-US" sz="3600" spc="-1" strike="noStrike">
                <a:solidFill>
                  <a:srgbClr val="003366"/>
                </a:solidFill>
                <a:latin typeface="Arial"/>
              </a:rPr>
              <a:t>The Nature of the Problem</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What is an emotional or behavioral disorder?</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of Definitio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fficulties in Measuring Emotions and Behavio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sychometric tes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havioral frequenc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of Definition</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nge and Variability of Normal and Deviant Behavio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nsit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t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of Definition</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lationships Among Emotional or Behavioral Disorders and Other Exceptionaliti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ntal retard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arning disabilit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munication disorder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ience of Many Emotional and Behavioral Problem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of Definition</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84872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advantages in Labeling Devianc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i="1" lang="en-US" sz="2800" spc="-1" strike="noStrike">
                <a:solidFill>
                  <a:srgbClr val="003366"/>
                </a:solidFill>
                <a:latin typeface="Arial"/>
              </a:rPr>
              <a:t>We cannot talk about things, including disabilities, without using labels (language) to describe them.” </a:t>
            </a:r>
            <a:r>
              <a:rPr b="0" lang="en-US" sz="2800" spc="-1" strike="noStrike">
                <a:solidFill>
                  <a:srgbClr val="003366"/>
                </a:solidFill>
                <a:latin typeface="Arial"/>
              </a:rPr>
              <a:t>(Kauffman, 2004)</a:t>
            </a:r>
            <a:r>
              <a:rPr b="0" i="1"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of Definition</a:t>
            </a:r>
            <a:endParaRPr b="1" lang="en-US" sz="3600" spc="-1" strike="noStrike">
              <a:solidFill>
                <a:srgbClr val="006666"/>
              </a:solidFill>
              <a:latin typeface="Arial"/>
            </a:endParaRPr>
          </a:p>
        </p:txBody>
      </p:sp>
      <p:sp>
        <p:nvSpPr>
          <p:cNvPr id="123" name="PlaceHolder 1"/>
          <p:cNvSpPr>
            <a:spLocks noGrp="1"/>
          </p:cNvSpPr>
          <p:nvPr>
            <p:ph/>
          </p:nvPr>
        </p:nvSpPr>
        <p:spPr>
          <a:xfrm>
            <a:off x="837720" y="2209320"/>
            <a:ext cx="815364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portance of the Definition</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dical       </a:t>
            </a:r>
            <a:r>
              <a:rPr b="0" lang="en-US" sz="2000" spc="-1" strike="noStrike">
                <a:solidFill>
                  <a:srgbClr val="003366"/>
                </a:solidFill>
                <a:latin typeface="Arial"/>
              </a:rPr>
              <a:t>	</a:t>
            </a:r>
            <a:r>
              <a:rPr b="0" lang="en-US" sz="1200" spc="-1" strike="noStrike">
                <a:solidFill>
                  <a:srgbClr val="003366"/>
                </a:solidFill>
                <a:latin typeface="Arial"/>
                <a:ea typeface="Arial"/>
              </a:rPr>
              <a:t>–   </a:t>
            </a:r>
            <a:r>
              <a:rPr b="0" lang="en-US" sz="2000" spc="-1" strike="noStrike">
                <a:solidFill>
                  <a:srgbClr val="003366"/>
                </a:solidFill>
                <a:latin typeface="Arial"/>
              </a:rPr>
              <a:t>Legislative</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urrent Federal Definition</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rivation</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Bower’s 1981 definition, there is some ambiguity in defining the “inability to learn;” is it inability to learn social behavior or only academic skills? How long does it last? How can we determine that inability to learn is irrelevant  to intellectual or health factors? Are health and mental factors separable? What are satisfactory interpersonal relationships with peers? What is inappropriate behavior? What are normal conditions? When is unhappiness pervasive?</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us</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DEA. Did the definition of IDEA resolve the ambiguity in Bower’s definition? What is the problem of including schizophrenia in the definitio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pective on Definition</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A useful definition for educators is one that focuses on the student’s behavior at school settings. Therefore, teachers should be viewed as the most important individuals in the process of decision making and defining disturbed childre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merging Definition: National Mental Health and Special Education Coalition</a:t>
            </a:r>
            <a:endParaRPr b="1" lang="en-US" sz="32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he term </a:t>
            </a:r>
            <a:r>
              <a:rPr b="1" i="1" lang="en-US" sz="1400" spc="-1" strike="noStrike">
                <a:solidFill>
                  <a:srgbClr val="003366"/>
                </a:solidFill>
                <a:latin typeface="Arial"/>
              </a:rPr>
              <a:t>emotional or behavioral disorder</a:t>
            </a:r>
            <a:r>
              <a:rPr b="1" lang="en-US" sz="1400" spc="-1" strike="noStrike">
                <a:solidFill>
                  <a:srgbClr val="003366"/>
                </a:solidFill>
                <a:latin typeface="Arial"/>
              </a:rPr>
              <a:t> means a disability characterized by behavioral or emotional responses in school programs so different from appropriate age, cultural, or ethnic norms that they adversely affect educational performance, including academic, social, vocational, or personal skills and which:</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is more than a temporary, expected response to stressful events in the </a:t>
            </a:r>
            <a:r>
              <a:rPr b="0" lang="en-US" sz="1400" spc="-1" strike="noStrike">
                <a:solidFill>
                  <a:srgbClr val="003366"/>
                </a:solidFill>
                <a:latin typeface="Arial"/>
              </a:rPr>
              <a:t>	</a:t>
            </a:r>
            <a:r>
              <a:rPr b="0" lang="en-US" sz="1400" spc="-1" strike="noStrike">
                <a:solidFill>
                  <a:srgbClr val="003366"/>
                </a:solidFill>
                <a:latin typeface="Arial"/>
              </a:rPr>
              <a:t>environment;</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b) is consistently exhibited in two different settings, at least one of which is school-</a:t>
            </a:r>
            <a:r>
              <a:rPr b="0" lang="en-US" sz="1400" spc="-1" strike="noStrike">
                <a:solidFill>
                  <a:srgbClr val="003366"/>
                </a:solidFill>
                <a:latin typeface="Arial"/>
              </a:rPr>
              <a:t>	</a:t>
            </a:r>
            <a:r>
              <a:rPr b="0" lang="en-US" sz="1400" spc="-1" strike="noStrike">
                <a:solidFill>
                  <a:srgbClr val="003366"/>
                </a:solidFill>
                <a:latin typeface="Arial"/>
              </a:rPr>
              <a:t>related; and</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c) persists despite individualized interventions within the education program, </a:t>
            </a:r>
            <a:r>
              <a:rPr b="0" lang="en-US" sz="1400" spc="-1" strike="noStrike">
                <a:solidFill>
                  <a:srgbClr val="003366"/>
                </a:solidFill>
                <a:latin typeface="Arial"/>
              </a:rPr>
              <a:t>	</a:t>
            </a:r>
            <a:r>
              <a:rPr b="0" lang="en-US" sz="1400" spc="-1" strike="noStrike">
                <a:solidFill>
                  <a:srgbClr val="003366"/>
                </a:solidFill>
                <a:latin typeface="Arial"/>
              </a:rPr>
              <a:t>unless, in the judgment of the team, the child’s or youth’s history indicates that such </a:t>
            </a:r>
            <a:r>
              <a:rPr b="0" lang="en-US" sz="1400" spc="-1" strike="noStrike">
                <a:solidFill>
                  <a:srgbClr val="003366"/>
                </a:solidFill>
                <a:latin typeface="Arial"/>
              </a:rPr>
              <a:t>	</a:t>
            </a:r>
            <a:r>
              <a:rPr b="0" lang="en-US" sz="1400" spc="-1" strike="noStrike">
                <a:solidFill>
                  <a:srgbClr val="003366"/>
                </a:solidFill>
                <a:latin typeface="Arial"/>
              </a:rPr>
              <a:t>interventions would not be effective.</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Emotional or behavioral disorders can co-exist with other disabilities.</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his category may include children or youth with schizophrenic disorders, affective disorders, anxiety disorders, or other sustained disturbances or conduct or adjustment when they adversely affect educational performance in accordance with section I. </a:t>
            </a:r>
            <a:endParaRPr b="0" lang="en-US" sz="14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Forness &amp; Knitzer, 1992, p. 13)</a:t>
            </a:r>
            <a:r>
              <a:rPr b="1"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rminology</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otionally disturb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haviorally disorde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otional or behavioral disord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velopmental Norms versus Sociocultural Expectations</a:t>
            </a: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iversally recognize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teness, serious self-injury, eating feces, and murder.</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ciocultural expectation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ademic achievement, aggression, sexual behavior, and language patter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ehavior Shaped by Social Context</a:t>
            </a:r>
            <a:endParaRPr b="1" lang="en-US" sz="3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ac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action</a:t>
            </a:r>
            <a:endParaRPr b="0" lang="en-US" sz="2800" spc="-1" strike="noStrike">
              <a:solidFill>
                <a:srgbClr val="003366"/>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havior is formed by the child’s social interaction and transac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deling, reinforcement, extinction, and punishmen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Example: when dealing with a child with temper tantrums, one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needs to consider the appropriate expectations, demands and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reactions of his/her teachers, peers, and parents.</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Disorders and Causes</a:t>
            </a:r>
            <a:endParaRPr b="1" lang="en-US" sz="3600" spc="-1" strike="noStrike">
              <a:solidFill>
                <a:srgbClr val="006666"/>
              </a:solidFill>
              <a:latin typeface="Arial"/>
            </a:endParaRPr>
          </a:p>
        </p:txBody>
      </p:sp>
      <p:sp>
        <p:nvSpPr>
          <p:cNvPr id="104" name="PlaceHolder 1"/>
          <p:cNvSpPr>
            <a:spLocks noGrp="1"/>
          </p:cNvSpPr>
          <p:nvPr>
            <p:ph/>
          </p:nvPr>
        </p:nvSpPr>
        <p:spPr>
          <a:xfrm>
            <a:off x="838080" y="2362320"/>
            <a:ext cx="83059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s of disordered emotions and behavior.</a:t>
            </a:r>
            <a:endParaRPr b="0" lang="en-US" sz="24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vironmental conditions under which disturbed children grow are varied;</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ome disturbed children grow in conducive to normal development</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ditions whereas others grow in adverse conditions.</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ecause there are a great number of possible causal factors of disabilities, it</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 very difficult to determine these causes for the individual child.</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ternalizing</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Allen, a 13-year-old, was described as a discipline problem. Examples of his misbehavior include:  </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	</a:t>
            </a:r>
            <a:r>
              <a:rPr b="0" i="1" lang="en-US" sz="1800" spc="-1" strike="noStrike">
                <a:solidFill>
                  <a:srgbClr val="003366"/>
                </a:solidFill>
                <a:latin typeface="Arial"/>
              </a:rPr>
              <a:t>He justified calling one of his classmates a name by saying that she was making him mad; </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	</a:t>
            </a:r>
            <a:r>
              <a:rPr b="0" i="1" lang="en-US" sz="1800" spc="-1" strike="noStrike">
                <a:solidFill>
                  <a:srgbClr val="003366"/>
                </a:solidFill>
                <a:latin typeface="Arial"/>
              </a:rPr>
              <a:t>He justified telling his teacher to shut up and calling him stupid, by explaining that an assignment was “Stupi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Disorders and Causes</a:t>
            </a:r>
            <a:endParaRPr b="1" lang="en-US" sz="3600" spc="-1" strike="noStrike">
              <a:solidFill>
                <a:srgbClr val="006666"/>
              </a:solidFill>
              <a:latin typeface="Arial"/>
            </a:endParaRPr>
          </a:p>
        </p:txBody>
      </p:sp>
      <p:sp>
        <p:nvSpPr>
          <p:cNvPr id="106" name="PlaceHolder 1"/>
          <p:cNvSpPr>
            <a:spLocks noGrp="1"/>
          </p:cNvSpPr>
          <p:nvPr>
            <p:ph/>
          </p:nvPr>
        </p:nvSpPr>
        <p:spPr>
          <a:xfrm>
            <a:off x="837720" y="2362320"/>
            <a:ext cx="8077320" cy="4038480"/>
          </a:xfrm>
          <a:prstGeom prst="rect">
            <a:avLst/>
          </a:prstGeom>
          <a:noFill/>
          <a:ln w="0">
            <a:noFill/>
          </a:ln>
        </p:spPr>
        <p:txBody>
          <a:bodyPr lIns="90000" rIns="90000" tIns="46800" bIns="46800" anchor="t">
            <a:normAutofit/>
          </a:bodyPr>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ternalizing</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chizophrenia</a:t>
            </a:r>
            <a:endParaRPr b="0" lang="en-US" sz="20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Elizabeth has schizophrenia: Since she was in kindergarten she</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 </a:t>
            </a:r>
            <a:r>
              <a:rPr b="0" i="1" lang="en-US" sz="1800" spc="-1" strike="noStrike">
                <a:solidFill>
                  <a:srgbClr val="003366"/>
                </a:solidFill>
                <a:latin typeface="Arial"/>
              </a:rPr>
              <a:t>avoided doing work. Although she was in the top reading group in first </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grade, she was in the bottom reading group in third grade. In fourth </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grade she was taking Ritalin</a:t>
            </a:r>
            <a:r>
              <a:rPr b="1" i="1" lang="en-US" sz="1800" spc="-1" strike="noStrike">
                <a:solidFill>
                  <a:srgbClr val="003366"/>
                </a:solidFill>
                <a:latin typeface="Arial"/>
              </a:rPr>
              <a:t> </a:t>
            </a:r>
            <a:r>
              <a:rPr b="0" i="1" lang="en-US" sz="1800" spc="-1" strike="noStrike">
                <a:solidFill>
                  <a:srgbClr val="003366"/>
                </a:solidFill>
                <a:latin typeface="Arial"/>
              </a:rPr>
              <a:t>and thought she was doing better until </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he got really sick and spent 2 months in the hospital. She started </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taking Mellaril and feels that she is doing much better because of the </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medicine and the support she gets from her family and some</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teachers. </a:t>
            </a: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of Definition</a:t>
            </a:r>
            <a:endParaRPr b="1" lang="en-US" sz="3600" spc="-1" strike="noStrike">
              <a:solidFill>
                <a:srgbClr val="006666"/>
              </a:solidFill>
              <a:latin typeface="Arial"/>
            </a:endParaRPr>
          </a:p>
        </p:txBody>
      </p:sp>
      <p:sp>
        <p:nvSpPr>
          <p:cNvPr id="108"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e judge a behavior as normal or abnormal through our subjective</a:t>
            </a:r>
            <a:endParaRPr b="0" lang="en-US" sz="2000" spc="-1" strike="noStrike">
              <a:solidFill>
                <a:srgbClr val="003366"/>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ultural norms, rules, and expectations. Therefore, defining </a:t>
            </a:r>
            <a:endParaRPr b="0" lang="en-US" sz="2000" spc="-1" strike="noStrike">
              <a:solidFill>
                <a:srgbClr val="003366"/>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motional or behavioral disorders is difficult.</a:t>
            </a:r>
            <a:endParaRPr b="0" lang="en-US" sz="2000" spc="-1" strike="noStrike">
              <a:solidFill>
                <a:srgbClr val="003366"/>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amples of these difficulties: </a:t>
            </a:r>
            <a:r>
              <a:rPr b="0" i="1" lang="en-US" sz="2000" spc="-1" strike="noStrike">
                <a:solidFill>
                  <a:srgbClr val="003366"/>
                </a:solidFill>
                <a:latin typeface="Arial"/>
              </a:rPr>
              <a:t>Differences in conceptual models, </a:t>
            </a:r>
            <a:endParaRPr b="0" lang="en-US" sz="2000" spc="-1" strike="noStrike">
              <a:solidFill>
                <a:srgbClr val="003366"/>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differing purposes of definition, the complexities of measuring </a:t>
            </a:r>
            <a:endParaRPr b="0" lang="en-US" sz="2000" spc="-1" strike="noStrike">
              <a:solidFill>
                <a:srgbClr val="003366"/>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emotions and behavior, the range and variability of normal and </a:t>
            </a:r>
            <a:endParaRPr b="0" lang="en-US" sz="2000" spc="-1" strike="noStrike">
              <a:solidFill>
                <a:srgbClr val="003366"/>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deviant behavior, the relationship among emotional or behavioral </a:t>
            </a:r>
            <a:endParaRPr b="0" lang="en-US" sz="2000" spc="-1" strike="noStrike">
              <a:solidFill>
                <a:srgbClr val="003366"/>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disorders and other exceptionalities, the transience of many </a:t>
            </a:r>
            <a:endParaRPr b="0" lang="en-US" sz="2000" spc="-1" strike="noStrike">
              <a:solidFill>
                <a:srgbClr val="003366"/>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problems during human development, and the disadvantages </a:t>
            </a:r>
            <a:endParaRPr b="0" lang="en-US" sz="2000" spc="-1" strike="noStrike">
              <a:solidFill>
                <a:srgbClr val="003366"/>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inherent in labeling deviance. </a:t>
            </a:r>
            <a:endParaRPr b="0" lang="en-US" sz="2000" spc="-1" strike="noStrike">
              <a:solidFill>
                <a:srgbClr val="003366"/>
              </a:solidFill>
              <a:latin typeface="Arial"/>
            </a:endParaRPr>
          </a:p>
        </p:txBody>
      </p:sp>
      <p:sp>
        <p:nvSpPr>
          <p:cNvPr id="109" name="PlaceHolder 2"/>
          <p:cNvSpPr>
            <a:spLocks noGrp="1"/>
          </p:cNvSpPr>
          <p:nvPr>
            <p:ph/>
          </p:nvPr>
        </p:nvSpPr>
        <p:spPr>
          <a:xfrm>
            <a:off x="5754240" y="2361960"/>
            <a:ext cx="33894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of Definition</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fferences in Conceptual Models</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sychodynamic</a:t>
            </a:r>
            <a:r>
              <a:rPr b="0" lang="en-US" sz="2000" spc="-1" strike="noStrike">
                <a:solidFill>
                  <a:srgbClr val="003366"/>
                </a:solidFill>
                <a:latin typeface="Arial"/>
              </a:rPr>
              <a:t>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iological</a:t>
            </a:r>
            <a:r>
              <a:rPr b="0" lang="en-US" sz="2000" spc="-1" strike="noStrike">
                <a:solidFill>
                  <a:srgbClr val="003366"/>
                </a:solidFill>
                <a:latin typeface="Arial"/>
              </a:rPr>
              <a:t>	</a:t>
            </a:r>
            <a:r>
              <a:rPr b="0" lang="en-US" sz="2000" spc="-1" strike="noStrike">
                <a:solidFill>
                  <a:srgbClr val="003366"/>
                </a:solidFill>
                <a:latin typeface="Arial"/>
              </a:rPr>
              <a:t>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ciological</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havioral</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cological</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sychoeducational</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ducational</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enomenological</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of Definition</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Differing Purposes of Definitions</a:t>
            </a:r>
            <a:endParaRPr b="0" lang="en-US" sz="32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urts</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nics</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amilies</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hools</a:t>
            </a:r>
            <a:endParaRPr b="0" lang="en-US" sz="28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es’ definitions of EBD differ. Therefore, a child might be considered “normal” in one state but “disturbed” in another.</a:t>
            </a:r>
            <a:endParaRPr b="0" lang="en-US" sz="24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9T23:04:02Z</dcterms:created>
  <dc:creator>College of Education</dc:creator>
  <dc:description/>
  <dc:language>en-US</dc:language>
  <cp:lastModifiedBy>Sheryl Langner</cp:lastModifiedBy>
  <dcterms:modified xsi:type="dcterms:W3CDTF">2004-06-24T13:07:28Z</dcterms:modified>
  <cp:revision>59</cp:revision>
  <dc:subject/>
  <dc:title>Definition: The Nature of the Problem</dc:title>
</cp:coreProperties>
</file>