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FAD6D-6E2A-4EFC-84E0-D0A25A412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D841-0F63-445B-972F-992CAD26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32FBD-FB24-4527-9E3C-B4DF72A6D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13586-51B4-4CD2-8641-BE45241A4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B4E0F-113A-4955-BC63-62DE26D58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1F23D-DC59-489E-827F-949408370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27A20-784D-45AC-94EA-87C070E5B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78AD3-CFE3-480D-AC16-76B4D11C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CEE87-BC4A-4DB7-BB2E-A3799B93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24EF0-4A28-42AB-87F4-9CCF890E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F1A41-50C8-4342-A46D-0792F89E0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D93BE-62C5-45DF-9BE5-CA56D488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65805-5392-4375-A564-8CAC8F05D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CC68-28D4-4821-884E-5834E5AE8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29037-1886-41E7-AA87-C39B22A22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31A3A-B8CE-44A0-85E8-7F9F05061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76ABF-EC30-4379-B600-B697E23FE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18F5-A81A-4AEE-92BB-4A862B0A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0588-85BF-4898-A3F8-22DC793E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12B1-D84B-41DC-AE29-E6EFB206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B5F4A-BD17-4CA6-B0AF-65FEE4B8E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2DC2-E22A-4D35-8E6D-A2230E3F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53C3-2947-47B5-BF0A-3162B490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E633-7E7A-4891-8793-7839CC093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76176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0D5C-A159-4FAD-BBF1-A51B900FD0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634F-3256-4055-A28C-11FE94ECE1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3333cc"/>
                </a:solidFill>
                <a:latin typeface="Arial"/>
              </a:rPr>
              <a:t>Depression</a:t>
            </a:r>
            <a:endParaRPr b="0" lang="en-US" sz="10900" spc="-1" strike="noStrike">
              <a:solidFill>
                <a:srgbClr val="000000"/>
              </a:solidFill>
              <a:latin typeface="Impact"/>
            </a:endParaRPr>
          </a:p>
        </p:txBody>
      </p:sp>
      <p:sp>
        <p:nvSpPr>
          <p:cNvPr id="83" name=""/>
          <p:cNvSpPr/>
          <p:nvPr/>
        </p:nvSpPr>
        <p:spPr>
          <a:xfrm>
            <a:off x="3657600" y="3886200"/>
            <a:ext cx="5029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Dr. Aubrey H. Fine</a:t>
            </a:r>
            <a:endParaRPr b="0" lang="en-US" sz="4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15228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onduct disorder or juvenile delinquency is frequently comorbid with depression in young people but the relationship between the two is controversial.  Is the teenager depressed because he’s been caught doing something illegal or improper and is now facing consequences?  Or is he depressed or demoralized about life, and this in turn leads to outrageous, illegal or oppositional-defiant conduct?  </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ome young people simply have both disorders at the same tim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 the case of college-based programs, concerns about effects on the institution’s legal liability, reputation, and student enrollment sometimes encourages campus officials to avoid or minimize the problem of student suicide, which appears to have limited the development of educational programs directed to this population.</a:t>
            </a:r>
            <a:endParaRPr b="1" lang="en-US" sz="3200" spc="-1" strike="noStrike">
              <a:solidFill>
                <a:srgbClr val="000000"/>
              </a:solidFill>
              <a:latin typeface="Arial"/>
            </a:endParaRPr>
          </a:p>
        </p:txBody>
      </p:sp>
    </p:spTree>
  </p:cSld>
  <p:transition>
    <p:fade thruBlk="tru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Providing suicide education to college students poses unique issues.</a:t>
            </a:r>
            <a:endParaRPr b="1" lang="en-US" sz="3200" spc="-1" strike="noStrike">
              <a:solidFill>
                <a:srgbClr val="000000"/>
              </a:solidFill>
              <a:latin typeface="Arial"/>
            </a:endParaRPr>
          </a:p>
          <a:p>
            <a:pPr lvl="1" marL="743040" indent="-28584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College students are not generally required to take any courses in which education about depression and suicide may be appropriately incorporated.</a:t>
            </a:r>
            <a:endParaRPr b="1" lang="en-US" sz="2800" spc="-1" strike="noStrike">
              <a:solidFill>
                <a:srgbClr val="000000"/>
              </a:solidFill>
              <a:latin typeface="Arial"/>
            </a:endParaRPr>
          </a:p>
          <a:p>
            <a:pPr lvl="1" marL="743040" indent="-28584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Other than a few limited number of mandatory orientation sessions, few opportunities exist to reach large numbers of college students with information about mental health issues and services.</a:t>
            </a:r>
            <a:endParaRPr b="1" lang="en-US" sz="2800" spc="-1" strike="noStrike">
              <a:solidFill>
                <a:srgbClr val="000000"/>
              </a:solidFill>
              <a:latin typeface="Arial"/>
            </a:endParaRPr>
          </a:p>
          <a:p>
            <a:pPr lvl="1" marL="743040" indent="-28584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Involvement of parents in educational programs on such issues is also extremely limited in most college settings.</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ost suicide prevention programs directed to young adults are designed specifically for college students, who represent less that half of all persons aged 18-24 in the United State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Although few research studies have examined suicide risk among young adults not in college, this population may have particular risk factors, including more involvement with substance use, as well as less access to mental health resources.</a:t>
            </a:r>
            <a:endParaRPr b="1" lang="en-US" sz="3200" spc="-1" strike="noStrike">
              <a:solidFill>
                <a:srgbClr val="000000"/>
              </a:solidFill>
              <a:latin typeface="Arial"/>
            </a:endParaRPr>
          </a:p>
        </p:txBody>
      </p:sp>
    </p:spTree>
  </p:cSld>
  <p:transition>
    <p:fade thruBlk="tru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creening Programs</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Universal screening programs as a youth suicide prevention strategy are designed to identify young people at risk for suicidal behavior and refer them to treatment.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ome programs focus specifically on identifying symptoms of psychopathology known to be related to adolescent and young adult suicidal behavior, while others assess specifically for signs of suicidality.</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The primary assumption underlying screening programs is that because anxiety, depression, substance abuse, and suicidal preoccupation among youth often go unnoticed and untreated, a systematic, universally applied effort is needed to improve identification of at-risk individuals.</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Screening programs also rest of the assumptions that identification of youth with psychiatric disorders will substantially increase the number receiving treatment, the treatment will be sufficiently effective, and effective treatment will decrease suicides.</a:t>
            </a:r>
            <a:endParaRPr b="1" lang="en-US" sz="3000" spc="-1" strike="noStrike">
              <a:solidFill>
                <a:srgbClr val="000000"/>
              </a:solidFill>
              <a:latin typeface="Arial"/>
            </a:endParaRPr>
          </a:p>
        </p:txBody>
      </p:sp>
    </p:spTree>
  </p:cSld>
  <p:transition>
    <p:fade thruBlk="tru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Reynolds described one of the first high school-based screening programs for youth at risk for suicide.  </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program involved a two stage method, in which a general population of students was first screened using the Suicide Ideation Questionnaire.</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tudents with scores above a defended cutoff value were subsequently evaluated clinically with the Suicide Behavior  Interview, and those identified as being at risk were referred treatment.</a:t>
            </a:r>
            <a:endParaRPr b="1" lang="en-US" sz="3200" spc="-1" strike="noStrike">
              <a:solidFill>
                <a:srgbClr val="000000"/>
              </a:solidFill>
              <a:latin typeface="Arial"/>
            </a:endParaRPr>
          </a:p>
        </p:txBody>
      </p:sp>
    </p:spTree>
  </p:cSld>
  <p:transition>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74"/>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66ff"/>
                </a:solidFill>
                <a:latin typeface="Arial"/>
              </a:rPr>
              <a:t>The program devoted particular attention to determining an appropriate cutoff score for identifying at-risk youth, comparing two different scores with regard to sensitivity (the ability to identity correctly those who have the problem, with few false negatives) and specificity (the ability to identify correctly those who do not have the problem, with few false positives).</a:t>
            </a:r>
            <a:endParaRPr b="1" lang="en-US" sz="3100" spc="-1" strike="noStrike">
              <a:solidFill>
                <a:srgbClr val="000000"/>
              </a:solidFill>
              <a:latin typeface="Arial"/>
            </a:endParaRPr>
          </a:p>
          <a:p>
            <a:pPr marL="343080" indent="-343080">
              <a:lnSpc>
                <a:spcPct val="90000"/>
              </a:lnSpc>
              <a:spcBef>
                <a:spcPts val="774"/>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66ff"/>
                </a:solidFill>
                <a:latin typeface="Arial"/>
              </a:rPr>
              <a:t>Reynolds found that increasing the cutoff score led to  missing a disproportionate number of at- risk youth.  </a:t>
            </a:r>
            <a:endParaRPr b="1" lang="en-US" sz="3100" spc="-1" strike="noStrike">
              <a:solidFill>
                <a:srgbClr val="000000"/>
              </a:solidFill>
              <a:latin typeface="Arial"/>
            </a:endParaRPr>
          </a:p>
          <a:p>
            <a:pPr marL="343080" indent="-343080">
              <a:lnSpc>
                <a:spcPct val="90000"/>
              </a:lnSpc>
              <a:spcBef>
                <a:spcPts val="774"/>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66ff"/>
                </a:solidFill>
                <a:latin typeface="Arial"/>
              </a:rPr>
              <a:t>The impact of suicidal behavior and the adherence to treatment recommendations were not reported. </a:t>
            </a:r>
            <a:endParaRPr b="1" lang="en-US" sz="3100" spc="-1" strike="noStrike">
              <a:solidFill>
                <a:srgbClr val="000000"/>
              </a:solidFill>
              <a:latin typeface="Arial"/>
            </a:endParaRPr>
          </a:p>
        </p:txBody>
      </p:sp>
    </p:spTree>
  </p:cSld>
  <p:transition>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 most widely used high school screening program, the Columbia TeenScreen Program (CTSP), employs a multistage procedure.  </a:t>
            </a:r>
            <a:endParaRPr b="1" lang="en-US" sz="3200" spc="-1" strike="noStrike">
              <a:solidFill>
                <a:srgbClr val="000000"/>
              </a:solidFill>
              <a:latin typeface="Arial"/>
            </a:endParaRPr>
          </a:p>
          <a:p>
            <a:pPr marL="329040" indent="-3290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n one variant of the CTSP, students complete a brief, self-report questionnaire.</a:t>
            </a:r>
            <a:endParaRPr b="1" lang="en-US" sz="3200" spc="-1" strike="noStrike">
              <a:solidFill>
                <a:srgbClr val="000000"/>
              </a:solidFill>
              <a:latin typeface="Arial"/>
            </a:endParaRPr>
          </a:p>
          <a:p>
            <a:pPr marL="329040" indent="-3290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ose who screen positive on this measure are given a computerized instrument, the Voice DISC 2.3, which has been found to accurately identify a comprehensive range of psychiatric disorders in children and adolescents.  This stage of the screening is regarded as particularly important for avoiding over-identification of students at risk. </a:t>
            </a:r>
            <a:endParaRPr b="1" lang="en-US" sz="3200" spc="-1" strike="noStrike">
              <a:solidFill>
                <a:srgbClr val="000000"/>
              </a:solidFill>
              <a:latin typeface="Arial"/>
            </a:endParaRPr>
          </a:p>
        </p:txBody>
      </p:sp>
    </p:spTree>
  </p:cSld>
  <p:transition>
    <p:fade thruBlk="tru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In the final stage, youth who have been identified through Voice DISC 2.3 as meeting specific diagnostic criteria for a psychiatric disorder are evaluated by a clinician, who determines whether the student needs to be referred for treatment or further evaluation.</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program also includes a case manager who contacts the parents of students who are referred and establishes links with a clinic to facilitate treatment adherence.</a:t>
            </a:r>
            <a:endParaRPr b="1" lang="en-US" sz="3200" spc="-1" strike="noStrike">
              <a:solidFill>
                <a:srgbClr val="000000"/>
              </a:solidFill>
              <a:latin typeface="Arial"/>
            </a:endParaRPr>
          </a:p>
        </p:txBody>
      </p:sp>
    </p:spTree>
  </p:cSld>
  <p:transition>
    <p:fade thruBlk="tru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valuation results indicate that most of the adolescents identified as being at high risk for suicide through the program were not previously recognized as such, and very few had received prior treatment.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bout half of the students referred for treatment attended at least one treatment visit.</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program’s requirements of a clinician and a case manager may be a resource burden for many schools.</a:t>
            </a:r>
            <a:endParaRPr b="1"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Posttraumatic stress disorder (PTSD) also has an association with depression.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Occurs when a person witnesses or experiences a traumatic, fatal, or life-threatening event and later relives it, either in his thoughts or dream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Can bring extreme distress-intense fear, agitated behavior, flashbacks, and even physical reactions that might include re-experiencing smell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A person experiencing PTSD might be jumpy, has trouble sleeping, and will take pains to avoid anything associated with the trauma.</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screening strategy is based on a public health prevention model that emphasizes the identification of at-risk students on the basis of observable behavior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first level of screening  involves a review of high school attendance registers to identify students having high absenteeism.  Teachers and guidance counselors are asked to recommend students they deem to be at risk.</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Identified youth are then assessed by means of the Suicide Risk Screen (SR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ose with elevated risk for suicidal behaviors are given an appropriate intervention within the school setting or are referred for further evaluation and treatment.</a:t>
            </a:r>
            <a:endParaRPr b="1" lang="en-US" sz="2800" spc="-1" strike="noStrike">
              <a:solidFill>
                <a:srgbClr val="000000"/>
              </a:solidFill>
              <a:latin typeface="Arial"/>
            </a:endParaRPr>
          </a:p>
        </p:txBody>
      </p:sp>
    </p:spTree>
  </p:cSld>
  <p:transition>
    <p:fade thruBlk="tru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creening initiatives for college students include the Comprehensive College Initiative (CCI) developed by Jacobs to identify students at risk for depression and facilitate them to get treatment.</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 program has been offered at a large number of colleges in conjunction with National Depression Screening Day.</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n addition to the in-person screenings offered at this event, the program includes an online year-round screening component.</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fade thruBlk="tru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n campuses where it has been implemented, the CCI has been described by its developers as effective in identifying at-risk students and motivating them to seek treatment.  </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lmost 20% of students taking the screening measure scored “very likely” to be suffering from depression and 5% reported persistent suicidal ideation.</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Both student participants and college officials were reported to have positive reactions to the in-person and online program components.</a:t>
            </a:r>
            <a:endParaRPr b="1" lang="en-US" sz="3200" spc="-1" strike="noStrike">
              <a:solidFill>
                <a:srgbClr val="000000"/>
              </a:solidFill>
              <a:latin typeface="Arial"/>
            </a:endParaRPr>
          </a:p>
        </p:txBody>
      </p:sp>
    </p:spTree>
  </p:cSld>
  <p:transition>
    <p:fade thruBlk="tru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Another recent program is the College Screening Project developed by the American Foundation for Suicide Prevention.</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is project uses the campus e-mail network to target students and encourage them to complete a Depression Screening Questionnaire, which has been established to be an effective tool for identifying depression among community samples.</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screening includes depression, items dealing with current suicidal ideation, past suicide attempts, anxiety and other affects, drugs, alcohol, and eating disorders.</a:t>
            </a:r>
            <a:endParaRPr b="1" lang="en-US" sz="3000" spc="-1" strike="noStrike">
              <a:solidFill>
                <a:srgbClr val="000000"/>
              </a:solidFill>
              <a:latin typeface="Arial"/>
            </a:endParaRPr>
          </a:p>
        </p:txBody>
      </p:sp>
    </p:spTree>
  </p:cSld>
  <p:transition>
    <p:fade thruBlk="tru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Assisted by a computer program, a clinically trained counselor evaluates the responses and assigns the student into one of three tiers on the basis of their suicide risk.</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The counselor then writes a personalized reply that the student accesses on the Web site.  Students with significant problems as determined by a well-defined set of criteria are urged to come in for a face-to-face evaluation.</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The Web site also contains a “Dialogue” feature that allows students to communicate with the counselor online to discuss concerns they may have prior to an evaluation.</a:t>
            </a:r>
            <a:endParaRPr b="1" lang="en-US" sz="3000" spc="-1" strike="noStrike">
              <a:solidFill>
                <a:srgbClr val="000000"/>
              </a:solidFill>
              <a:latin typeface="Arial"/>
            </a:endParaRPr>
          </a:p>
        </p:txBody>
      </p:sp>
    </p:spTree>
  </p:cSld>
  <p:transition>
    <p:fade thruBlk="tru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During the face-to-face meeting, treatment options, including medication and psychotherapy, are discussed and referrals are made to appropriate services on and off campus.</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 an effort to evaluate treatment effects, the project collects data on an ongoing basis from treatment providers on student adherence, treatment progress, and disposition.</a:t>
            </a:r>
            <a:endParaRPr b="1" lang="en-US" sz="3200" spc="-1" strike="noStrike">
              <a:solidFill>
                <a:srgbClr val="000000"/>
              </a:solidFill>
              <a:latin typeface="Arial"/>
            </a:endParaRPr>
          </a:p>
        </p:txBody>
      </p:sp>
    </p:spTree>
  </p:cSld>
  <p:transition>
    <p:fade thruBlk="tru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nitial reports indicate that about 80% of the students who respond to the screening questionnaire indicate some mental health problems, with almost half of all respondents falling into the highest-risk tier.</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Fewer than 15% of identified students comply with recommendations for evaluation, which suggests that recommendations need to be refined to make them more acceptable, or that innovative strategies need to be developed to encourage greater number of at-risk students to seek help.</a:t>
            </a:r>
            <a:endParaRPr b="1" lang="en-US" sz="3200" spc="-1" strike="noStrike">
              <a:solidFill>
                <a:srgbClr val="000000"/>
              </a:solidFill>
              <a:latin typeface="Arial"/>
            </a:endParaRPr>
          </a:p>
        </p:txBody>
      </p:sp>
    </p:spTree>
  </p:cSld>
  <p:transition>
    <p:fade thruBlk="tru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One other Web-based screening program for college students the ULifeLine program, has recently been developed by the Jed Foundation.  </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is program provides computer-generated results to students who complete the screening instrument.  Although identified students are provided with recommendations regarding treatment possibilities, no follow-up is offered.</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It is not clear whether without a personal connection, such Web-based screenings will succeed in motivating students in need to seek treatment.</a:t>
            </a:r>
            <a:endParaRPr b="1" lang="en-US" sz="3000" spc="-1" strike="noStrike">
              <a:solidFill>
                <a:srgbClr val="000000"/>
              </a:solidFill>
              <a:latin typeface="Arial"/>
            </a:endParaRPr>
          </a:p>
        </p:txBody>
      </p:sp>
    </p:spTree>
  </p:cSld>
  <p:transition>
    <p:fade thruBlk="tru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5964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ritiqu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In their basic assumptions, screening programs as implemented within both high school and college settings closely conform to scientifically validated premises regarding the causes of suicide – i.e., that suicide risk is not randomly distributed, but rather is conferred by certain factors that are both identifiable and, to a considerable extent, alterable.</a:t>
            </a:r>
            <a:endParaRPr b="0" lang="en-US" sz="3200" spc="-1" strike="noStrike">
              <a:solidFill>
                <a:srgbClr val="000000"/>
              </a:solidFill>
              <a:latin typeface="Arial"/>
            </a:endParaRPr>
          </a:p>
          <a:p>
            <a:pPr>
              <a:spcBef>
                <a:spcPts val="2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the same time, such programs face a number of challeng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Screening measures with acceptable test characteristics (e.g., a sensitivity of 80% and a specificity of 70%, figures similar to screens for depression) will necessarily miss some in the population who will go on to make suicide attempts, while identifying many more as at risk when they are not.</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Given that costs are involved each tome a segment of the target is screened, most school-based screening programs assess students only once a year, and in some cases, only once during a several-year period.</a:t>
            </a:r>
            <a:endParaRPr b="1"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Substance abuse in late adolescence with MDD is common.  </a:t>
            </a:r>
            <a:endParaRPr b="1" lang="en-US" sz="30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Some people feel that depressed adults “medicate” themselves with drugs and alcohol, and that the same holds true for teenagers</a:t>
            </a:r>
            <a:endParaRPr b="1" lang="en-US" sz="30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Studies have found an association between adolescent depression and obesity, headaches, and asthma.</a:t>
            </a:r>
            <a:endParaRPr b="1"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transition>
    <p:fade thruBlk="tru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timing of the screening may increase the likelihood of identifying students in need of referral (e.g., close to exams, at the beginning of high school or college, or during the senior year) or at other times may reduce this likelihood.</a:t>
            </a:r>
            <a:endParaRPr b="1" lang="en-US" sz="2800" spc="-1" strike="noStrike">
              <a:solidFill>
                <a:srgbClr val="000000"/>
              </a:solidFill>
              <a:latin typeface="Arial"/>
            </a:endParaRPr>
          </a:p>
          <a:p>
            <a:pPr marL="343080" indent="-343080">
              <a:lnSpc>
                <a:spcPct val="8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Low adherence with treatment recommendations among those identified through the screening instrument to be at risk due to a range of problems that are beyond the scope of the screening effort (lack of parental support, perceived quality of available treatment, and attitudes of treatment providers) additional strategies appear to be needed to encourage students at risk to access and make effective use of needed treatment services.  </a:t>
            </a:r>
            <a:endParaRPr b="1" lang="en-US" sz="2800" spc="-1" strike="noStrike">
              <a:solidFill>
                <a:srgbClr val="000000"/>
              </a:solidFill>
              <a:latin typeface="Arial"/>
            </a:endParaRPr>
          </a:p>
          <a:p>
            <a:pPr marL="343080" indent="-343080">
              <a:lnSpc>
                <a:spcPct val="8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In this regard, better integration of suicide education, gatekeeper training programs, and screening programs may be helpful.</a:t>
            </a:r>
            <a:endParaRPr b="1" lang="en-US" sz="2800" spc="-1" strike="noStrike">
              <a:solidFill>
                <a:srgbClr val="000000"/>
              </a:solidFill>
              <a:latin typeface="Arial"/>
            </a:endParaRPr>
          </a:p>
        </p:txBody>
      </p:sp>
    </p:spTree>
  </p:cSld>
  <p:transition>
    <p:fade thruBlk="tru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All school-based suicide screening programs need to be mindful of the availability and quality of mental health services for students who are identified as at risk. </a:t>
            </a:r>
            <a:endParaRPr b="1" lang="en-US" sz="3000" spc="-1" strike="noStrike">
              <a:solidFill>
                <a:srgbClr val="000000"/>
              </a:solidFill>
              <a:latin typeface="Arial"/>
            </a:endParaRPr>
          </a:p>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It is estimated that only 38% of colleges provide mental health services and most of those that do limit the number of sessions or offer only group therapy that may not be appropriate for students at risk for suicide.</a:t>
            </a:r>
            <a:endParaRPr b="1" lang="en-US" sz="3000" spc="-1" strike="noStrike">
              <a:solidFill>
                <a:srgbClr val="000000"/>
              </a:solidFill>
              <a:latin typeface="Arial"/>
            </a:endParaRPr>
          </a:p>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Although many colleges require students to have health insurance, most students are not adequately covered for acute or long-term mental health services.</a:t>
            </a:r>
            <a:endParaRPr b="1" lang="en-US" sz="3000" spc="-1" strike="noStrike">
              <a:solidFill>
                <a:srgbClr val="000000"/>
              </a:solidFill>
              <a:latin typeface="Arial"/>
            </a:endParaRPr>
          </a:p>
        </p:txBody>
      </p:sp>
    </p:spTree>
  </p:cSld>
  <p:transition>
    <p:fade thruBlk="tru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Even when implemented under ideal conditions, there is no clear evidence that screening for suicide in general populations improves rate reduction outcome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No data have been reported on the effectiveness of high school or college-based screening programs in reducing suicide risk factor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Within high schools, there is evidence that administrators prefer suicide education and awareness programs over screening programs.</a:t>
            </a:r>
            <a:endParaRPr b="1" lang="en-US" sz="3200" spc="-1" strike="noStrike">
              <a:solidFill>
                <a:srgbClr val="000000"/>
              </a:solidFill>
              <a:latin typeface="Arial"/>
            </a:endParaRPr>
          </a:p>
        </p:txBody>
      </p:sp>
    </p:spTree>
  </p:cSld>
  <p:transition>
    <p:fade thruBlk="tru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any colleges and universities have expressed reluctance about implementing depression and suicide screening programs.</a:t>
            </a:r>
            <a:endParaRPr b="1"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s appears to reflect concerns about the liability schools may assume in the event that students identified as at risk for suicide not follow through with treatment recommendations and actually engage in suicidal behavior.</a:t>
            </a:r>
            <a:endParaRPr b="1"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dentification of at risk students may also put universities into a difficult legal and ethical position with respect to parents. Parents of students over the age of 18 cannot be contacted without written permission from the student.  Although confidentiality can be waived in situations in which threat to life is concerned, universities are reluctant to become embroiled in such matters.</a:t>
            </a:r>
            <a:endParaRPr b="1" lang="en-US" sz="2800" spc="-1" strike="noStrike">
              <a:solidFill>
                <a:srgbClr val="000000"/>
              </a:solidFill>
              <a:latin typeface="Arial"/>
            </a:endParaRPr>
          </a:p>
        </p:txBody>
      </p:sp>
    </p:spTree>
  </p:cSld>
  <p:transition>
    <p:fade thruBlk="tru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One complication with Web-based programs is the recent Health Insurance Portability and Accountability Act (HIPAA) which limits the use of electronic technology to transmit identifiable health information, because of the potential threats to patient confidentiality.</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is has been interpreted as requiring  that a student’s actual identity  not be revealed online, making it impossible for the counselor to intervene to help a student believed to be suicidal unless he or she presents in person for evaluation. </a:t>
            </a:r>
            <a:endParaRPr b="1" lang="en-US" sz="3200" spc="-1" strike="noStrike">
              <a:solidFill>
                <a:srgbClr val="000000"/>
              </a:solidFill>
              <a:latin typeface="Arial"/>
            </a:endParaRPr>
          </a:p>
        </p:txBody>
      </p:sp>
    </p:spTree>
  </p:cSld>
  <p:transition>
    <p:fade thruBlk="tru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marL="343080" indent="0" algn="ctr">
              <a:spcBef>
                <a:spcPts val="1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3366ff"/>
                </a:solidFill>
                <a:latin typeface="Arial"/>
              </a:rPr>
              <a:t>Preventive Interventions and Treatments</a:t>
            </a:r>
            <a:endParaRPr b="1" lang="en-US" sz="6800" spc="-1" strike="noStrike">
              <a:solidFill>
                <a:srgbClr val="000000"/>
              </a:solidFill>
              <a:latin typeface="Arial"/>
            </a:endParaRPr>
          </a:p>
        </p:txBody>
      </p:sp>
    </p:spTree>
  </p:cSld>
  <p:transition>
    <p:fade thruBlk="tru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chool-Based programs for suicidal students</a:t>
            </a:r>
            <a:endParaRPr b="1" lang="en-US" sz="3200" spc="-1" strike="noStrike">
              <a:solidFill>
                <a:srgbClr val="000000"/>
              </a:solidFill>
              <a:latin typeface="Arial"/>
            </a:endParaRPr>
          </a:p>
          <a:p>
            <a:pPr marL="325800" indent="-32580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The most comprehensive school-based programs are those developed and tested by Eggert, Thompson, and their colleagues as part of the Reconnecting Youth (RY) Prevention Research Program.</a:t>
            </a:r>
            <a:endParaRPr b="1" lang="en-US" sz="2800" spc="-1" strike="noStrike">
              <a:solidFill>
                <a:srgbClr val="000000"/>
              </a:solidFill>
              <a:latin typeface="Arial"/>
            </a:endParaRPr>
          </a:p>
          <a:p>
            <a:pPr marL="325800" indent="-32580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The interventions are directed at students who are deemed to be at risk of dropping out of high school, based primarily on school attendance data and observations of teachers, counselors, and other gate keepers.</a:t>
            </a:r>
            <a:endParaRPr b="1" lang="en-US" sz="2800" spc="-1" strike="noStrike">
              <a:solidFill>
                <a:srgbClr val="000000"/>
              </a:solidFill>
              <a:latin typeface="Arial"/>
            </a:endParaRPr>
          </a:p>
          <a:p>
            <a:pPr marL="325800" indent="-325800">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Such students have been reported to have multiple co-occurring problems that, in addition to school performance difficulties, include depression, suicidality, drug involvement, and aggressive and violent behaviors.</a:t>
            </a:r>
            <a:endParaRPr b="1" lang="en-US" sz="2800" spc="-1" strike="noStrike">
              <a:solidFill>
                <a:srgbClr val="000000"/>
              </a:solidFill>
              <a:latin typeface="Arial"/>
            </a:endParaRPr>
          </a:p>
        </p:txBody>
      </p:sp>
    </p:spTree>
  </p:cSld>
  <p:transition>
    <p:fade thruBlk="tru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52280" y="0"/>
            <a:ext cx="9144000" cy="64515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The interventions are based on a theoretical model that rests essentially on improving students’ personal resources, leading to an enhanced sense of personal control and self-esteem, improved decision making, increased use of social support resources, and reduced suicidal behavior.  </a:t>
            </a:r>
            <a:endParaRPr b="0" lang="en-US" sz="3200" spc="-1" strike="noStrike">
              <a:solidFill>
                <a:srgbClr val="000000"/>
              </a:solidFill>
              <a:latin typeface="Arial"/>
            </a:endParaRPr>
          </a:p>
          <a:p>
            <a:pPr>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The early research involved systematic evaluation of a semester-long, school based, small group intervention called the Personal Growth Class (PGC).  </a:t>
            </a:r>
            <a:endParaRPr b="0" lang="en-US" sz="3200" spc="-1" strike="noStrike">
              <a:solidFill>
                <a:srgbClr val="000000"/>
              </a:solidFill>
              <a:latin typeface="Arial"/>
            </a:endParaRPr>
          </a:p>
          <a:p>
            <a:pPr>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intervention included life skills training using strategies of group process, teacher and peer support, goal setting, and weekly monitoring of mood management, school performance, and drug involvement.</a:t>
            </a:r>
            <a:endParaRPr b="1" lang="en-US" sz="2800" spc="-1" strike="noStrike">
              <a:solidFill>
                <a:srgbClr val="000000"/>
              </a:solidFill>
              <a:latin typeface="Arial"/>
            </a:endParaRPr>
          </a:p>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Evaluation studies involved 100 high school students who screened positive for suicidal behavior.  </a:t>
            </a:r>
            <a:endParaRPr b="1" lang="en-US" sz="2800" spc="-1" strike="noStrike">
              <a:solidFill>
                <a:srgbClr val="000000"/>
              </a:solidFill>
              <a:latin typeface="Arial"/>
            </a:endParaRPr>
          </a:p>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udents were randomly assigned to one of three conditions</a:t>
            </a:r>
            <a:endParaRPr b="1"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ssessment protocol plus one semester of PGC</a:t>
            </a:r>
            <a:endParaRPr b="1"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ssessment protocol plus two semesters of PGC</a:t>
            </a:r>
            <a:endParaRPr b="1"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ssessment protocol only</a:t>
            </a:r>
            <a:endParaRPr b="1" lang="en-US" sz="2800" spc="-1" strike="noStrike">
              <a:solidFill>
                <a:srgbClr val="000000"/>
              </a:solidFill>
              <a:latin typeface="Arial"/>
            </a:endParaRPr>
          </a:p>
        </p:txBody>
      </p:sp>
    </p:spTree>
  </p:cSld>
  <p:transition>
    <p:fade thruBlk="tru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articipants were assessed at baseline and at 5-10 months post-intervention.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articipants in all three groups showed significant declines in suicidal behavior.</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Unlike the students who received the assessment protocol only, PGC participants showed significant improvement in self-perceived ability to manage problem circumstances.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so reported was a significant positive impact of both teacher and peer support in decreasing suicide risk behaviors and depression.</a:t>
            </a:r>
            <a:endParaRPr b="1"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2280" y="228240"/>
            <a:ext cx="8763120" cy="624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Risk Factors for Depression in Adolescence</a:t>
            </a:r>
            <a:endParaRPr b="1" lang="en-US" sz="32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Having a parent who has depression. Rates of depression are 2-4 times higher in children of depressed parents.</a:t>
            </a:r>
            <a:endParaRPr b="1" lang="en-US" sz="26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Having an anxiety disorder, especially in preadolescence, or a childhood history of depression</a:t>
            </a:r>
            <a:endParaRPr b="1" lang="en-US" sz="26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Being a female</a:t>
            </a:r>
            <a:endParaRPr b="1" lang="en-US" sz="26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Having a serious negative life event or an accumulation of damaging experiences (e.g. loss of social support systems, loss of a parent, a childhood history of physical or sexual abuse)</a:t>
            </a:r>
            <a:endParaRPr b="1" lang="en-US" sz="26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Poverty</a:t>
            </a:r>
            <a:endParaRPr b="1" lang="en-US" sz="2600" spc="-1" strike="noStrike">
              <a:solidFill>
                <a:srgbClr val="000000"/>
              </a:solidFill>
              <a:latin typeface="Arial"/>
            </a:endParaRPr>
          </a:p>
          <a:p>
            <a:pPr marL="343080" indent="-343080">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Exposure to violence</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lso reported was a significant positive impact of both teacher and peer support in decreasing suicide risk behaviors and depression.</a:t>
            </a:r>
            <a:endParaRPr b="1" lang="en-US" sz="2800" spc="-1" strike="noStrike">
              <a:solidFill>
                <a:srgbClr val="000000"/>
              </a:solidFill>
              <a:latin typeface="Arial"/>
            </a:endParaRPr>
          </a:p>
          <a:p>
            <a:pPr marL="343080" indent="-34308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ompson, Eggert, and colleagues subsequently tested two additional school-based prevention programs based on the PGC: a brief one-on-one intervention known as Counselors Care (C-Care) and a small group skills-building intervention program, Coping and Support Training (CAST)</a:t>
            </a:r>
            <a:endParaRPr b="1" lang="en-US" sz="2800" spc="-1" strike="noStrike">
              <a:solidFill>
                <a:srgbClr val="000000"/>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Both interventions were found to reduce suicide risk behaviors and depression.</a:t>
            </a:r>
            <a:endParaRPr b="1" lang="en-US" sz="2800" spc="-1" strike="noStrike">
              <a:solidFill>
                <a:srgbClr val="000000"/>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AST was most effective in enhancing and sustaining protective factors such as problem-solving coping. </a:t>
            </a:r>
            <a:endParaRPr b="1" lang="en-US" sz="2800" spc="-1" strike="noStrike">
              <a:solidFill>
                <a:srgbClr val="000000"/>
              </a:solidFill>
              <a:latin typeface="Arial"/>
            </a:endParaRPr>
          </a:p>
        </p:txBody>
      </p:sp>
    </p:spTree>
  </p:cSld>
  <p:transition>
    <p:fade thruBlk="tru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urrently the CARE intervention expanded to include a parent intervention component</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Being studied to determine the added benefit of this component to further reduce depression, anger, and suicide risk behavior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Preliminary results suggest that C-CARE, coupled with the parent intervention, is associated with more rapid rates of decline in suicidal ideation, direct suicide threats, depression, hopelessness, and anxiety when compared to usual care.</a:t>
            </a:r>
            <a:endParaRPr b="1" lang="en-US" sz="3200" spc="-1" strike="noStrike">
              <a:solidFill>
                <a:srgbClr val="000000"/>
              </a:solidFill>
              <a:latin typeface="Arial"/>
            </a:endParaRPr>
          </a:p>
        </p:txBody>
      </p:sp>
    </p:spTree>
  </p:cSld>
  <p:transition>
    <p:fade thruBlk="tru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ritique</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target groups addressed by the studies of Eggert and Thompson may limit the generalizability of the findings to other populations of suicidal youth.</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focus of these programs has been  on students at risk of dropping out of school.  There is some evidence that high school dropouts may come from more deviant and neglecting families and thus may not be representative of suicidal adolescents overall.</a:t>
            </a:r>
            <a:endParaRPr b="1" lang="en-US" sz="3200" spc="-1" strike="noStrike">
              <a:solidFill>
                <a:srgbClr val="000000"/>
              </a:solidFill>
              <a:latin typeface="Arial"/>
            </a:endParaRPr>
          </a:p>
        </p:txBody>
      </p:sp>
    </p:spTree>
  </p:cSld>
  <p:transition>
    <p:fade thruBlk="tru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Emergency Department Interventions For Young Suicide Attempts</a:t>
            </a:r>
            <a:endParaRPr b="1" lang="en-US" sz="32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A considerable number of youth who make suicide attempts obtain some form of medical intervention, typically beginning in a hospital emergency department (ED)</a:t>
            </a:r>
            <a:endParaRPr b="1" lang="en-US" sz="30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Numerous studies, however, have documented that young suicide attempters’ adherence to outpatient treatment recommendations made in the ED is poor, with over 15% never attending any recommended outpatient sessions, and fewer than half attending more that a few sessions.</a:t>
            </a:r>
            <a:endParaRPr b="1" lang="en-US" sz="3000" spc="-1" strike="noStrike">
              <a:solidFill>
                <a:srgbClr val="000000"/>
              </a:solidFill>
              <a:latin typeface="Arial"/>
            </a:endParaRPr>
          </a:p>
        </p:txBody>
      </p:sp>
    </p:spTree>
  </p:cSld>
  <p:transition>
    <p:fade thruBlk="tru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oor adherence has been attributed to ED factors, such as long waits, repetitive evaluations, and poor communication by ED staff, and also to cultural factors including the perception that mental health treatment is shameful.</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Rotheram-Borus and colleagues designed and intervention that targeted both the ED staff and families of Latino adolescent females who attempted suicide and followed participants over 18 months.</a:t>
            </a:r>
            <a:endParaRPr b="1" lang="en-US" sz="3200" spc="-1" strike="noStrike">
              <a:solidFill>
                <a:srgbClr val="000000"/>
              </a:solidFill>
              <a:latin typeface="Arial"/>
            </a:endParaRPr>
          </a:p>
        </p:txBody>
      </p:sp>
    </p:spTree>
  </p:cSld>
  <p:transition>
    <p:fade thruBlk="tru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Using video tapes and therapists, this program involved ED staff and families with a focus on encouraging participation in outpatient treatment.</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n comparison  with patients who received family therapy alone, participants who received both family therapy and the emergency room intervention were found to adhere more frequently to the recommendation to attend a first treatment session.</a:t>
            </a:r>
            <a:endParaRPr b="1" lang="en-US" sz="3200" spc="-1" strike="noStrike">
              <a:solidFill>
                <a:srgbClr val="000000"/>
              </a:solidFill>
              <a:latin typeface="Arial"/>
            </a:endParaRPr>
          </a:p>
        </p:txBody>
      </p:sp>
    </p:spTree>
  </p:cSld>
  <p:transition>
    <p:fade thruBlk="tru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Hospitalization for suicidal behavior, though often securing the safety of the suicidal individual, is quite costly and not always beneficial.  </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 an effort to decrease hospitalization rates and suicidality and improve functioning, Greenfield, Larson, Hechtman, Rousseau, and Platt implemented the Rapid Response (RR) ED intervention for suicidal adolescents who were not considered to require immediate medical or psychiatric hospitalization.</a:t>
            </a:r>
            <a:endParaRPr b="1" lang="en-US" sz="3200" spc="-1" strike="noStrike">
              <a:solidFill>
                <a:srgbClr val="000000"/>
              </a:solidFill>
              <a:latin typeface="Arial"/>
            </a:endParaRPr>
          </a:p>
        </p:txBody>
      </p:sp>
    </p:spTree>
  </p:cSld>
  <p:transition>
    <p:fade thruBlk="tru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intervention included family therapy, medication, and community intervention.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Hospitalization rates were decreased and outpatient therapy was initiated more rapidly as a result of the RR intervention when compared with standard care.</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dolescents receiving the intervention were less likely to be rehospitalized during the 6 months after their visit to the ED.</a:t>
            </a:r>
            <a:endParaRPr b="1" lang="en-US" sz="3200" spc="-1" strike="noStrike">
              <a:solidFill>
                <a:srgbClr val="000000"/>
              </a:solidFill>
              <a:latin typeface="Arial"/>
            </a:endParaRPr>
          </a:p>
        </p:txBody>
      </p:sp>
    </p:spTree>
  </p:cSld>
  <p:transition>
    <p:fade thruBlk="tru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Critique</a:t>
            </a:r>
            <a:endParaRPr b="1" lang="en-US" sz="32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The results of programs implemented to date suggest that some improvement in outpatient treatment adherence by young suicide attempters, as well as reduced hospitalizations, can be achieved by concerted efforts in the ED.</a:t>
            </a:r>
            <a:endParaRPr b="1" lang="en-US" sz="28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Such efforts require education of ED staff on suicide risks and treatment needs of young suicide attempters.  </a:t>
            </a:r>
            <a:endParaRPr b="1" lang="en-US" sz="28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Barriers to outpatient treatment appear to remain significant and difficult to surmount, even for the most cohesive and well functioning families.</a:t>
            </a:r>
            <a:endParaRPr b="1" lang="en-US" sz="28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ED interventions provide some continuity of contact with the youth beyond the initial ED visit, which will require additional staffing.</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ff"/>
                </a:solidFill>
                <a:latin typeface="Arial"/>
              </a:rPr>
              <a:t>Psychotherapeutic Treatments for Suicidal Youth</a:t>
            </a:r>
            <a:endParaRPr b="1" lang="en-US" sz="38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ost interventions have employed variations of cognitive behavioral therapy.</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 underlying assumptions is that the primary focus of treatment should be the suicidal behavior itself, rather than the underlying psychopatholog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gnitive Vulnerability</a:t>
            </a:r>
            <a:endParaRPr b="1" lang="en-US" sz="32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Negative beliefs about themselves, the world and their future</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end to make global, stable and internal attributions for negative event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When confronted with stressful life events, these individuals will appraise the stressors and their consequences negatively and hence are more likely to become depressed than are individuals who do not have such cognitive styles.</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transition>
    <p:fade thruBlk="tru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Program Example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n intense 2 week program that participants attended for 9 hr/day, included an experiential affective group, psychoeducational classes with homework, and a problem-solving and social competence group.</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 variety of strategies such as behavioral rehearsal, role-playing, and modeling were used to improve basic social skills and effective coping.</a:t>
            </a:r>
            <a:endParaRPr b="1" lang="en-US" sz="3200" spc="-1" strike="noStrike">
              <a:solidFill>
                <a:srgbClr val="000000"/>
              </a:solidFill>
              <a:latin typeface="Arial"/>
            </a:endParaRPr>
          </a:p>
        </p:txBody>
      </p:sp>
    </p:spTree>
  </p:cSld>
  <p:transition>
    <p:fade thruBlk="tru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articipants  were randomly assigned to either the experimental intervention or a treatment-as-usual condition involving long term outpatient treatment.</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In a 2-year follow up, it was found that participants in both groups showed significant reductions in suicidal ideation and behavior and experienced stress, and improvements in self-appraised problem-solving ability.  </a:t>
            </a:r>
            <a:endParaRPr b="1" lang="en-US" sz="3200" spc="-1" strike="noStrike">
              <a:solidFill>
                <a:srgbClr val="000000"/>
              </a:solidFill>
              <a:latin typeface="Arial"/>
            </a:endParaRPr>
          </a:p>
        </p:txBody>
      </p:sp>
    </p:spTree>
  </p:cSld>
  <p:transition>
    <p:fade thruBlk="tru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intensive time-limited intervention was found to be more effective than long-term treatment in retaining the highest-risk participants.</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nalyses showed that patients with psychiatric symptomatology experienced the most improvement in response to this intervention.</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rate of suicide attempts at follow-up was not reported for either experimental or control group and conclusions were limited by high attrition rates in both the experimental and control group.</a:t>
            </a:r>
            <a:endParaRPr b="1" lang="en-US" sz="3200" spc="-1" strike="noStrike">
              <a:solidFill>
                <a:srgbClr val="000000"/>
              </a:solidFill>
              <a:latin typeface="Arial"/>
            </a:endParaRPr>
          </a:p>
        </p:txBody>
      </p:sp>
    </p:spTree>
  </p:cSld>
  <p:transition>
    <p:fade thruBlk="tru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Harrington and colleagues in Great Britain developed a home-based family intervention for adolescents with a history of deliberate self-poisoning.</a:t>
            </a:r>
            <a:endParaRPr b="1"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is intervention used a cognitive behavioral approach to address family dysfunction assumed to be related to the suicide attempt, and to improve adherence to treatment by bringing it into the home.</a:t>
            </a:r>
            <a:endParaRPr b="1"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intervention consisted of five highly structured sessions focusing of goal setting, reviewing the self-poisoning episode, communication, problem solving, and discussing issues related to the family.</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program included a treatment manual and videotape for training.</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is brief intervention was found to be effective primarily among those adolescents who were not seriously depressed and had less severe suicidal ideation, who made up about one third of the 85 participant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dherence and parental satisfaction with treatment were better for participants in this treatment relative to treatment as usual.</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intervention was found to be no more costly than routine care alon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Wood and colleagues have developed an additional psychotherapeutic variant, using developmental group therapy as a alternative to usual care for adolescents who have repeatedly attempted to harm themselves.</a:t>
            </a:r>
            <a:endParaRPr b="1" lang="en-US" sz="3000" spc="-1" strike="noStrike">
              <a:solidFill>
                <a:srgbClr val="000000"/>
              </a:solidFill>
              <a:latin typeface="Arial"/>
            </a:endParaRPr>
          </a:p>
          <a:p>
            <a:pPr marL="343080" indent="-343080">
              <a:lnSpc>
                <a:spcPct val="90000"/>
              </a:lnSpc>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The group-therapy format was hypothesized to be useful in providing an arena for working on social problem-solving and relationship skills that are often considered core to suicidal behavior.</a:t>
            </a:r>
            <a:endParaRPr b="1" lang="en-US" sz="3000" spc="-1" strike="noStrike">
              <a:solidFill>
                <a:srgbClr val="000000"/>
              </a:solidFill>
              <a:latin typeface="Arial"/>
            </a:endParaRPr>
          </a:p>
          <a:p>
            <a:pPr marL="343080" indent="-343080">
              <a:lnSpc>
                <a:spcPct val="90000"/>
              </a:lnSpc>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Using a developmental approach to address issues unique to adolescents, the intervention combines problem-solving and cognitive behavioral interventions, and psychodynamic approaches.</a:t>
            </a:r>
            <a:endParaRPr b="1" lang="en-US" sz="3000" spc="-1" strike="noStrike">
              <a:solidFill>
                <a:srgbClr val="000000"/>
              </a:solidFill>
              <a:latin typeface="Arial"/>
            </a:endParaRPr>
          </a:p>
        </p:txBody>
      </p:sp>
    </p:spTree>
  </p:cSld>
  <p:transition>
    <p:fade thruBlk="tru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An acute phase focusing on core themes (family and peer relationships, school problems, anger management, depression, self-harm, and hopelessness) is followed by a longer phase that concentrates on group process.</a:t>
            </a:r>
            <a:endParaRPr b="1" lang="en-US" sz="3000" spc="-1" strike="noStrike">
              <a:solidFill>
                <a:srgbClr val="000000"/>
              </a:solidFill>
              <a:latin typeface="Arial"/>
            </a:endParaRPr>
          </a:p>
          <a:p>
            <a:pPr marL="339480" indent="-339480">
              <a:lnSpc>
                <a:spcPct val="90000"/>
              </a:lnSpc>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In interviews conducted 7 months after treatment began, participants in the developmental group therapy reported engaging in less self-harm that did adolescents who received routine care, although depression did not appear to improve.</a:t>
            </a:r>
            <a:endParaRPr b="1" lang="en-US" sz="3000" spc="-1" strike="noStrike">
              <a:solidFill>
                <a:srgbClr val="000000"/>
              </a:solidFill>
              <a:latin typeface="Arial"/>
            </a:endParaRPr>
          </a:p>
          <a:p>
            <a:pPr marL="339480" indent="-339480">
              <a:lnSpc>
                <a:spcPct val="90000"/>
              </a:lnSpc>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Participants in the developmental group therapy, particularly youth who had made multiple suicidal attempts, also showed reductions in conduct problems.</a:t>
            </a:r>
            <a:endParaRPr b="1" lang="en-US" sz="3000" spc="-1" strike="noStrike">
              <a:solidFill>
                <a:srgbClr val="000000"/>
              </a:solidFill>
              <a:latin typeface="Arial"/>
            </a:endParaRPr>
          </a:p>
        </p:txBody>
      </p:sp>
    </p:spTree>
  </p:cSld>
  <p:transition>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harmacological Treatments for Suicidal Youth</a:t>
            </a:r>
            <a:endParaRPr b="1" lang="en-US" sz="3200" spc="-1" strike="noStrike">
              <a:solidFill>
                <a:srgbClr val="000000"/>
              </a:solidFill>
              <a:latin typeface="Arial"/>
            </a:endParaRPr>
          </a:p>
          <a:p>
            <a:pPr marL="343080" indent="-343080">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lthough the effectiveness of antidepressants in treating children and adolescents has not been definitively established, use of SSRIs in treating depressed and suicidal youth has  nonetheless become widespread.</a:t>
            </a:r>
            <a:endParaRPr b="1" lang="en-US" sz="2600" spc="-1" strike="noStrike">
              <a:solidFill>
                <a:srgbClr val="000000"/>
              </a:solidFill>
              <a:latin typeface="Arial"/>
            </a:endParaRPr>
          </a:p>
          <a:p>
            <a:pPr marL="343080" indent="-343080">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 recent U.S. analysis by Olfson, Shaffer, and colleagues reported an inverse relationship between regional change in use of antidepressants among youth aged 10-19 and suicide mortality.</a:t>
            </a:r>
            <a:endParaRPr b="1" lang="en-US" sz="2600" spc="-1" strike="noStrike">
              <a:solidFill>
                <a:srgbClr val="000000"/>
              </a:solidFill>
              <a:latin typeface="Arial"/>
            </a:endParaRPr>
          </a:p>
          <a:p>
            <a:pPr marL="343080" indent="-343080">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The relationship was found to be significant specifically among males, among youth aged 15-19, and in geographic regions with lower family median incomes. </a:t>
            </a:r>
            <a:endParaRPr b="1" lang="en-US" sz="2600" spc="-1" strike="noStrike">
              <a:solidFill>
                <a:srgbClr val="000000"/>
              </a:solidFill>
              <a:latin typeface="Arial"/>
            </a:endParaRPr>
          </a:p>
        </p:txBody>
      </p:sp>
    </p:spTree>
  </p:cSld>
  <p:transition>
    <p:fade thruBlk="tru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n intervention by Cornelius and colleagues used fluoxetine (Prozac) to treat adolescents with comorbid major depression and an alcohol use disorder, including some who demonstrated suicidal ideation at baseline.</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intervention was based on findings that reducing depression and problem drinking in adults resulted in a reduction of suicidal behavior</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lso found flouxetine to be effective in treating suicidal adults with an alcohol disorder.</a:t>
            </a:r>
            <a:endParaRPr b="1" lang="en-US" sz="3200" spc="-1" strike="noStrike">
              <a:solidFill>
                <a:srgbClr val="000000"/>
              </a:solidFill>
              <a:latin typeface="Arial"/>
            </a:endParaRPr>
          </a:p>
        </p:txBody>
      </p:sp>
    </p:spTree>
  </p:cSld>
  <p:transition>
    <p:fade thruBlk="tru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In their studies involving youth, all patients receiving fluoxetine improved with respect to depressive symptoms, and over half improved in symptoms of alcohol dependenc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mong participants with suicidal ideation at baseline, ideation decreased and these decreases remained 1 year after treatment.</a:t>
            </a:r>
            <a:endParaRPr b="1"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Arial"/>
              </a:rPr>
              <a:t>Stress</a:t>
            </a:r>
            <a:endParaRPr b="1" lang="en-US" sz="32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Environmental conditions that threaten to harm the biological or psychological well-being of the individual</a:t>
            </a:r>
            <a:endParaRPr b="1"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ay occur either as an acute event or as chronic adversity, and as a major life event or as minor events with accumulated effects.  </a:t>
            </a:r>
            <a:endParaRPr b="1"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Events may be normative (school, transition) or pathological (abuse) </a:t>
            </a:r>
            <a:endParaRPr b="1"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ay be independent of, or directly related to an thus dependent on, and individual’s actions.</a:t>
            </a:r>
            <a:endParaRPr b="1" lang="en-US" sz="2800" spc="-1" strike="noStrike">
              <a:solidFill>
                <a:srgbClr val="000000"/>
              </a:solidFill>
              <a:latin typeface="Arial"/>
            </a:endParaRPr>
          </a:p>
        </p:txBody>
      </p:sp>
    </p:spTree>
  </p:cSld>
  <p:transition>
    <p:fade thruBlk="tru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 definitive study supported by the National Institute of Mental Health, known as the Treatment of Adolescents with Depression Study (TADS), has provided the strongest evidence to date of the effectiveness of fluoxetine in treating adolescent depression and suicidality.</a:t>
            </a:r>
            <a:endParaRPr b="1" lang="en-US" sz="3200" spc="-1" strike="noStrike">
              <a:solidFill>
                <a:srgbClr val="000000"/>
              </a:solidFill>
              <a:latin typeface="Arial"/>
            </a:endParaRPr>
          </a:p>
          <a:p>
            <a:pPr marL="343080" indent="-343080">
              <a:lnSpc>
                <a:spcPct val="9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is study randomly assigned 439 youths ages 12 to 17 diagnosed with moderate to severe depression to one of four treatment conditions for a period of 36 weeks: fluoxetine therapy alone, cognitive-behavioral therapy (CBT) alone, fluoxetine and CBT, and a placebo drug treatment.</a:t>
            </a:r>
            <a:endParaRPr b="1" lang="en-US" sz="3200" spc="-1" strike="noStrike">
              <a:solidFill>
                <a:srgbClr val="000000"/>
              </a:solidFill>
              <a:latin typeface="Arial"/>
            </a:endParaRPr>
          </a:p>
        </p:txBody>
      </p:sp>
    </p:spTree>
  </p:cSld>
  <p:transition>
    <p:fade thruBlk="tru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ased on the results obtained during the first 12 weeks of the study, the highest rate of clinical improvement (71%) was found among those receiving the combination treatment, followed by 61% of those who received fluoxetine alone, 43% of those who received CBT alone, and 35% of those who received the placebo drug treatment.</a:t>
            </a:r>
            <a:endParaRPr b="1" lang="en-US" sz="3200" spc="-1" strike="noStrike">
              <a:solidFill>
                <a:srgbClr val="000000"/>
              </a:solidFill>
              <a:latin typeface="Arial"/>
            </a:endParaRPr>
          </a:p>
        </p:txBody>
      </p:sp>
    </p:spTree>
  </p:cSld>
  <p:transition>
    <p:fade thruBlk="tru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ritique</a:t>
            </a:r>
            <a:endParaRPr b="1" lang="en-US" sz="3200" spc="-1" strike="noStrike">
              <a:solidFill>
                <a:srgbClr val="000000"/>
              </a:solidFill>
              <a:latin typeface="Arial"/>
            </a:endParaRPr>
          </a:p>
          <a:p>
            <a:pPr marL="335880" indent="-3358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ince 2003, concerns have been raised about the safety of the newer antidepressant medications for use by children and adolescents, based initially on unpublished data from drug company studies linking use of SSRIs by children and adolescents to suicidal ideation and self-harm behaviors.</a:t>
            </a:r>
            <a:endParaRPr b="1" lang="en-US" sz="3200" spc="-1" strike="noStrike">
              <a:solidFill>
                <a:srgbClr val="000000"/>
              </a:solidFill>
              <a:latin typeface="Arial"/>
            </a:endParaRPr>
          </a:p>
          <a:p>
            <a:pPr marL="335880" indent="-3358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se reports led the British drug regulatory agency to recommend against the sue of all SSRIs except fluoxetine in treating depression among youth under age 18.</a:t>
            </a:r>
            <a:endParaRPr b="1" lang="en-US" sz="3200" spc="-1" strike="noStrike">
              <a:solidFill>
                <a:srgbClr val="000000"/>
              </a:solidFill>
              <a:latin typeface="Arial"/>
            </a:endParaRPr>
          </a:p>
        </p:txBody>
      </p:sp>
    </p:spTree>
  </p:cSld>
  <p:transition>
    <p:fade thruBlk="tru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n 2004, the U.S. Food and Drug Administration undertook a review of 23 clinical trials involving the use of 9 different antidepressant medications by over 4,000 children and adolescents. </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results of this analysis found that the medications increased the risk of suicidal thinking and behavior in children and adolescents with major depressive disorder or other psychiatric disorders.</a:t>
            </a:r>
            <a:endParaRPr b="1" lang="en-US" sz="3200" spc="-1" strike="noStrike">
              <a:solidFill>
                <a:srgbClr val="000000"/>
              </a:solidFill>
              <a:latin typeface="Arial"/>
            </a:endParaRPr>
          </a:p>
        </p:txBody>
      </p:sp>
    </p:spTree>
  </p:cSld>
  <p:transition>
    <p:fade thruBlk="tru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Posthospitalization Programs for Suicidal Youth</a:t>
            </a:r>
            <a:endParaRPr b="1" lang="en-US" sz="32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only full-developed program of this sort is the Youth-Nominated Support Team (YST) intervention, developed by King and colleagues.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is program was an outgrowth of the developers’ finding that family dysfunction and parental psychopathology significantly impact treatment adherence by suicidal youth after hospitalization.</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Concentrating on the high-risk period for suicidality immediately following psychiatric hospitalization, the program specifically targets poor treatment adherence and negative perceptions of family support and helpfulness.</a:t>
            </a:r>
            <a:endParaRPr b="1" lang="en-US" sz="2800" spc="-1" strike="noStrike">
              <a:solidFill>
                <a:srgbClr val="000000"/>
              </a:solidFill>
              <a:latin typeface="Arial"/>
            </a:endParaRPr>
          </a:p>
        </p:txBody>
      </p:sp>
    </p:spTree>
  </p:cSld>
  <p:transition>
    <p:fade thruBlk="tru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Before leaving the hospital, program participants nominate specific adults from their home, school, or community to support them when they are released.  </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y YST conducts a psychoeducation session with these adults, then engages them in weekly consultations designed to improve their understanding of the suicidal youngster and how he or she can be effectively supported. </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A social network is encouraged among the adults, who typically come from diverse settings. </a:t>
            </a:r>
            <a:endParaRPr b="1" lang="en-US" sz="3200" spc="-1" strike="noStrike">
              <a:solidFill>
                <a:srgbClr val="000000"/>
              </a:solidFill>
              <a:latin typeface="Arial"/>
            </a:endParaRPr>
          </a:p>
        </p:txBody>
      </p:sp>
    </p:spTree>
  </p:cSld>
  <p:transition>
    <p:fade thruBlk="tru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program is designed to supplement usual treatments.</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Response to YST by participating youth and the nominated adults has been positive with 80% of those nominated actually participating in the program.</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ositive effects have been reported for adolescent females, including reduced suicidal ideation and mood impairment.</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imilar benefits were not evidenced among male participants, although some described YST as having beneficial effects.</a:t>
            </a:r>
            <a:endParaRPr b="1" lang="en-US" sz="3200" spc="-1" strike="noStrike">
              <a:solidFill>
                <a:srgbClr val="000000"/>
              </a:solidFill>
              <a:latin typeface="Arial"/>
            </a:endParaRPr>
          </a:p>
        </p:txBody>
      </p:sp>
    </p:spTree>
  </p:cSld>
  <p:transition>
    <p:fade thruBlk="tru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ritique</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Since this intervention has only recently been implemented, it is too early to know whether the positive effects found among the suicidal girls will be translated into reductions of suicide attempts and rehospitalization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t will also be important to identify the reasons underlying the lack of clear effects among male participants and to incorporate the necessary programmatic changes.</a:t>
            </a:r>
            <a:endParaRPr b="1" lang="en-US" sz="3200" spc="-1" strike="noStrike">
              <a:solidFill>
                <a:srgbClr val="000000"/>
              </a:solidFill>
              <a:latin typeface="Arial"/>
            </a:endParaRPr>
          </a:p>
        </p:txBody>
      </p:sp>
    </p:spTree>
  </p:cSld>
  <p:transition>
    <p:fade thruBlk="tru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66ff"/>
                </a:solidFill>
                <a:latin typeface="Arial"/>
              </a:rPr>
              <a:t>Research Agenda for Youth Suicide Prevention</a:t>
            </a:r>
            <a:endParaRPr b="1" lang="en-US" sz="7200" spc="-1" strike="noStrike">
              <a:solidFill>
                <a:srgbClr val="000000"/>
              </a:solidFill>
              <a:latin typeface="Arial"/>
            </a:endParaRPr>
          </a:p>
        </p:txBody>
      </p:sp>
    </p:spTree>
  </p:cSld>
  <p:transition>
    <p:fade thruBlk="tru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What We Don’t Know About Youth Suicide</a:t>
            </a:r>
            <a:endParaRPr b="1" lang="en-US" sz="34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lthough the problem of youth suicide is disproportionately due to its prevalence in young males, explanations for this phenomenon are currently lacking.</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impact of race and ethnicity on suicide vulnerability among youth and what particular risk or protective factors are conferred by membership in particular racial or ethnic groups is not well understood.</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52280"/>
            <a:ext cx="8763120" cy="64008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Link between stressful life events and depression in children and adolescents.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Depressive symptoms and disorders are highly associated with minor and major undesirable life events in children.</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Negative life events are more prevalent among depressed than  non-depressed children.</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tress that occurs as early as at conception likely contributes to an increased vulnerability to depression.</a:t>
            </a:r>
            <a:endParaRPr b="1" lang="en-US" sz="3200" spc="-1" strike="noStrike">
              <a:solidFill>
                <a:srgbClr val="000000"/>
              </a:solidFill>
              <a:latin typeface="Arial"/>
            </a:endParaRPr>
          </a:p>
        </p:txBody>
      </p:sp>
    </p:spTree>
  </p:cSld>
  <p:transition>
    <p:fade thruBlk="tru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hat external environments increase or decrease youth vulnerability and susceptibility to suicide.  How can these be improved?</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latively little is known about the specific clinical pathways to youth suicide.  In particular, much more needs to be known about the contribution of bipolar disorder, panic attacks, and posttraumatic stress disorder to suicide deaths among youth.</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impact of race and ethnicity on diagnostic profiles and clinical pathways to suicide needs greater scrutiny.</a:t>
            </a:r>
            <a:endParaRPr b="1" lang="en-US" sz="3200" spc="-1" strike="noStrike">
              <a:solidFill>
                <a:srgbClr val="000000"/>
              </a:solidFill>
              <a:latin typeface="Arial"/>
            </a:endParaRPr>
          </a:p>
        </p:txBody>
      </p:sp>
    </p:spTree>
  </p:cSld>
  <p:transition>
    <p:fade thruBlk="tru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Much more needs to be known about the role of neurobiological abnormalities that contribute to youth suicidal behavior, and the degree to which these may be inherited.</a:t>
            </a:r>
            <a:endParaRPr b="1" lang="en-US" sz="3200" spc="-1" strike="noStrike">
              <a:solidFill>
                <a:srgbClr val="000000"/>
              </a:solidFill>
              <a:latin typeface="Arial"/>
            </a:endParaRPr>
          </a:p>
          <a:p>
            <a:pPr marL="343080" indent="-343080">
              <a:lnSpc>
                <a:spcPct val="9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extent to which parental and familial psychopathology influences suicide ideation, attempts, and completions among youth, over and above genetic influences, needs to be examined.  Specifically, what is the effect of exposure to parental suicide attempts and completion, and suicide risk among youth?  Does childhood physical and sexual abuse confer suicide risk independent of other effects of family psychopathology.</a:t>
            </a:r>
            <a:endParaRPr b="1" lang="en-US" sz="3200" spc="-1" strike="noStrike">
              <a:solidFill>
                <a:srgbClr val="000000"/>
              </a:solidFill>
              <a:latin typeface="Arial"/>
            </a:endParaRPr>
          </a:p>
        </p:txBody>
      </p:sp>
    </p:spTree>
  </p:cSld>
  <p:transition>
    <p:fade thruBlk="tru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uch more needs to be understood about the role of personal and social skills in protecting youth from suicidal behavior.  Do strong problem-solving skills, decision-making abilities, and support from family and schools actually protect young people from developing suicidal impulses, or is the absence of such skills a manifestation of psychopathology that is more directly related to suicidal thoughts or behavior?</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What is the role of culture, identity, and religious beliefs in reducing suicide risk?</a:t>
            </a:r>
            <a:endParaRPr b="1" lang="en-US" sz="3200" spc="-1" strike="noStrike">
              <a:solidFill>
                <a:srgbClr val="000000"/>
              </a:solidFill>
              <a:latin typeface="Arial"/>
            </a:endParaRPr>
          </a:p>
        </p:txBody>
      </p:sp>
    </p:spTree>
  </p:cSld>
  <p:transition>
    <p:fade thruBlk="tru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What We Don’t Know About Suicide Prevention Programs</a:t>
            </a:r>
            <a:endParaRPr b="1" lang="en-US" sz="34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ost suicide education programs have not identified the active ingredients responsible for the outcomes they produce.</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ost suicide education programs target outcomes whose relationship to youth suicide has not been precisely identified.  Many, for example, have reported increased knowledge of mental illness and suicide among students, although the impact of this outcome on suicidal behavior is not known.</a:t>
            </a:r>
            <a:endParaRPr b="1" lang="en-US" sz="3200" spc="-1" strike="noStrike">
              <a:solidFill>
                <a:srgbClr val="000000"/>
              </a:solidFill>
              <a:latin typeface="Arial"/>
            </a:endParaRPr>
          </a:p>
        </p:txBody>
      </p:sp>
    </p:spTree>
  </p:cSld>
  <p:transition>
    <p:fade thruBlk="tru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Although increasing the number of referrals to treatment is a key goal of screening programs, there is not clear evidence of a direct linkage between increased referrals and decreased suicidal behavior among youth.</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Screening programs have generally not identified effective mechanisms for encouraging larger numbers of youth identified as at risk for suicide into treatment.</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Little data are currently available about the cost-effectiveness of school-based screening programs.</a:t>
            </a:r>
            <a:endParaRPr b="1" lang="en-US" sz="3000" spc="-1" strike="noStrike">
              <a:solidFill>
                <a:srgbClr val="000000"/>
              </a:solidFill>
              <a:latin typeface="Arial"/>
            </a:endParaRPr>
          </a:p>
        </p:txBody>
      </p:sp>
    </p:spTree>
  </p:cSld>
  <p:transition>
    <p:fade thruBlk="tru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lthough popular in recent years, the effects of postvention programs, both positive and adverse, on youth exposed to a suicide death have not been clearly documented.</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Despite limited evidence that educational programs directed at parents, particularly fathers, can decrease youth access to firearms, the impact of means restriction programs on decreasing suicide attempts and suicide deaths among youth ahs not been documented.</a:t>
            </a:r>
            <a:endParaRPr b="1" lang="en-US" sz="3200" spc="-1" strike="noStrike">
              <a:solidFill>
                <a:srgbClr val="000000"/>
              </a:solidFill>
              <a:latin typeface="Arial"/>
            </a:endParaRPr>
          </a:p>
        </p:txBody>
      </p:sp>
    </p:spTree>
  </p:cSld>
  <p:transition>
    <p:fade thruBlk="tru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What We Don’t Know About Treatment of Suicidality and Underlying Disorders Among Youth</a:t>
            </a:r>
            <a:endParaRPr b="1" lang="en-US" sz="36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he active ingredients of comprehensive high school-based programs for treating students at risk of dropping out, including some who are depressed and suicidal, have not been clearly identified.</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t has not been demonstrated that students at risk of dropping out of school are representative of suicidal youth generally, and therefore that programs that address this population have wide applicability.</a:t>
            </a:r>
            <a:endParaRPr b="1" lang="en-US" sz="3200" spc="-1" strike="noStrike">
              <a:solidFill>
                <a:srgbClr val="000000"/>
              </a:solidFill>
              <a:latin typeface="Arial"/>
            </a:endParaRPr>
          </a:p>
        </p:txBody>
      </p:sp>
    </p:spTree>
  </p:cSld>
  <p:transition>
    <p:fade thruBlk="tru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replication of such programs, which require considerable personnel and financial resources, has not been established.</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impact of emergency department programs for youth suicide attempters and their families on decreasing suicide deaths has not been established.</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though some promising outcomes have been reported, long-term of cognitive behavior therapy with suicidal youth are not yet know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Although there is increasing evidence of the safety and efficacy of Prozac in treating depressed and suicidal youth, the safety and efficacy of the many other antidepressants currently being used have not been established.</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Much more needs to be known about the combinations of psychotherapeutic and pharmacological treatment that produce the most positive short- and long-term outcomes for depressed, suicidal youth.</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Long-term effects of post-hospitalization programs for suicidal youth have not been documented.</a:t>
            </a:r>
            <a:endParaRPr b="1" lang="en-US" sz="3000" spc="-1" strike="noStrike">
              <a:solidFill>
                <a:srgbClr val="000000"/>
              </a:solidFill>
              <a:latin typeface="Arial"/>
            </a:endParaRPr>
          </a:p>
        </p:txBody>
      </p:sp>
    </p:spTree>
  </p:cSld>
  <p:transition>
    <p:fade thruBlk="tru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Research Need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n order to effectively address the knowledge needs that have been identified, youth suicide research must expand beyond its present relatively narrow focus to incorporate standards of research design and program evaluation that are routinely used in other prevention fields.</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Examples of Stressors That are Associated with Depression</a:t>
            </a:r>
            <a:endParaRPr b="1" lang="en-US" sz="36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Childhood abuse or maltreatment</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Sexual assault</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Poverty (depression among low-income mothers is twice as high as in the general population)</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Events such as disappointments, loss, separation, and interpersonal conflict</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transition>
    <p:fade thruBlk="tru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Evaluation strategies  that have been employed have relied largely on pre-post designs that do not adequately link outcomes to program components.  Program controlled studies are needed to determine the effectiveness, safety, and active ingredients of universal and targeted suicide prevention programs including school-based education, screening, and skills development programs; and school and community interventions for at-risk populations, including firearms restriction programs and gatekeeper training programs.</a:t>
            </a:r>
            <a:endParaRPr b="1"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 development that is expected to encourage and support the use of scientifically valid evaluation designs by suicide prevention programs is the recent decision of the Substance Abuse and Mental Health Administration (SAMHSA) to expand its National Registry of Effective Programs and Practices (NREPP) fro its original focus on substance abuse prevention programs to include mental health promotion and treatment programs including those associated with suicide prevention.</a:t>
            </a:r>
            <a:endParaRPr b="1" lang="en-US" sz="3200" spc="-1" strike="noStrike">
              <a:solidFill>
                <a:srgbClr val="000000"/>
              </a:solidFill>
              <a:latin typeface="Arial"/>
            </a:endParaRPr>
          </a:p>
        </p:txBody>
      </p:sp>
    </p:spTree>
  </p:cSld>
  <p:transition>
    <p:fade thruBlk="tru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Funding for Evaluation Studie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Few youth suicide prevention programs have had the necessary personnel or financial resources to conduct independent program evaluation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f the field is to move forward, mechanisms need to be established that mandate and support comprehensive, well-designed outcome studies as a regular part of prevention programming.</a:t>
            </a:r>
            <a:endParaRPr b="1" lang="en-US" sz="3200" spc="-1" strike="noStrike">
              <a:solidFill>
                <a:srgbClr val="000000"/>
              </a:solidFill>
              <a:latin typeface="Arial"/>
            </a:endParaRPr>
          </a:p>
        </p:txBody>
      </p:sp>
    </p:spTree>
  </p:cSld>
  <p:transition>
    <p:fade thruBlk="tru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Much more attention needs to be given to evaluating the outcome of treatment programs for suicidal youth.</a:t>
            </a:r>
            <a:endParaRPr b="1" lang="en-US" sz="3000" spc="-1" strike="noStrike">
              <a:solidFill>
                <a:srgbClr val="000000"/>
              </a:solidFill>
              <a:latin typeface="Arial"/>
            </a:endParaRPr>
          </a:p>
          <a:p>
            <a:pPr marL="343080" indent="-343080">
              <a:lnSpc>
                <a:spcPct val="9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Since universal and selective suicide prevention programs focus heavily on encouraging help seeking and on identifying vulnerable youth and referring them to treatment, their impact on  reducing youth suicide depends ultimately on the effectiveness of the treatments that are available to such young people.  Thus, the single highest priority must be given to determining the relative efficacy and effectiveness of all currently employed treatments and indicated interventions for suicidal youth.</a:t>
            </a:r>
            <a:endParaRPr b="1" lang="en-US" sz="3000" spc="-1" strike="noStrike">
              <a:solidFill>
                <a:srgbClr val="000000"/>
              </a:solidFill>
              <a:latin typeface="Arial"/>
            </a:endParaRPr>
          </a:p>
        </p:txBody>
      </p:sp>
    </p:spTree>
  </p:cSld>
  <p:transition>
    <p:fade thruBlk="tru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80520" y="304920"/>
            <a:ext cx="8915400" cy="64008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reatment evaluations need to give particular attention to building appropriate safeguards into treatment trials involving high-risk youth population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aintaining troubled youth in treatment trials over an adequate period of time to observe both short- and long-term outcomes is a particular challenge.  Time-limited treatments, while easier to evaluate, leave unresolved questions about long-term effectiveness.</a:t>
            </a:r>
            <a:endParaRPr b="1"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erpersonal Relationships</a:t>
            </a:r>
            <a:endParaRPr b="1" lang="en-US" sz="3200" spc="-1" strike="noStrike">
              <a:solidFill>
                <a:srgbClr val="000000"/>
              </a:solidFill>
              <a:latin typeface="Arial"/>
            </a:endParaRPr>
          </a:p>
          <a:p>
            <a:pPr marL="343080" indent="-343080">
              <a:lnSpc>
                <a:spcPct val="90000"/>
              </a:lnSpc>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Families with a depressed member are characterized by less support and more conflict.</a:t>
            </a:r>
            <a:endParaRPr b="1" lang="en-US" sz="2800" spc="-1" strike="noStrike">
              <a:solidFill>
                <a:srgbClr val="000000"/>
              </a:solidFill>
              <a:latin typeface="Arial"/>
            </a:endParaRPr>
          </a:p>
          <a:p>
            <a:pPr marL="343080" indent="-343080">
              <a:lnSpc>
                <a:spcPct val="90000"/>
              </a:lnSpc>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Family dysfunction increases children’s risk of developing depression.</a:t>
            </a:r>
            <a:endParaRPr b="1" lang="en-US" sz="2800" spc="-1" strike="noStrike">
              <a:solidFill>
                <a:srgbClr val="000000"/>
              </a:solidFill>
              <a:latin typeface="Arial"/>
            </a:endParaRPr>
          </a:p>
          <a:p>
            <a:pPr marL="343080" indent="-343080">
              <a:lnSpc>
                <a:spcPct val="90000"/>
              </a:lnSpc>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Depressed individuals are themselves more interpersonally difficult, which results in greater problems in their social network.</a:t>
            </a:r>
            <a:endParaRPr b="1" lang="en-US" sz="2800" spc="-1" strike="noStrike">
              <a:solidFill>
                <a:srgbClr val="000000"/>
              </a:solidFill>
              <a:latin typeface="Arial"/>
            </a:endParaRPr>
          </a:p>
          <a:p>
            <a:pPr marL="343080" indent="-343080">
              <a:lnSpc>
                <a:spcPct val="90000"/>
              </a:lnSpc>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Family dysfunction, parent-child conflict, peer difficulties, and interpersonal rejection show that social problems precede depression and depression contributes to interpersonal difficulties.  </a:t>
            </a:r>
            <a:endParaRPr b="1" lang="en-US" sz="2800" spc="-1" strike="noStrike">
              <a:solidFill>
                <a:srgbClr val="000000"/>
              </a:solidFill>
              <a:latin typeface="Arial"/>
            </a:endParaRPr>
          </a:p>
          <a:p>
            <a:pPr marL="343080" indent="-343080">
              <a:lnSpc>
                <a:spcPct val="90000"/>
              </a:lnSpc>
              <a:spcBef>
                <a:spcPts val="7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Arial"/>
              </a:rPr>
              <a:t>Link between interpersonal vulnerability and depression is bidirectional</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cc99"/>
                </a:solidFill>
                <a:latin typeface="Impact"/>
              </a:rPr>
              <a:t>Bipolar Disorder</a:t>
            </a:r>
            <a:endParaRPr b="0" lang="en-US" sz="8000" spc="-1" strike="noStrike">
              <a:solidFill>
                <a:srgbClr val="000000"/>
              </a:solidFill>
              <a:latin typeface="Impac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891540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Arial"/>
              </a:rPr>
              <a:t>For many years, children and adolescents were thought incapable of experiencing depression.  It was considered an adult disease.</a:t>
            </a:r>
            <a:endParaRPr b="0" lang="en-US" sz="36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Arial"/>
              </a:rPr>
              <a:t>1975- National Institute of Mental Health met and discussed depression among children.  </a:t>
            </a:r>
            <a:endParaRPr b="0" lang="en-US" sz="36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Arial"/>
              </a:rPr>
              <a:t>1977- Diagnosis and existence of depression in children and adolescents is recognized.</a:t>
            </a:r>
            <a:endParaRPr b="0" lang="en-US" sz="3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ood Disorders</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ipolar disorder belongs to the category of mental-health experiences called mood disorders.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imary feature is a significant change or disturbance in mood.</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ood disorders fall into four groups:</a:t>
            </a:r>
            <a:endParaRPr b="1"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pressive disorders</a:t>
            </a:r>
            <a:endParaRPr b="1"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ipolar disorders</a:t>
            </a:r>
            <a:endParaRPr b="1"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ood disorder due to a general medical condition</a:t>
            </a:r>
            <a:endParaRPr b="1"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ubstance-induced mood disorder</a:t>
            </a:r>
            <a:endParaRPr b="1" lang="en-US" sz="2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60" y="-360"/>
            <a:ext cx="8991720" cy="6705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iagnosis</a:t>
            </a:r>
            <a:endParaRPr b="1" lang="en-US" sz="40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ediatric mania tends to be chronic and continuous rather than episodic and acute</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hildhood-onset mania is a non-episodic, chronic, rapid-cycling, mixed manic state</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Early-onset manics are more likely to have comorbid behavior disorders in childhood, and compared to adult-onset cases of mania, to have fewer episodes of remission over a 2 year period</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304920"/>
            <a:ext cx="8991720" cy="6400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t>
            </a:r>
            <a:r>
              <a:rPr b="1" lang="en-US" sz="3200" spc="-1" strike="noStrike">
                <a:solidFill>
                  <a:srgbClr val="00cc99"/>
                </a:solidFill>
                <a:latin typeface="Arial"/>
              </a:rPr>
              <a:t>mixed mania” affects 20-30% of adults with  mania</a:t>
            </a:r>
            <a:endParaRPr b="1" lang="en-US" sz="3200" spc="-1" strike="noStrike">
              <a:solidFill>
                <a:srgbClr val="000000"/>
              </a:solidFill>
              <a:latin typeface="Arial"/>
            </a:endParaRPr>
          </a:p>
          <a:p>
            <a:pPr lvl="1" marL="743040" indent="-28584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High rate of suicide</a:t>
            </a:r>
            <a:endParaRPr b="1" lang="en-US" sz="3200" spc="-1" strike="noStrike">
              <a:solidFill>
                <a:srgbClr val="000000"/>
              </a:solidFill>
              <a:latin typeface="Arial"/>
            </a:endParaRPr>
          </a:p>
          <a:p>
            <a:pPr lvl="1" marL="743040" indent="-28584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Poor response to treatment</a:t>
            </a:r>
            <a:endParaRPr b="1" lang="en-US" sz="3200" spc="-1" strike="noStrike">
              <a:solidFill>
                <a:srgbClr val="000000"/>
              </a:solidFill>
              <a:latin typeface="Arial"/>
            </a:endParaRPr>
          </a:p>
          <a:p>
            <a:pPr lvl="1" marL="743040" indent="-28584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Early history of neuropsychological deficits highly suggestive of ADHD</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a:rPr>
              <a:t>Criteria to diagnose bipolar disorder:</a:t>
            </a:r>
            <a:endParaRPr b="1" lang="en-US" sz="38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marL="343080" indent="-343080">
              <a:spcBef>
                <a:spcPts val="85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ff"/>
                </a:solidFill>
                <a:latin typeface="Arial"/>
              </a:rPr>
              <a:t>A distinct period of abnormally and persistently  elevated, expansive, or irritable mood lasting at least 1 week</a:t>
            </a:r>
            <a:endParaRPr b="1" lang="en-US" sz="3400" spc="-1" strike="noStrike">
              <a:solidFill>
                <a:srgbClr val="000000"/>
              </a:solidFill>
              <a:latin typeface="Arial"/>
            </a:endParaRPr>
          </a:p>
          <a:p>
            <a:pPr marL="343080" indent="-343080">
              <a:spcBef>
                <a:spcPts val="85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ff"/>
                </a:solidFill>
                <a:latin typeface="Arial"/>
              </a:rPr>
              <a:t>During the period of mood disturbance, 3 or more of the following symptoms have persisted and have been present to a significant degree:</a:t>
            </a:r>
            <a:endParaRPr b="1" lang="en-US" sz="34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Inflated self-esteem or grandiosity</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Decreased need for sleep</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More talkative than usual or pressure to keep talking</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Flight of ideas or subjective experience that thoughts are racing</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Distractibility</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Increase in goal-directed activity</a:t>
            </a:r>
            <a:endParaRPr b="1" lang="en-US" sz="3000" spc="-1" strike="noStrike">
              <a:solidFill>
                <a:srgbClr val="000000"/>
              </a:solidFill>
              <a:latin typeface="Arial"/>
            </a:endParaRPr>
          </a:p>
          <a:p>
            <a:pPr marL="343080" indent="-3430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Excessive involvement in pleasurable activities that have a high potential for painful consequences</a:t>
            </a:r>
            <a:endParaRPr b="1" lang="en-US" sz="3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Comorbidity</a:t>
            </a:r>
            <a:endParaRPr b="1" lang="en-US" sz="4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Another mental-health experience overlapping or separate from bipolar disorder.  </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ay share similarities with bipolar, making them challenging to pinpoint or diagnose.  </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It is critical to focus on symptoms, not behavior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systematic overlap of childhood mania with ADHD is one major source of diagnostic controversy.  Rates of ADHD range from 60% to 90% in pediatric patients with mania.</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Although ADHD has a much earlier onset than pediatric mania, the symptomatic syndromatic overlap between pediatric mania and ADHD raises a fundamental question- do children presenting with symptoms suggestive of mania and ADHD have ADHD, mania, or both?</a:t>
            </a:r>
            <a:endParaRPr b="1"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With Conduct Disorder (CD)</a:t>
            </a:r>
            <a:endParaRPr b="1" lang="en-US" sz="36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D is strongly associated with pediatric mania</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omorbidity between CD and major depression because pediatric depression often presages mania</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D includes violent behavior that may be categorized as mild, moderate, or severe.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hildhood-onset type (before age 10)</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dolescent-onset type (after age 10)</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CD behaviors can start out slowly and build over an individual’s lifetime, ranging from lying, stealing, and physical fights to drug use, burglary, rape, and mugging.</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20-40% of kids with ADHD have CD</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One way to distinguish CD from bipolar disorder is to determine if outbursts or episodes of manic symptoms can seen with other indicators of mania.  To be diagnosed with CD, your child must be significantly sidetracked by the symptoms and must have an impaired ability to function throughout each day.</a:t>
            </a:r>
            <a:endParaRPr b="1" lang="en-US" sz="32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For a diagnosis of CD, your child needs to show a regular persisting pattern of violating rules and the rights of other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3 of the following must have happened within the past year and one must have occurred in the past 6 months:</a:t>
            </a:r>
            <a:endParaRPr b="1"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228600"/>
            <a:ext cx="8915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0" y="609480"/>
            <a:ext cx="9144000" cy="579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jor Depression Disorder (MDD)</a:t>
            </a:r>
            <a:endParaRPr b="0" lang="en-US" sz="3600" spc="-1" strike="noStrike">
              <a:solidFill>
                <a:srgbClr val="000000"/>
              </a:solidFill>
              <a:latin typeface="Arial"/>
            </a:endParaRPr>
          </a:p>
          <a:p>
            <a:pPr>
              <a:spcBef>
                <a:spcPts val="17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 </a:t>
            </a:r>
            <a:r>
              <a:rPr b="0" lang="en-US" sz="2800" spc="-1" strike="noStrike">
                <a:solidFill>
                  <a:srgbClr val="00cc99"/>
                </a:solidFill>
                <a:latin typeface="Arial"/>
              </a:rPr>
              <a:t>Age of first onset of major depression is in adolescence and young adulthood</a:t>
            </a:r>
            <a:endParaRPr b="0" lang="en-US" sz="2800" spc="-1" strike="noStrike">
              <a:solidFill>
                <a:srgbClr val="000000"/>
              </a:solidFill>
              <a:latin typeface="Arial"/>
            </a:endParaRPr>
          </a:p>
          <a:p>
            <a:pPr>
              <a:spcBef>
                <a:spcPts val="17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 </a:t>
            </a:r>
            <a:r>
              <a:rPr b="0" lang="en-US" sz="2800" spc="-1" strike="noStrike">
                <a:solidFill>
                  <a:srgbClr val="00cc99"/>
                </a:solidFill>
                <a:latin typeface="Arial"/>
              </a:rPr>
              <a:t>Adolescent depression is a chronic, recurrent and serious illness. </a:t>
            </a:r>
            <a:endParaRPr b="0" lang="en-US" sz="2800" spc="-1" strike="noStrike">
              <a:solidFill>
                <a:srgbClr val="000000"/>
              </a:solidFill>
              <a:latin typeface="Arial"/>
            </a:endParaRPr>
          </a:p>
          <a:p>
            <a:pPr>
              <a:spcBef>
                <a:spcPts val="17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 </a:t>
            </a:r>
            <a:r>
              <a:rPr b="0" lang="en-US" sz="2800" spc="-1" strike="noStrike">
                <a:solidFill>
                  <a:srgbClr val="00cc99"/>
                </a:solidFill>
                <a:latin typeface="Arial"/>
              </a:rPr>
              <a:t>Children of depressed parents vs. children of non-depressed parents have 2 to 4 fold increased risk of depression.</a:t>
            </a:r>
            <a:endParaRPr b="0" lang="en-US" sz="2800" spc="-1" strike="noStrike">
              <a:solidFill>
                <a:srgbClr val="000000"/>
              </a:solidFill>
              <a:latin typeface="Arial"/>
            </a:endParaRPr>
          </a:p>
          <a:p>
            <a:pPr>
              <a:spcBef>
                <a:spcPts val="17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 </a:t>
            </a:r>
            <a:r>
              <a:rPr b="0" lang="en-US" sz="2800" spc="-1" strike="noStrike">
                <a:solidFill>
                  <a:srgbClr val="00cc99"/>
                </a:solidFill>
                <a:latin typeface="Arial"/>
              </a:rPr>
              <a:t>Symptoms: twice as common in females, substance abuse, suicidal behaviors, social, occupational and educational disability. </a:t>
            </a:r>
            <a:endParaRPr b="0" lang="en-US" sz="2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hysical cruelty to people or animals</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ft from someone in person</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cing someone to engage in sexual activity</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Violent use of a weapon to cause serious harm</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stigating physical fights</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ullying or threatening others</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son</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estroying others’ property</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reaking into someone’s house, car, or other building</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ning or manipulating others</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hoplifting, credit card identity theft, forging checks</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reaking curfew</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unning away from home overnight at least twice</a:t>
            </a:r>
            <a:endParaRPr b="1"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kipping school before age 13</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With Anxiety Disorders</a:t>
            </a:r>
            <a:endParaRPr b="1" lang="en-US" sz="32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Pediatric studies of youth with panic disorder and youth with mania document a bidirectional overlap.</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Subjects with panic disorder and agoraphobia had very high rates of mania</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ore panic and other anxiety disorders in children with  mania. </a:t>
            </a:r>
            <a:endParaRPr b="1"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ania at any age is frequently comorbid with severe anxiety that requires additional clinical and scientific scrutin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60" y="0"/>
            <a:ext cx="899172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With Substance Use Disorders (SUD)</a:t>
            </a:r>
            <a:endParaRPr b="1"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marL="343080" indent="-343080">
              <a:spcBef>
                <a:spcPts val="8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Bidirectional overlap between mania and SUD in youth as well as adults</a:t>
            </a:r>
            <a:endParaRPr b="1" lang="en-US" sz="3400" spc="-1" strike="noStrike">
              <a:solidFill>
                <a:srgbClr val="000000"/>
              </a:solidFill>
              <a:latin typeface="Arial"/>
            </a:endParaRPr>
          </a:p>
          <a:p>
            <a:pPr marL="343080" indent="-343080">
              <a:spcBef>
                <a:spcPts val="8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Juvenile-onset mania may be a risk factor for SUD</a:t>
            </a:r>
            <a:endParaRPr b="1" lang="en-US" sz="34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sk Factors</a:t>
            </a:r>
            <a:endParaRPr b="1" lang="en-US" sz="40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marL="343080" indent="-343080">
              <a:spcBef>
                <a:spcPts val="85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ff"/>
                </a:solidFill>
                <a:latin typeface="Arial"/>
              </a:rPr>
              <a:t>Risk factors have not been clearly identified from community-based studies.  </a:t>
            </a:r>
            <a:endParaRPr b="1" lang="en-US" sz="3400" spc="-1" strike="noStrike">
              <a:solidFill>
                <a:srgbClr val="000000"/>
              </a:solidFill>
              <a:latin typeface="Arial"/>
            </a:endParaRPr>
          </a:p>
          <a:p>
            <a:pPr marL="343080" indent="-343080">
              <a:spcBef>
                <a:spcPts val="85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ff"/>
                </a:solidFill>
                <a:latin typeface="Arial"/>
              </a:rPr>
              <a:t>The most consistent risk factor for bipolar disorder is family history.</a:t>
            </a:r>
            <a:endParaRPr b="1" lang="en-US" sz="34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ff"/>
                </a:solidFill>
                <a:latin typeface="Arial"/>
              </a:rPr>
              <a:t>Offspring of adult bipolar patients has an increased risk, over 3-fold, of bipolar disorder as well as mood disorders, compared to offspring of controls.</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ff"/>
                </a:solidFill>
                <a:latin typeface="Arial"/>
              </a:rPr>
              <a:t>Gender</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Gender is well known to be an important but poorly understood factor influencing the risk of MDD.  The prevalence of MDD, while equal between boys and girls prior to puberty, doubles in young women after puberty.  This increase in females has been hypothesized to be secondary to hormonal changes occurring during puberty.</a:t>
            </a:r>
            <a:endParaRPr b="1" lang="en-US" sz="3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Arial"/>
              </a:rPr>
              <a:t>Treatment of Depression and Bipolar Disorder</a:t>
            </a:r>
            <a:endParaRPr b="1"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19320" y="0"/>
            <a:ext cx="73152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3333"/>
                </a:solidFill>
                <a:latin typeface="Arial"/>
              </a:rPr>
              <a:t>Psychosocial Treatments for MDD</a:t>
            </a:r>
            <a:endParaRPr b="1" lang="en-US" sz="46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a:p>
            <a:pPr marL="343080" indent="-343080">
              <a:spcBef>
                <a:spcPts val="104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Arial"/>
              </a:rPr>
              <a:t>Behavior therapy</a:t>
            </a:r>
            <a:endParaRPr b="1" lang="en-US" sz="4200" spc="-1" strike="noStrike">
              <a:solidFill>
                <a:srgbClr val="000000"/>
              </a:solidFill>
              <a:latin typeface="Arial"/>
            </a:endParaRPr>
          </a:p>
          <a:p>
            <a:pPr marL="343080" indent="-343080">
              <a:spcBef>
                <a:spcPts val="104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Arial"/>
              </a:rPr>
              <a:t>Cognitive therapy</a:t>
            </a:r>
            <a:endParaRPr b="1" lang="en-US" sz="4200" spc="-1" strike="noStrike">
              <a:solidFill>
                <a:srgbClr val="000000"/>
              </a:solidFill>
              <a:latin typeface="Arial"/>
            </a:endParaRPr>
          </a:p>
          <a:p>
            <a:pPr marL="343080" indent="-343080">
              <a:spcBef>
                <a:spcPts val="104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Arial"/>
              </a:rPr>
              <a:t>Interpersonal therapy</a:t>
            </a:r>
            <a:endParaRPr b="1" lang="en-US" sz="42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ff"/>
                </a:solidFill>
                <a:latin typeface="Arial"/>
              </a:rPr>
              <a:t>Behavior Therapy</a:t>
            </a:r>
            <a:endParaRPr b="1"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marL="343080" indent="-343080">
              <a:spcBef>
                <a:spcPts val="8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Primary goal is to increase the frequency of pleasant activities in the patient’s life</a:t>
            </a:r>
            <a:endParaRPr b="1" lang="en-US" sz="3400" spc="-1" strike="noStrike">
              <a:solidFill>
                <a:srgbClr val="000000"/>
              </a:solidFill>
              <a:latin typeface="Arial"/>
            </a:endParaRPr>
          </a:p>
          <a:p>
            <a:pPr marL="343080" indent="-343080">
              <a:spcBef>
                <a:spcPts val="8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Found to be significantly better than psychotherapy, relaxation therapy, and medication</a:t>
            </a:r>
            <a:endParaRPr b="1" lang="en-US" sz="3400" spc="-1" strike="noStrike">
              <a:solidFill>
                <a:srgbClr val="000000"/>
              </a:solidFill>
              <a:latin typeface="Arial"/>
            </a:endParaRPr>
          </a:p>
          <a:p>
            <a:pPr marL="343080" indent="-343080">
              <a:spcBef>
                <a:spcPts val="8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33"/>
                </a:solidFill>
                <a:latin typeface="Arial"/>
              </a:rPr>
              <a:t>An efficacious, but not uniquely effective, acute treatment for MDD</a:t>
            </a:r>
            <a:r>
              <a:rPr b="1" lang="en-US" sz="3400" spc="-1" strike="noStrike">
                <a:solidFill>
                  <a:srgbClr val="000000"/>
                </a:solidFill>
                <a:latin typeface="Arial"/>
              </a:rPr>
              <a:t> </a:t>
            </a:r>
            <a:endParaRPr b="1" lang="en-US" sz="34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ognitive Therapy</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Most widely studied psychotherapy for MDD</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reatment is based on the model that the cognitions of depressed individuals are negatively biased.  Negative beliefs about the self, the world, and the future.  </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ypically 16-20 sessions over a period of 12-16 weeks</a:t>
            </a:r>
            <a:endParaRPr b="1" lang="en-US" sz="32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nvolves both behavioral and cognitive technique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Behavioral techniques serve to help patients engage in activities that give them pleasure,    while cognitive techniques are used to evaluate the veracity of their belief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n efficacious acute-phase treatment for MDD</a:t>
            </a:r>
            <a:endParaRPr b="1"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ff"/>
                </a:solidFill>
                <a:latin typeface="Arial"/>
              </a:rPr>
              <a:t>Diagnosis</a:t>
            </a:r>
            <a:endParaRPr b="0" lang="en-US" sz="3800" spc="-1" strike="noStrike">
              <a:solidFill>
                <a:srgbClr val="000000"/>
              </a:solidFill>
              <a:latin typeface="Impact"/>
            </a:endParaRPr>
          </a:p>
        </p:txBody>
      </p:sp>
      <p:sp>
        <p:nvSpPr>
          <p:cNvPr id="88" name="PlaceHolder 2"/>
          <p:cNvSpPr>
            <a:spLocks noGrp="1"/>
          </p:cNvSpPr>
          <p:nvPr>
            <p:ph/>
          </p:nvPr>
        </p:nvSpPr>
        <p:spPr>
          <a:xfrm>
            <a:off x="151920" y="990720"/>
            <a:ext cx="8610840" cy="5867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3333cc"/>
                </a:solidFill>
                <a:latin typeface="Arial"/>
              </a:rPr>
              <a:t>5 or more of the following symptoms must be present nearly every day during the same 2-week period to diagnose an adolescent with MDD</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pressed or irritable mood most of the day</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Markedly diminished interest or pleasure in almost   all activities, most of the day</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ignificant weight loss or gain, or change in appetite; failure to gain expected weight</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leep disturbance</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 </a:t>
            </a:r>
            <a:r>
              <a:rPr b="1" lang="en-US" sz="3000" spc="-1" strike="noStrike">
                <a:solidFill>
                  <a:srgbClr val="3333cc"/>
                </a:solidFill>
                <a:latin typeface="Arial"/>
              </a:rPr>
              <a:t>Psychomotor agitation or retardation</a:t>
            </a:r>
            <a:endParaRPr b="1" lang="en-US" sz="30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nterpersonal Therapy</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Depression is usually triggered by problems in four interpersonal domains: role transition, grief, interpersonal deficits, and interpersonal disputes.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In IPT, the interpersonal problem that triggered the current depressive episode is addressed and the person is helped to build communication and interaction skills to resolve it.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acute phase of IPT typically lasts for 16-20 sessions.</a:t>
            </a:r>
            <a:endParaRPr b="1"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sychopharmacological Treatment for MDD</a:t>
            </a:r>
            <a:endParaRPr b="1"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onotherapy</a:t>
            </a:r>
            <a:endParaRPr b="1" lang="en-US" sz="3200" spc="-1" strike="noStrike">
              <a:solidFill>
                <a:srgbClr val="000000"/>
              </a:solidFill>
              <a:latin typeface="Arial"/>
            </a:endParaRPr>
          </a:p>
          <a:p>
            <a:pPr lvl="1" marL="743040" indent="-28584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Bupropion- blocks noradrenergic and dopamine reuptake.</a:t>
            </a:r>
            <a:endParaRPr b="1" lang="en-US" sz="3200" spc="-1" strike="noStrike">
              <a:solidFill>
                <a:srgbClr val="000000"/>
              </a:solidFill>
              <a:latin typeface="Arial"/>
            </a:endParaRPr>
          </a:p>
          <a:p>
            <a:pPr lvl="2" marL="1143000" indent="-228600">
              <a:spcBef>
                <a:spcPts val="799"/>
              </a:spcBef>
              <a:buClr>
                <a:srgbClr val="33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ide effects: nausea, insomnia, increased anxiety, restlessness, increased incidence of seizures.  No weight gain or sexual dysfunction.</a:t>
            </a:r>
            <a:endParaRPr b="1" lang="en-US" sz="32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SRIs (Prozac, Zoloft, Luvox, Celexa, Lexapro and Paxil)</a:t>
            </a:r>
            <a:endParaRPr b="1" lang="en-US" sz="2800" spc="-1" strike="noStrike">
              <a:solidFill>
                <a:srgbClr val="000000"/>
              </a:solidFill>
              <a:latin typeface="Arial"/>
            </a:endParaRPr>
          </a:p>
          <a:p>
            <a:pPr lvl="2" marL="1143000" indent="-22860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ke the most of the serotonin the body is producing at this time</a:t>
            </a:r>
            <a:endParaRPr b="1" lang="en-US" sz="2800" spc="-1" strike="noStrike">
              <a:solidFill>
                <a:srgbClr val="000000"/>
              </a:solidFill>
              <a:latin typeface="Arial"/>
            </a:endParaRPr>
          </a:p>
          <a:p>
            <a:pPr lvl="2" marL="1143000" indent="-22860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neurotransmitter (serotonin) lingers longer on the neuron receptors, giving it more of a chance to effectively complete the message it needed to send.</a:t>
            </a:r>
            <a:endParaRPr b="1" lang="en-US" sz="2800" spc="-1" strike="noStrike">
              <a:solidFill>
                <a:srgbClr val="000000"/>
              </a:solidFill>
              <a:latin typeface="Arial"/>
            </a:endParaRPr>
          </a:p>
          <a:p>
            <a:pPr lvl="2" marL="1143000" indent="-22860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arely associated with fatalities and given its safety profile provides an easy treatment option for the clinician.</a:t>
            </a:r>
            <a:endParaRPr b="1" lang="en-US" sz="2800" spc="-1" strike="noStrike">
              <a:solidFill>
                <a:srgbClr val="000000"/>
              </a:solidFill>
              <a:latin typeface="Arial"/>
            </a:endParaRPr>
          </a:p>
          <a:p>
            <a:pPr lvl="2" marL="1143000" indent="-22860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ide effects: headaches, nausea, dry mouth, insomnia, nervousness, sexual dysfunction, diarrhea, tiredness, and agitation</a:t>
            </a:r>
            <a:endParaRPr b="1"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DA issued an advisory to physicians that the use of antidepressant may lead to suicidal thinking or attempts in depressed youth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DA requested that a warning be added to the product label of these antidepressants</a:t>
            </a:r>
            <a:endParaRPr b="1" lang="en-US" sz="28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Antidepressant medications were not originally developed with children and adolescents in mind (nor were they tested on this population)</a:t>
            </a:r>
            <a:endParaRPr b="1" lang="en-US" sz="3000" spc="-1" strike="noStrike">
              <a:solidFill>
                <a:srgbClr val="000000"/>
              </a:solidFill>
              <a:latin typeface="Arial"/>
            </a:endParaRPr>
          </a:p>
          <a:p>
            <a:pPr marL="339480" indent="-33948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In addition to relieving symptoms of depression, antidepressants may also be prescribed for treating kids who grapple with other issues.</a:t>
            </a:r>
            <a:endParaRPr b="1" lang="en-US" sz="30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Phobias (often-school related)</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Anxiety</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Panic attacks</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Eating disorders</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ADHD</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Bedwetting</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OCD</a:t>
            </a:r>
            <a:endParaRPr b="1" lang="en-US" sz="2400" spc="-1" strike="noStrike">
              <a:solidFill>
                <a:srgbClr val="000000"/>
              </a:solidFill>
              <a:latin typeface="Arial"/>
            </a:endParaRPr>
          </a:p>
          <a:p>
            <a:pPr lvl="2" marL="1131480" indent="-22608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Post-traumatic stress disorder</a:t>
            </a:r>
            <a:endParaRPr b="1" lang="en-US" sz="24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Dosage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Need to remember that the brains and bodies of children and teenagers are still growing and developing</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Because bodies are often smaller than adults, the concentration of any medication in their systems is much greater</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ay lead to amplified side effects that are more intense than those found in adults if great care is not exercised</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areful Monitoring</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onitoring and follow-up is critical</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Each medication has the potential to react differently in each child</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ay take weeks before you see any noticeable improvement in mood</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Maintain careful communications with doctor</a:t>
            </a:r>
            <a:endParaRPr b="1" lang="en-US" sz="32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Pharmacotherapy for Bipolar Disorder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ood Stabilizers</a:t>
            </a:r>
            <a:endParaRPr b="1"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ithium</a:t>
            </a:r>
            <a:endParaRPr b="1" lang="en-US" sz="2800" spc="-1" strike="noStrike">
              <a:solidFill>
                <a:srgbClr val="000000"/>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de effects: tremor, diarrhea, weight gain, increased urinary frequency, and gastrointestinal distress</a:t>
            </a:r>
            <a:endParaRPr b="1" lang="en-US" sz="24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aloproex and Carbamazepine</a:t>
            </a:r>
            <a:endParaRPr b="1"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motrigine</a:t>
            </a:r>
            <a:endParaRPr b="1" lang="en-US" sz="28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ntidepressants- should only be used with in combination with a mood stabilizer for the treatment of bipolar disorder</a:t>
            </a:r>
            <a:endParaRPr b="1"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Prevention of Depression and Bipolar Disorder</a:t>
            </a:r>
            <a:endParaRPr b="1" lang="en-US" sz="40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term prevention refers only to interventions that occur before the initial onset of a disorder</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Efforts to identify cases and provide care for known disorders is called treatment</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Efforts to provide rehabilitation and reduce relapse and reoccurrence of a disorder were called maintenance/intervention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Universal mental health prevention interventions are defined as efforts that are beneficial to a whole population or group.</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y are targeted to the general public or a whole population group that has not been designated or identified as being at risk for the disorder being prevented.</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goal at this level of prevention is the reduction of the occurrence of new cases of the disorder.  </a:t>
            </a:r>
            <a:endParaRPr b="1"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2280" y="304920"/>
            <a:ext cx="883944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28600" y="228600"/>
            <a:ext cx="876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80880" y="1905120"/>
            <a:ext cx="876312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r>
              <a:rPr b="0" lang="en-US" sz="3600" spc="-1" strike="noStrike">
                <a:solidFill>
                  <a:srgbClr val="ff00ff"/>
                </a:solidFill>
                <a:latin typeface="Arial"/>
              </a:rPr>
              <a:t>Fatigue or loss of energy</a:t>
            </a:r>
            <a:endParaRPr b="0" lang="en-US" sz="3600" spc="-1" strike="noStrike">
              <a:solidFill>
                <a:srgbClr val="000000"/>
              </a:solidFill>
              <a:latin typeface="Arial"/>
            </a:endParaRPr>
          </a:p>
          <a:p>
            <a:pPr>
              <a:spcBef>
                <a:spcPts val="22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r>
              <a:rPr b="0" lang="en-US" sz="3600" spc="-1" strike="noStrike">
                <a:solidFill>
                  <a:srgbClr val="ff00ff"/>
                </a:solidFill>
                <a:latin typeface="Arial"/>
              </a:rPr>
              <a:t>Feelings of inappropriate guilt or hopelessness</a:t>
            </a:r>
            <a:endParaRPr b="0" lang="en-US" sz="3600" spc="-1" strike="noStrike">
              <a:solidFill>
                <a:srgbClr val="000000"/>
              </a:solidFill>
              <a:latin typeface="Arial"/>
            </a:endParaRPr>
          </a:p>
          <a:p>
            <a:pPr>
              <a:spcBef>
                <a:spcPts val="22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r>
              <a:rPr b="0" lang="en-US" sz="3600" spc="-1" strike="noStrike">
                <a:solidFill>
                  <a:srgbClr val="ff00ff"/>
                </a:solidFill>
                <a:latin typeface="Arial"/>
              </a:rPr>
              <a:t>Indecisiveness or diminished ability to concentrate</a:t>
            </a:r>
            <a:endParaRPr b="0" lang="en-US" sz="3600" spc="-1" strike="noStrike">
              <a:solidFill>
                <a:srgbClr val="000000"/>
              </a:solidFill>
              <a:latin typeface="Arial"/>
            </a:endParaRPr>
          </a:p>
          <a:p>
            <a:pPr>
              <a:spcBef>
                <a:spcPts val="22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r>
              <a:rPr b="0" lang="en-US" sz="3600" spc="-1" strike="noStrike">
                <a:solidFill>
                  <a:srgbClr val="ff00ff"/>
                </a:solidFill>
                <a:latin typeface="Arial"/>
              </a:rPr>
              <a:t>Recurrent thoughts of death or suicidal ideation, suicide attempt.</a:t>
            </a:r>
            <a:endParaRPr b="0" lang="en-US" sz="3600" spc="-1" strike="noStrike">
              <a:solidFill>
                <a:srgbClr val="000000"/>
              </a:solidFill>
              <a:latin typeface="Arial"/>
            </a:endParaRPr>
          </a:p>
        </p:txBody>
      </p:sp>
      <p:sp>
        <p:nvSpPr>
          <p:cNvPr id="92" name=""/>
          <p:cNvSpPr/>
          <p:nvPr/>
        </p:nvSpPr>
        <p:spPr>
          <a:xfrm>
            <a:off x="841680" y="762120"/>
            <a:ext cx="438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Diagnosis – con’t</a:t>
            </a:r>
            <a:endParaRPr b="0" lang="en-US" sz="40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elective mental health prevention interventions are defined as those efforts that target individuals or a subgroup of the population whose risk for developing the mental health disorder is significantly higher than average.</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ndicated prevention interventions are defined as those efforts that target high-risk individuals who are identified as having minimal but detectable signs or symptoms that predict the mental disorder or biological markers indicating predisposition to the disorder.</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IOM identified three aims or desired outcomes for mental health prevention:</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duction in the number of new cases of the disorder</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lay in the onset of illness</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duction in the length of time the early symptoms continue as well as halting the progression of severity so that individuals ultimately do not meet diagnostic criteria.</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Goals of prevention programs:</a:t>
            </a:r>
            <a:endParaRPr b="1" lang="en-US" sz="32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o extend the lives of individuals who were at risk but did not develop the disorder by reducing both the risk of suicide completion and the behavioral and biological sequalae of the disorder.</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o teach resiliency to the program participants</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o develop skills and abilities to spring back from or adapt to adversity</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o enhance and enrich the positive aspects of living so individuals who otherwise might have a marginally happy life may have the opportunity to develop greater self-efficacy and live a more successful and adaptive live</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Emotional intelligence may also be enhanced by successful preventive programs.</a:t>
            </a:r>
            <a:endParaRPr b="1" lang="en-US" sz="2400" spc="-1" strike="noStrike">
              <a:solidFill>
                <a:srgbClr val="000000"/>
              </a:solidFill>
              <a:latin typeface="Arial"/>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ff"/>
                </a:solidFill>
                <a:latin typeface="Arial"/>
              </a:rPr>
              <a:t>Prevention programs for adolescents</a:t>
            </a:r>
            <a:endParaRPr b="1"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reventative strategies are based primarily on cognitive behavioral and family-educational approaches that seek to reduce risk factors and enhance protective and resiliency factors associated with depression in youth. </a:t>
            </a:r>
            <a:endParaRPr b="1" lang="en-US" sz="3200" spc="-1" strike="noStrike">
              <a:solidFill>
                <a:srgbClr val="000000"/>
              </a:solidFill>
              <a:latin typeface="Arial"/>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IOM suggested that prevention development and evaluation proceed through 5 stages.</a:t>
            </a:r>
            <a:endParaRPr b="1" lang="en-US" sz="3000" spc="-1" strike="noStrike">
              <a:solidFill>
                <a:srgbClr val="000000"/>
              </a:solidFill>
              <a:latin typeface="Arial"/>
            </a:endParaRPr>
          </a:p>
          <a:p>
            <a:pPr lvl="1" marL="727920" indent="-280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First and second stages are identifying risk factors and describing the relative contributions of different factors to the disorder.</a:t>
            </a:r>
            <a:endParaRPr b="1" lang="en-US" sz="2800" spc="-1" strike="noStrike">
              <a:solidFill>
                <a:srgbClr val="000000"/>
              </a:solidFill>
              <a:latin typeface="Arial"/>
            </a:endParaRPr>
          </a:p>
          <a:p>
            <a:pPr lvl="1" marL="727920" indent="-280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third stage is applying strategies developed in pilot studies and completing efficacy trials to evaluate the overall effectiveness of these approaches.</a:t>
            </a:r>
            <a:endParaRPr b="1" lang="en-US" sz="2800" spc="-1" strike="noStrike">
              <a:solidFill>
                <a:srgbClr val="000000"/>
              </a:solidFill>
              <a:latin typeface="Arial"/>
            </a:endParaRPr>
          </a:p>
          <a:p>
            <a:pPr lvl="1" marL="727920" indent="-280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fourth stage involves the examination of such strategies in multiple sites in large-scale investigations under non-ideal, real-world conditions.</a:t>
            </a:r>
            <a:endParaRPr b="1" lang="en-US" sz="2800" spc="-1" strike="noStrike">
              <a:solidFill>
                <a:srgbClr val="000000"/>
              </a:solidFill>
              <a:latin typeface="Arial"/>
            </a:endParaRPr>
          </a:p>
          <a:p>
            <a:pPr lvl="1" marL="727920" indent="-280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The final stage consists of implementing such strategies in large-scale public health campaigns.</a:t>
            </a:r>
            <a:endParaRPr b="1" lang="en-US" sz="2800" spc="-1" strike="noStrike">
              <a:solidFill>
                <a:srgbClr val="000000"/>
              </a:solidFill>
              <a:latin typeface="Arial"/>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Penn Prevention Program</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eligman and colleagues developed and evaluated a school-based “indicated” prevention program treating 10-13 year olds in districts in the Philadelphia suburbs.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youth were defined as at risk for depression.</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articipants were assigned to one of three treatment programs:</a:t>
            </a:r>
            <a:endParaRPr b="1" lang="en-US" sz="32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 cognitive training program</a:t>
            </a:r>
            <a:endParaRPr b="1"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 social problem-solving program</a:t>
            </a:r>
            <a:endParaRPr b="1"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 combined program </a:t>
            </a:r>
            <a:endParaRPr b="1" lang="en-US" sz="2800" spc="-1" strike="noStrike">
              <a:solidFill>
                <a:srgbClr val="000000"/>
              </a:solidFill>
              <a:latin typeface="Arial"/>
            </a:endParaRPr>
          </a:p>
        </p:txBody>
      </p:sp>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Results indicated that children who participated in any of the treatment groups reported significantly fewer depressive symptoms immediately following the program and at the 6- month and 2-year follow-ups but not at the 12- month and 3-year follow-up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eacher reports revealed better classroom behavior in treatment participants.</a:t>
            </a:r>
            <a:endParaRPr b="1" lang="en-US" sz="3200" spc="-1" strike="noStrike">
              <a:solidFill>
                <a:srgbClr val="000000"/>
              </a:solidFill>
              <a:latin typeface="Arial"/>
            </a:endParaRPr>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Clarke and Colleagues</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Among the first to study prevention of MDD among adolescents.</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Study included 150 students from 9</a:t>
            </a:r>
            <a:r>
              <a:rPr b="1" lang="en-US" sz="3000" spc="-1" strike="noStrike" baseline="30000">
                <a:solidFill>
                  <a:srgbClr val="333333"/>
                </a:solidFill>
                <a:latin typeface="Arial"/>
              </a:rPr>
              <a:t>th</a:t>
            </a:r>
            <a:r>
              <a:rPr b="1" lang="en-US" sz="3000" spc="-1" strike="noStrike">
                <a:solidFill>
                  <a:srgbClr val="333333"/>
                </a:solidFill>
                <a:latin typeface="Arial"/>
              </a:rPr>
              <a:t>-10</a:t>
            </a:r>
            <a:r>
              <a:rPr b="1" lang="en-US" sz="3000" spc="-1" strike="noStrike" baseline="30000">
                <a:solidFill>
                  <a:srgbClr val="333333"/>
                </a:solidFill>
                <a:latin typeface="Arial"/>
              </a:rPr>
              <a:t>th</a:t>
            </a:r>
            <a:r>
              <a:rPr b="1" lang="en-US" sz="3000" spc="-1" strike="noStrike">
                <a:solidFill>
                  <a:srgbClr val="333333"/>
                </a:solidFill>
                <a:latin typeface="Arial"/>
              </a:rPr>
              <a:t> grade</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Assigned randomly to either a “prevention” or “usual-care” group.</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e prevention program entitled “Adolescent Coping with Stress Course” was delivered in groups.</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e 5-week intervention was conducted within the adolescents’ school setting and comprised fifteen 45-minute group sessions.</a:t>
            </a:r>
            <a:endParaRPr b="1" lang="en-US" sz="30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usual-care” youngsters were free to continue with preexisting treatment or seek new treatment.  </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is program employed both behavioral and cognitive coping techniques designed to reduce vulnerability to future depressive episode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Participants were followed for 1 year and the results were positive.  </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major strengths of this program include random assignment of subjects, adequate sample sizes, diagnoses of clinical mood disorders and encouraging outcomes.</a:t>
            </a:r>
            <a:endParaRPr b="1" lang="en-US" sz="32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Beardslee and Associates</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revention program were designed to be public health interventions and useful to all families in which a parent is depressed.</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rograms are to be sued by a range of health practitioners, including internists, pediatricians, school counselors, and nurses, as well as by mental health practitioners such as child psychiatrists, child psychologists, and family therapists.  </a:t>
            </a:r>
            <a:endParaRPr b="1"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is approach includes a strong emphasis on treatment because so much depression is undiagnosed and untreated.</a:t>
            </a:r>
            <a:endParaRPr b="1"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04920" y="228600"/>
            <a:ext cx="8610480" cy="5852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99"/>
                </a:solidFill>
                <a:latin typeface="Arial"/>
              </a:rPr>
              <a:t> </a:t>
            </a:r>
            <a:r>
              <a:rPr b="0" lang="en-US" sz="3000" spc="-1" strike="noStrike">
                <a:solidFill>
                  <a:srgbClr val="00cc99"/>
                </a:solidFill>
                <a:latin typeface="Arial"/>
              </a:rPr>
              <a:t>At least one of the following two symptoms must be present: depressed or irritable mood, or markedly diminished interest or pleasure in almost all activities.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99"/>
                </a:solidFill>
                <a:latin typeface="Arial"/>
              </a:rPr>
              <a:t> </a:t>
            </a:r>
            <a:endParaRPr b="0" lang="en-US" sz="3000" spc="-1" strike="noStrike">
              <a:solidFill>
                <a:srgbClr val="000000"/>
              </a:solidFill>
              <a:latin typeface="Arial"/>
            </a:endParaRPr>
          </a:p>
          <a:p>
            <a:pPr>
              <a:spcBef>
                <a:spcPts val="1874"/>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99"/>
                </a:solidFill>
                <a:latin typeface="Arial"/>
              </a:rPr>
              <a:t>MDD can be rated as mild, moderate, severe. </a:t>
            </a:r>
            <a:endParaRPr b="0" lang="en-US" sz="3000" spc="-1" strike="noStrike">
              <a:solidFill>
                <a:srgbClr val="000000"/>
              </a:solidFill>
              <a:latin typeface="Arial"/>
            </a:endParaRPr>
          </a:p>
          <a:p>
            <a:pPr>
              <a:spcBef>
                <a:spcPts val="1874"/>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99"/>
                </a:solidFill>
                <a:latin typeface="Arial"/>
              </a:rPr>
              <a:t> </a:t>
            </a:r>
            <a:r>
              <a:rPr b="0" lang="en-US" sz="3000" spc="-1" strike="noStrike">
                <a:solidFill>
                  <a:srgbClr val="00cc99"/>
                </a:solidFill>
                <a:latin typeface="Arial"/>
              </a:rPr>
              <a:t>Diagnosed s chronic when episodes last more than 2 years.</a:t>
            </a:r>
            <a:endParaRPr b="0" lang="en-US" sz="3000" spc="-1" strike="noStrike">
              <a:solidFill>
                <a:srgbClr val="000000"/>
              </a:solidFill>
              <a:latin typeface="Arial"/>
            </a:endParaRPr>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   </a:t>
            </a:r>
            <a:r>
              <a:rPr b="1" lang="en-US" sz="3000" spc="-1" strike="noStrike">
                <a:solidFill>
                  <a:srgbClr val="333333"/>
                </a:solidFill>
                <a:latin typeface="Arial"/>
              </a:rPr>
              <a:t>3 characteristics that described resilient children of depressed parents.</a:t>
            </a:r>
            <a:endParaRPr b="1" lang="en-US" sz="3000" spc="-1" strike="noStrike">
              <a:solidFill>
                <a:srgbClr val="000000"/>
              </a:solidFill>
              <a:latin typeface="Arial"/>
            </a:endParaRPr>
          </a:p>
          <a:p>
            <a:pPr marL="343080" indent="-343080">
              <a:lnSpc>
                <a:spcPct val="9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Support for activities and accomplishment of developmental tasks outside of the home</a:t>
            </a:r>
            <a:endParaRPr b="1" lang="en-US" sz="3000" spc="-1" strike="noStrike">
              <a:solidFill>
                <a:srgbClr val="000000"/>
              </a:solidFill>
              <a:latin typeface="Arial"/>
            </a:endParaRPr>
          </a:p>
          <a:p>
            <a:pPr marL="343080" indent="-343080">
              <a:lnSpc>
                <a:spcPct val="9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A deep involvement in human relationships</a:t>
            </a:r>
            <a:endParaRPr b="1" lang="en-US" sz="3000" spc="-1" strike="noStrike">
              <a:solidFill>
                <a:srgbClr val="000000"/>
              </a:solidFill>
              <a:latin typeface="Arial"/>
            </a:endParaRPr>
          </a:p>
          <a:p>
            <a:pPr marL="343080" indent="-343080">
              <a:lnSpc>
                <a:spcPct val="9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e capacity for self-reflection and self-understanding, in particular, in relationship to the parent’s disorder.</a:t>
            </a:r>
            <a:endParaRPr b="1"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   </a:t>
            </a:r>
            <a:r>
              <a:rPr b="1" lang="en-US" sz="3200" spc="-1" strike="noStrike">
                <a:solidFill>
                  <a:srgbClr val="3333cc"/>
                </a:solidFill>
                <a:latin typeface="Arial"/>
              </a:rPr>
              <a:t>Resilient youth repeatedly said that understanding that their parent was ill, that the disorder had a name, and that they were not to blame for it contributed substantially to their doing well.  This, then, became a central part of the preventive interven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Families believe that these programs are helpful.  Of the first 20 families enrolled, promising effects were observed 6 months after intervention and a further follow-up report showed sustained effects over 3 year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Arial"/>
              </a:rPr>
              <a:t>Youth Suicide</a:t>
            </a:r>
            <a:endParaRPr b="1" lang="en-US" sz="80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Fifty years ago suicide among young people aged 15-24 was a relatively infrequent event and suicides in this age group constituted less than 5% of all suicides in the U.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Between the mid-1950s and the late 1970s, the rate of suicide rose markedly among this age group.</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is increase was observed most dramatically among young males, whose suicide rates more than tripled between 1955-1977.</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mong females ages 15-24, the suicide rate more than doubled during this same period.</a:t>
            </a:r>
            <a:endParaRPr b="1" lang="en-US" sz="32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By 1980, suicides by 15-24 year olds constituted almost 17% of the approximately 30,000 suicides in the U.S.</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1980-1990 suicide rates continued to rise</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1994- reached a peak rate of 13.6 suicides per 100,000.</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Began to decline decreasing to 9.9 per 100,000 by 2002 a drop of over 27%.</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uicide before the age of 12 is rare, but increases with every year past puberty.</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n 2002, 20-24 year olds had a suicide rate of 12.3 per 100,000 compared to the rate of 7.4 among 15-19 year old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4,010 suicides in 2002 </a:t>
            </a:r>
            <a:endParaRPr b="1" lang="en-US" sz="3200" spc="-1" strike="noStrike">
              <a:solidFill>
                <a:srgbClr val="000000"/>
              </a:solidFill>
              <a:latin typeface="Arial"/>
            </a:endParaRPr>
          </a:p>
          <a:p>
            <a:pPr lvl="1" marL="743040" indent="-28584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1,513 between the ages of 15-19</a:t>
            </a:r>
            <a:endParaRPr b="1" lang="en-US" sz="2800" spc="-1" strike="noStrike">
              <a:solidFill>
                <a:srgbClr val="000000"/>
              </a:solidFill>
              <a:latin typeface="Arial"/>
            </a:endParaRPr>
          </a:p>
          <a:p>
            <a:pPr lvl="1" marL="743040" indent="-28584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2,497 between the ages of 20-24 </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uicide is the 3</a:t>
            </a:r>
            <a:r>
              <a:rPr b="1" lang="en-US" sz="3200" spc="-1" strike="noStrike" baseline="30000">
                <a:solidFill>
                  <a:srgbClr val="333333"/>
                </a:solidFill>
                <a:latin typeface="Arial"/>
              </a:rPr>
              <a:t>rd</a:t>
            </a:r>
            <a:r>
              <a:rPr b="1" lang="en-US" sz="3200" spc="-1" strike="noStrike">
                <a:solidFill>
                  <a:srgbClr val="333333"/>
                </a:solidFill>
                <a:latin typeface="Arial"/>
              </a:rPr>
              <a:t> leading cause of death among youth; only accidents and homicide claim more young live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Among college students specifically, suicide is the 2</a:t>
            </a:r>
            <a:r>
              <a:rPr b="1" lang="en-US" sz="3200" spc="-1" strike="noStrike" baseline="30000">
                <a:solidFill>
                  <a:srgbClr val="333333"/>
                </a:solidFill>
                <a:latin typeface="Arial"/>
              </a:rPr>
              <a:t>nd</a:t>
            </a:r>
            <a:r>
              <a:rPr b="1" lang="en-US" sz="3200" spc="-1" strike="noStrike">
                <a:solidFill>
                  <a:srgbClr val="333333"/>
                </a:solidFill>
                <a:latin typeface="Arial"/>
              </a:rPr>
              <a:t> leading cause of death, surpassed only by accidental injur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crease of youth suicide due to:</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crease in the rate of depression since the 1950s</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creased availability of firearms</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iminishing cohesion of the family observed since WWII has been blamed for a wide range of youth problems behaviors, including both drug abuse and suicide.</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Greater freedom in sexual behavior since the 1960s as well as changes in the expectations that young men and women had for themselves and for their relationships</a:t>
            </a:r>
            <a:endParaRPr b="1" lang="en-US" sz="32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crease of youth suicide is due to:</a:t>
            </a:r>
            <a:endParaRPr b="1" lang="en-US" sz="32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Efforts to restrict firearms availability among youth.  The proportion of suicides that involve firearms has decreased somewhat in recent years, although firearms are still used in about 60% of all suicide deaths.</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Increased use of antidepressant medication in treating young depressed people.</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Improved economic conditions in the 1990s have been credited for the recent decline, just as they were blamed for the high national rates during the depression of the 1930s.</a:t>
            </a:r>
            <a:endParaRPr b="1" lang="en-US" sz="3000" spc="-1" strike="noStrike">
              <a:solidFill>
                <a:srgbClr val="000000"/>
              </a:solidFill>
              <a:latin typeface="Arial"/>
            </a:endParaRPr>
          </a:p>
        </p:txBody>
      </p:sp>
    </p:spTree>
  </p:cSld>
  <p:transition>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most current YRBS data indicate that 8.5% of U.S. high school youth surveyed (5.4% of males and 11.5% of females) made one or more suicide attempts in the prior 12-month period; 2.9 percent (2.4% of males and 3.2% of females) required medical attention as a result of suicide attempt</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Youth who are not currently attending school have been found to be at higher risk for suicide attempts and suicide deaths than those who are in school.</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28600" y="533520"/>
            <a:ext cx="8686800" cy="6032880"/>
          </a:xfrm>
          <a:prstGeom prst="rect">
            <a:avLst/>
          </a:prstGeom>
          <a:noFill/>
          <a:ln w="0">
            <a:noFill/>
          </a:ln>
        </p:spPr>
        <p:style>
          <a:lnRef idx="0"/>
          <a:fillRef idx="0"/>
          <a:effectRef idx="0"/>
          <a:fontRef idx="minor"/>
        </p:style>
        <p:txBody>
          <a:bodyPr lIns="90000" rIns="90000" tIns="46800" bIns="46800" anchor="t">
            <a:spAutoFit/>
          </a:bodyPr>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ff"/>
                </a:solidFill>
                <a:latin typeface="Arial"/>
              </a:rPr>
              <a:t> </a:t>
            </a:r>
            <a:r>
              <a:rPr b="0" lang="en-US" sz="3000" spc="-1" strike="noStrike">
                <a:solidFill>
                  <a:srgbClr val="9966ff"/>
                </a:solidFill>
                <a:latin typeface="Arial"/>
              </a:rPr>
              <a:t>An undetected diagnosis in adolescents is </a:t>
            </a:r>
            <a:r>
              <a:rPr b="1" lang="en-US" sz="3000" spc="-1" strike="noStrike">
                <a:solidFill>
                  <a:srgbClr val="9966ff"/>
                </a:solidFill>
                <a:latin typeface="Arial"/>
              </a:rPr>
              <a:t>dysthymia</a:t>
            </a:r>
            <a:r>
              <a:rPr b="0" lang="en-US" sz="3000" spc="-1" strike="noStrike">
                <a:solidFill>
                  <a:srgbClr val="9966ff"/>
                </a:solidFill>
                <a:latin typeface="Arial"/>
              </a:rPr>
              <a:t>- depressed or irritable mood that must be present for a year or longer and never be symptom free for more than 2 months.  </a:t>
            </a:r>
            <a:endParaRPr b="0" lang="en-US" sz="30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ff"/>
                </a:solidFill>
                <a:latin typeface="Arial"/>
              </a:rPr>
              <a:t> </a:t>
            </a:r>
            <a:r>
              <a:rPr b="0" lang="en-US" sz="3000" spc="-1" strike="noStrike">
                <a:solidFill>
                  <a:srgbClr val="9966ff"/>
                </a:solidFill>
                <a:latin typeface="Arial"/>
              </a:rPr>
              <a:t>2 or more symptoms must be present: change in appetite, change in sleep, decrease in energy, low self-esteem, difficulty making decisions or poor concentration, feelings of hopelessnes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ff"/>
                </a:solidFill>
                <a:latin typeface="Arial"/>
              </a:rPr>
              <a:t> </a:t>
            </a:r>
            <a:r>
              <a:rPr b="0" lang="en-US" sz="3000" spc="-1" strike="noStrike">
                <a:solidFill>
                  <a:srgbClr val="9966ff"/>
                </a:solidFill>
                <a:latin typeface="Arial"/>
              </a:rPr>
              <a:t>Adolescents with dysthymic disorder and who develop a major depressive episode are considered to have a “double depression”</a:t>
            </a:r>
            <a:endParaRPr b="0" lang="en-US" sz="3000" spc="-1" strike="noStrike">
              <a:solidFill>
                <a:srgbClr val="000000"/>
              </a:solidFill>
              <a:latin typeface="Arial"/>
            </a:endParaRPr>
          </a:p>
        </p:txBody>
      </p:sp>
    </p:spTree>
  </p:cSld>
  <p:transition>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mong young people ages 15-24, males die by suicide almost six times more frequently than females. </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 2002, the suicide rate among young men ages 15-24 was 16.4% per 100,000 and the rate among young women was 2.9%.</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lthough young males die by suicide more often than females, females report suicidal ideation and attempts more often than males.</a:t>
            </a:r>
            <a:endParaRPr b="1" lang="en-US" sz="3200" spc="-1" strike="noStrike">
              <a:solidFill>
                <a:srgbClr val="000000"/>
              </a:solidFill>
              <a:latin typeface="Arial"/>
            </a:endParaRPr>
          </a:p>
        </p:txBody>
      </p:sp>
    </p:spTree>
  </p:cSld>
  <p:transition>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600" spc="-1" strike="noStrike">
                <a:solidFill>
                  <a:srgbClr val="3333cc"/>
                </a:solidFill>
                <a:latin typeface="Arial"/>
              </a:rPr>
              <a:t>In 2002, white youth had a suicidal rate of 10.6 per 100,000 compared to rates of 6.5 for African Americans, 6.6 for Hispanic youth, 5.3 for Asian Americans/Pacific Islanders, and 17.9 for American Indians and Alaskan Natives.</a:t>
            </a:r>
            <a:endParaRPr b="1" lang="en-US" sz="3600" spc="-1" strike="noStrike">
              <a:solidFill>
                <a:srgbClr val="000000"/>
              </a:solidFill>
              <a:latin typeface="Arial"/>
            </a:endParaRPr>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Risk Factor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sychopathology</a:t>
            </a:r>
            <a:endParaRPr b="1"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pression</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rug and alcohol abuse</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ggressive-impulsive behavior</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opelessness</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Pessimism</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onduct Disorder (male)</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Panic Disorder (female)</a:t>
            </a:r>
            <a:endParaRPr b="1" lang="en-US" sz="28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Family and Genetic</a:t>
            </a:r>
            <a:endParaRPr b="1"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amily history of suicidal behavior</a:t>
            </a:r>
            <a:endParaRPr b="1" lang="en-US" sz="28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Parental psychopathology</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Environment</a:t>
            </a:r>
            <a:endParaRPr b="1" lang="en-US" sz="32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Firearm availability</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Diminished family cohesion</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Lack of parental support</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Parent-child conflict</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Negative life events</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Child sex abuse</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Suicidal contagion</a:t>
            </a:r>
            <a:endParaRPr b="1" lang="en-US" sz="28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Biology</a:t>
            </a:r>
            <a:endParaRPr b="1" lang="en-US" sz="32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High 5-HT receptor expression is prefrontal cortex and hippocampus</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Serotonergic dysfunction</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Previous suicidal behavior</a:t>
            </a:r>
            <a:endParaRPr b="1" lang="en-US" sz="4000" spc="-1" strike="noStrike">
              <a:solidFill>
                <a:srgbClr val="000000"/>
              </a:solidFill>
              <a:latin typeface="Arial"/>
            </a:endParaRPr>
          </a:p>
          <a:p>
            <a:pPr lvl="1" marL="743040" indent="-285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icide attempts</a:t>
            </a:r>
            <a:endParaRPr b="1"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34308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exual Orientation</a:t>
            </a:r>
            <a:endParaRPr b="1" lang="en-US" sz="4000" spc="-1" strike="noStrike">
              <a:solidFill>
                <a:srgbClr val="000000"/>
              </a:solidFill>
              <a:latin typeface="Arial"/>
            </a:endParaRPr>
          </a:p>
          <a:p>
            <a:pPr lvl="1" marL="743040" indent="-285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ame-sex sexual orientation</a:t>
            </a:r>
            <a:endParaRPr b="1" lang="en-US" sz="4000" spc="-1" strike="noStrike">
              <a:solidFill>
                <a:srgbClr val="000000"/>
              </a:solidFill>
              <a:latin typeface="Arial"/>
            </a:endParaRPr>
          </a:p>
        </p:txBody>
      </p:sp>
    </p:spTree>
  </p:cSld>
  <p:transition>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Overwhelming evidence that psychopathology is the most significant risk factor for both suicide deaths and suicide attempts among adolescent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One recent analysis suggested that eliminating psychopathology could prevent 78-87% of youth suicides.</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onduct disorder is also prevalent in young males with suicidal behavior, often comorbid with substance disorders and anxiety and mood disorders.</a:t>
            </a:r>
            <a:endParaRPr b="1" lang="en-US" sz="3200" spc="-1" strike="noStrike">
              <a:solidFill>
                <a:srgbClr val="000000"/>
              </a:solidFill>
              <a:latin typeface="Arial"/>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Panic disorder has been found to be related to suicidal behavior, particularly among girl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Some studies have reported a relationship between bipolar disorder and both suicide deaths and suicide attempts among youth.</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Suicide ideation appears to be less directly related to psychopathology than either suicide attempts or suicide death, perhaps because ideation, while occurring with higher frequency, is less persistent and may be fleeting.</a:t>
            </a:r>
            <a:endParaRPr b="1" lang="en-US" sz="3200" spc="-1" strike="noStrike">
              <a:solidFill>
                <a:srgbClr val="000000"/>
              </a:solidFill>
              <a:latin typeface="Arial"/>
            </a:endParaRPr>
          </a:p>
        </p:txBody>
      </p:sp>
    </p:spTree>
  </p:cSld>
  <p:transition>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Aggressive-impulse behavior has an increased association with suicidal behavior, particularly in the context of a mood disorder</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Hopelessness and pessimism are also important factors associated with youth suicidal behavior</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Previous suicide attempts is one of the strongest predictors of both subsequent attempts and suicide deaths.  This relationship is particularly strong among youth with mood disorders.</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risk for future suicidal behavior has been estimated to increase 3-17 times when a previous attempt has occurred. </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number of studies report increased rates of nonlethal suicidal behavior among youth with same-sexual orientation.</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tigmatization, victimization, isolation, and parental rejection have been identified as factors in suicidal behavior among gay, lesbian, and bisexual youth.</a:t>
            </a:r>
            <a:endParaRPr b="1" lang="en-US" sz="3200" spc="-1" strike="noStrike">
              <a:solidFill>
                <a:srgbClr val="000000"/>
              </a:solidFill>
              <a:latin typeface="Arial"/>
            </a:endParaRPr>
          </a:p>
        </p:txBody>
      </p:sp>
    </p:spTree>
  </p:cSld>
  <p:transition>
    <p:fade thruBlk="tru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33"/>
                </a:solidFill>
                <a:latin typeface="Arial"/>
              </a:rPr>
              <a:t>Universal Approaches to Youth Suicide Prevention</a:t>
            </a:r>
            <a:endParaRPr b="1" lang="en-US" sz="6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280" y="228600"/>
            <a:ext cx="8839440" cy="6324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omoribidity</a:t>
            </a:r>
            <a:endParaRPr b="1" lang="en-US" sz="3200" spc="-1" strike="noStrike">
              <a:solidFill>
                <a:srgbClr val="000000"/>
              </a:solidFill>
              <a:latin typeface="Arial"/>
            </a:endParaRPr>
          </a:p>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When depression is tied up with any number of other childhood mental illnesses</a:t>
            </a:r>
            <a:endParaRPr b="1" lang="en-US" sz="2800" spc="-1" strike="noStrike">
              <a:solidFill>
                <a:srgbClr val="000000"/>
              </a:solidFill>
              <a:latin typeface="Arial"/>
            </a:endParaRPr>
          </a:p>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nxiety disorders are the most common, with over 60% of depressed adolescents having a history or a concomitant anxiety disorder.</a:t>
            </a:r>
            <a:endParaRPr b="1" lang="en-US" sz="28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ocial phobia (pathological self-consciousness)</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eparation anxiety disorder (marked by fears about the well-being of the family)</a:t>
            </a:r>
            <a:endParaRPr b="1" lang="en-US" sz="2400" spc="-1" strike="noStrike">
              <a:solidFill>
                <a:srgbClr val="000000"/>
              </a:solidFill>
              <a:latin typeface="Arial"/>
            </a:endParaRPr>
          </a:p>
          <a:p>
            <a:pPr lvl="1" marL="743040" indent="-285840">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Generalized anxiety disorder (a fear of the future and constant worries about one’s performance)</a:t>
            </a:r>
            <a:endParaRPr b="1" lang="en-US" sz="2400" spc="-1" strike="noStrike">
              <a:solidFill>
                <a:srgbClr val="000000"/>
              </a:solidFill>
              <a:latin typeface="Arial"/>
            </a:endParaRPr>
          </a:p>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f those who have both anxiety and depression, research indicates that 85% experience anxiety first.</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fade thruBlk="tru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ultimate goal of all suicide prevention programs is to reduce death by suicide.</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wo broad types of universal prevention programs</a:t>
            </a:r>
            <a:endParaRPr b="1" lang="en-US" sz="32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Educational programs that aim to increase students’ knowledge and awareness about suicidal behavior, encourage troubled students to seek help, and improve recognition of at-risk students by teachers, counselors, and other “gatekeepers” within the school or community setting.</a:t>
            </a:r>
            <a:endParaRPr b="1" lang="en-US" sz="2800" spc="-1" strike="noStrike">
              <a:solidFill>
                <a:srgbClr val="000000"/>
              </a:solidFill>
              <a:latin typeface="Arial"/>
            </a:endParaRPr>
          </a:p>
          <a:p>
            <a:pPr lvl="1" marL="743040" indent="-28584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Screening programs that seek to identify and refer to treatment youth who are at risk for suicidal behavior.</a:t>
            </a:r>
            <a:endParaRPr b="1" lang="en-US" sz="2800" spc="-1" strike="noStrike">
              <a:solidFill>
                <a:srgbClr val="000000"/>
              </a:solidFill>
              <a:latin typeface="Arial"/>
            </a:endParaRPr>
          </a:p>
        </p:txBody>
      </p:sp>
    </p:spTree>
  </p:cSld>
  <p:transition>
    <p:fade thruBlk="tru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 wide range of suicide education and awareness programs have been developed.</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ssumptions underlying such programs are that the conditions that contribute to suicide risk in adolescents and young adults often go unrecognized, undiagnosed, and untreated, and that educating students and gatekeepers about the warning signs for suicide and appropriate responses will result in better identification of at-risk youth, and increase in help seeking and referrals for treatment.</a:t>
            </a:r>
            <a:endParaRPr b="1" lang="en-US" sz="3200" spc="-1" strike="noStrike">
              <a:solidFill>
                <a:srgbClr val="000000"/>
              </a:solidFill>
              <a:latin typeface="Arial"/>
            </a:endParaRPr>
          </a:p>
        </p:txBody>
      </p:sp>
    </p:spTree>
  </p:cSld>
  <p:transition>
    <p:fade thruBlk="tru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Program Examples</a:t>
            </a:r>
            <a:endParaRPr b="1" lang="en-US" sz="36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uch programs are exemplified by those developed by Kalafat and colleagues, which incorporate education about the warning signs of suicide and appropriate help-seeking behaviors into the regular physical education or related curricula.</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uch education has been reported by the program developers to result in students’ increased knowledge about suicidal behavior, more positive attitudes about talking to friends they believe to be suicidal, and seeking of helps from adul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In its most fully developed form, the Adolescent Suicide Awareness Program (ASAP) includes education for teachers, school staff, and parents, as well as students.</a:t>
            </a:r>
            <a:endParaRPr b="1" lang="en-US" sz="3000" spc="-1" strike="noStrike">
              <a:solidFill>
                <a:srgbClr val="000000"/>
              </a:solidFill>
              <a:latin typeface="Arial"/>
            </a:endParaRPr>
          </a:p>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The Sign of Suicide (SOS) program, developed by Jacobs and colleagues. </a:t>
            </a:r>
            <a:endParaRPr b="1" lang="en-US" sz="3000" spc="-1" strike="noStrike">
              <a:solidFill>
                <a:srgbClr val="000000"/>
              </a:solidFill>
              <a:latin typeface="Arial"/>
            </a:endParaRPr>
          </a:p>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Delivers the core message that suicidal behavior is directly related to mental illness, particularly depression, and needs to be responded to as a mental health emergency.  </a:t>
            </a:r>
            <a:endParaRPr b="1" lang="en-US" sz="3000" spc="-1" strike="noStrike">
              <a:solidFill>
                <a:srgbClr val="000000"/>
              </a:solidFill>
              <a:latin typeface="Arial"/>
            </a:endParaRPr>
          </a:p>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The instructional component, which occurs over 1-2 class periods, may be augmented with screening and parent-awareness activities. </a:t>
            </a:r>
            <a:endParaRPr b="1" lang="en-US" sz="3000" spc="-1" strike="noStrike">
              <a:solidFill>
                <a:srgbClr val="000000"/>
              </a:solidFill>
              <a:latin typeface="Arial"/>
            </a:endParaRPr>
          </a:p>
        </p:txBody>
      </p:sp>
    </p:spTree>
  </p:cSld>
  <p:transition>
    <p:fade thruBlk="tru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chools in which the program has been implemented have reported substantial increases in students’ help-seeking behavior and high satisfaction with the program among school officials.</a:t>
            </a:r>
            <a:endParaRPr b="1" lang="en-US" sz="3600" spc="-1" strike="noStrike">
              <a:solidFill>
                <a:srgbClr val="000000"/>
              </a:solidFill>
              <a:latin typeface="Arial"/>
            </a:endParaRPr>
          </a:p>
          <a:p>
            <a:pPr marL="343080" indent="-343080">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udents who had participated in the SOS program reported lower rates of suicide attempts and greater knowledge and more adaptive attitudes about depression and suicide.</a:t>
            </a:r>
            <a:endParaRPr b="1" lang="en-US" sz="3600" spc="-1" strike="noStrike">
              <a:solidFill>
                <a:srgbClr val="000000"/>
              </a:solidFill>
              <a:latin typeface="Arial"/>
            </a:endParaRPr>
          </a:p>
        </p:txBody>
      </p:sp>
    </p:spTree>
  </p:cSld>
  <p:transition>
    <p:fade thruBlk="tru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Dade County, Florida, Public School System provide an example of universal programs applied on a community wide level.</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Began in 1989 included related curricula across K-12, although only 10</a:t>
            </a:r>
            <a:r>
              <a:rPr b="1" lang="en-US" sz="3200" spc="-1" strike="noStrike" baseline="30000">
                <a:solidFill>
                  <a:srgbClr val="9966ff"/>
                </a:solidFill>
                <a:latin typeface="Arial"/>
              </a:rPr>
              <a:t>th</a:t>
            </a:r>
            <a:r>
              <a:rPr b="1" lang="en-US" sz="3200" spc="-1" strike="noStrike">
                <a:solidFill>
                  <a:srgbClr val="9966ff"/>
                </a:solidFill>
                <a:latin typeface="Arial"/>
              </a:rPr>
              <a:t> graders received direct discussion of suicide and suicide prevention.</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lso included intervention and postvention activities by school-based crisis team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The annual suicide rate decreased from 12.9 deaths per 100,000 youth prior to the program to 4.6 per 100,000 during the 5 years of program operation.</a:t>
            </a:r>
            <a:endParaRPr b="1" lang="en-US" sz="3200" spc="-1" strike="noStrike">
              <a:solidFill>
                <a:srgbClr val="000000"/>
              </a:solidFill>
              <a:latin typeface="Arial"/>
            </a:endParaRPr>
          </a:p>
        </p:txBody>
      </p:sp>
    </p:spTree>
  </p:cSld>
  <p:transition>
    <p:fade thruBlk="tru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Many states are currently implementing universal youth suicide prevention programs that, in addition to student education, frequently include parent and gatekeeper training.</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e Suicide Options, Awareness and Relief (SOAR) program, for example, trains school counselors to identify students at risk of suicide and increase the likelihood and effectiveness of their interventions.</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This program has been reported to result in improved knowledge and increased comfort and confidence in dealing with at-risk students.</a:t>
            </a:r>
            <a:endParaRPr b="1" lang="en-US" sz="3000" spc="-1" strike="noStrike">
              <a:solidFill>
                <a:srgbClr val="000000"/>
              </a:solidFill>
              <a:latin typeface="Arial"/>
            </a:endParaRPr>
          </a:p>
        </p:txBody>
      </p:sp>
    </p:spTree>
  </p:cSld>
  <p:transition>
    <p:fade thruBlk="tru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pplied Suicide Intervention Skills Training (ASIST) is the most frequently applied gatekeeper training program</a:t>
            </a:r>
            <a:endParaRPr b="1" lang="en-US" sz="3200" spc="-1" strike="noStrike">
              <a:solidFill>
                <a:srgbClr val="000000"/>
              </a:solidFill>
              <a:latin typeface="Arial"/>
            </a:endParaRPr>
          </a:p>
          <a:p>
            <a:pPr marL="339480" indent="-3394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Developed by LivingWorks Education for application in a wider community setting.</a:t>
            </a:r>
            <a:endParaRPr b="1" lang="en-US" sz="3200" spc="-1" strike="noStrike">
              <a:solidFill>
                <a:srgbClr val="000000"/>
              </a:solidFill>
              <a:latin typeface="Arial"/>
            </a:endParaRPr>
          </a:p>
          <a:p>
            <a:pPr marL="339480" indent="-3394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It is a 2 day workshop for teachers, counselors, youth leaders, and other community care givers that seeks to increase their awareness and understanding of suicide, address the associated stigma and taboos, develop their readiness and ability to use “first-aid” action to  prevent suicidal behavior, and network with other gatekeepers to improve communication and continuity of care.</a:t>
            </a:r>
            <a:endParaRPr b="1" lang="en-US" sz="3200" spc="-1" strike="noStrike">
              <a:solidFill>
                <a:srgbClr val="000000"/>
              </a:solidFill>
              <a:latin typeface="Arial"/>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e- to post-evaluations of participants suggest increased knowledge about suicidal behavior, greater willingness to intervene, and improved competence in dealing with suicidal individuals.</a:t>
            </a:r>
            <a:endParaRPr b="1"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 one training program in Australia, more than ¾ of ASIST workshop participants reported using their knowledge and intervention skills directly during the 4 months following their participation in the program.</a:t>
            </a:r>
            <a:endParaRPr b="1" lang="en-US" sz="3200" spc="-1" strike="noStrike">
              <a:solidFill>
                <a:srgbClr val="000000"/>
              </a:solidFill>
              <a:latin typeface="Arial"/>
            </a:endParaRPr>
          </a:p>
        </p:txBody>
      </p:sp>
    </p:spTree>
  </p:cSld>
  <p:transition>
    <p:fade thruBlk="tru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raining for Trainers (T4T)</a:t>
            </a:r>
            <a:endParaRPr b="1" lang="en-US" sz="3200" spc="-1" strike="noStrike">
              <a:solidFill>
                <a:srgbClr val="000000"/>
              </a:solidFill>
              <a:latin typeface="Arial"/>
            </a:endParaRPr>
          </a:p>
          <a:p>
            <a:pPr lvl="1" marL="727920" indent="-280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5 day course, offered worldwide, trains and certifies gatekeepers to provide the ASIST training in their local communities. </a:t>
            </a:r>
            <a:endParaRPr b="1" lang="en-US" sz="2800" spc="-1" strike="noStrike">
              <a:solidFill>
                <a:srgbClr val="000000"/>
              </a:solidFill>
              <a:latin typeface="Arial"/>
            </a:endParaRPr>
          </a:p>
          <a:p>
            <a:pPr marL="335880" indent="-3358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Another approach to gatekeeper training has involved educating general practitioners to more effectively identify suicidal patients.  </a:t>
            </a:r>
            <a:endParaRPr b="1" lang="en-US" sz="3200" spc="-1" strike="noStrike">
              <a:solidFill>
                <a:srgbClr val="000000"/>
              </a:solidFill>
              <a:latin typeface="Arial"/>
            </a:endParaRPr>
          </a:p>
          <a:p>
            <a:pPr marL="335880" indent="-3358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One workshop in Australia  sought to encourage screening of young patients for psychological distress, depression, and suicidal behavior.</a:t>
            </a:r>
            <a:endParaRPr b="1" lang="en-US" sz="3200" spc="-1" strike="noStrike">
              <a:solidFill>
                <a:srgbClr val="000000"/>
              </a:solidFill>
              <a:latin typeface="Arial"/>
            </a:endParaRPr>
          </a:p>
          <a:p>
            <a:pPr lvl="1" marL="727920" indent="-280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eported to have resulted in increased identification of distressed, depressed, and suicidal adolescents; no changes were reported in physicians’ management  of such patients.</a:t>
            </a:r>
            <a:endParaRPr b="1" lang="en-US" sz="2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One study at the New York University Child Study Center found that among children with anxiety disorder as preadolescents, 30% went on to have depression later on.</a:t>
            </a:r>
            <a:endParaRPr b="1" lang="en-US" sz="3000" spc="-1" strike="noStrike">
              <a:solidFill>
                <a:srgbClr val="000000"/>
              </a:solidFill>
              <a:latin typeface="Arial"/>
            </a:endParaRPr>
          </a:p>
          <a:p>
            <a:pPr marL="343080" indent="-34308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rPr>
              <a:t>Peer relationships is a predictive factor in adolescent depression- not so much anxiety about relating with one’s friends but about whether they have friendships.</a:t>
            </a:r>
            <a:r>
              <a:rPr b="1" lang="en-US" sz="3000" spc="-1" strike="noStrike">
                <a:solidFill>
                  <a:srgbClr val="000000"/>
                </a:solidFill>
                <a:latin typeface="Arial"/>
              </a:rPr>
              <a:t> </a:t>
            </a:r>
            <a:endParaRPr b="1"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transition>
    <p:fade thruBlk="tru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uicide awareness and education programs for college students are far less cohesive and identifiable than programs addressed to high school students.</a:t>
            </a:r>
            <a:endParaRPr b="1" lang="en-US" sz="3200" spc="-1" strike="noStrike">
              <a:solidFill>
                <a:srgbClr val="000000"/>
              </a:solidFill>
              <a:latin typeface="Arial"/>
            </a:endParaRPr>
          </a:p>
        </p:txBody>
      </p:sp>
    </p:spTree>
  </p:cSld>
  <p:transition>
    <p:fade thruBlk="tru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One of the few programs that involve more than a single campus is Finding Hope and Health, developed by the National Mental Health Association in 2001.</a:t>
            </a:r>
            <a:endParaRPr b="1" lang="en-US" sz="3200" spc="-1" strike="noStrike">
              <a:solidFill>
                <a:srgbClr val="000000"/>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acilitates partnership between a local mental health association and a university to develop and implement campus educational programs on suicide and related mental health problems.</a:t>
            </a:r>
            <a:endParaRPr b="1" lang="en-US" sz="2800" spc="-1" strike="noStrike">
              <a:solidFill>
                <a:srgbClr val="000000"/>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se “campus coalitions” work with residence hall advisers, campus counseling centers, relevant academic departments, campus ministries, and other student affairs personnel to design trainings for students and staff, peer counseling programs, and other activities to increase knowledge and awareness of mental health concerns.</a:t>
            </a:r>
            <a:endParaRPr b="1"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thruBlk="tru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Another effort that targets colleges and universities is the recently produced film developed by the American Foundation  for Suicide Prevention (AFSP), “The Truth About Suicide: Real Stories of Depression in College.”</a:t>
            </a:r>
            <a:endParaRPr b="1" lang="en-US" sz="3000" spc="-1" strike="noStrike">
              <a:solidFill>
                <a:srgbClr val="000000"/>
              </a:solidFill>
              <a:latin typeface="Arial"/>
            </a:endParaRPr>
          </a:p>
          <a:p>
            <a:pPr marL="343080" indent="-343080">
              <a:spcBef>
                <a:spcPts val="751"/>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ff"/>
                </a:solidFill>
                <a:latin typeface="Arial"/>
              </a:rPr>
              <a:t>The film is accompanied by a Facilitator’s Guide that includes recommendations for its use in classrooms, orientation sessions, and dorm meetings and at other student activities, as well as educational materials to assist faculty and other facilitators in guiding student discussions and answering specific questions about suicide.</a:t>
            </a:r>
            <a:endParaRPr b="1" lang="en-US" sz="3000" spc="-1" strike="noStrike">
              <a:solidFill>
                <a:srgbClr val="000000"/>
              </a:solidFill>
              <a:latin typeface="Arial"/>
            </a:endParaRPr>
          </a:p>
        </p:txBody>
      </p:sp>
    </p:spTree>
  </p:cSld>
  <p:transition>
    <p:fade thruBlk="tru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Critique</a:t>
            </a:r>
            <a:endParaRPr b="1" lang="en-US" sz="32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Most suicide aware ness and suicide education programs involve one or a limited number of relatively brief sessions focused on suicidal behavior, frequently as part of a larger curricular effort aimed at reducing multiple high-risk behaviors.</a:t>
            </a:r>
            <a:endParaRPr b="1" lang="en-US" sz="3000" spc="-1" strike="noStrike">
              <a:solidFill>
                <a:srgbClr val="000000"/>
              </a:solidFill>
              <a:latin typeface="Arial"/>
            </a:endParaRPr>
          </a:p>
          <a:p>
            <a:pPr marL="343080" indent="-343080">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Although pre- to post-evidence suggests that such programs can increase students’ knowledge and awareness of suicide risk and improve their help-seeking behaviors, little attention has been paid to determining the scientific accuracy of program content.</a:t>
            </a:r>
            <a:endParaRPr b="1" lang="en-US" sz="3000" spc="-1" strike="noStrike">
              <a:solidFill>
                <a:srgbClr val="000000"/>
              </a:solidFill>
              <a:latin typeface="Arial"/>
            </a:endParaRPr>
          </a:p>
        </p:txBody>
      </p:sp>
    </p:spTree>
  </p:cSld>
  <p:transition>
    <p:fade thruBlk="tru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Generalizable conclusions about the efficacy and effectiveness of suicide education programs for both high school and college students are further limited by the lack of control or comparison groups that would make it possible to differentiate program impact from broader co-occurring trends.</a:t>
            </a:r>
            <a:endParaRPr b="1" lang="en-US" sz="3200" spc="-1" strike="noStrike">
              <a:solidFill>
                <a:srgbClr val="000000"/>
              </a:solidFill>
              <a:latin typeface="Arial"/>
            </a:endParaRPr>
          </a:p>
          <a:p>
            <a:pPr marL="343080" indent="-34308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 the case of the comprehensive, multilevel educational programs, insufficient attention has been paid to documenting which program components are responsible for the reported outcomes.</a:t>
            </a:r>
            <a:endParaRPr b="1" lang="en-US" sz="3200" spc="-1" strike="noStrike">
              <a:solidFill>
                <a:srgbClr val="000000"/>
              </a:solidFill>
              <a:latin typeface="Arial"/>
            </a:endParaRPr>
          </a:p>
        </p:txBody>
      </p:sp>
    </p:spTree>
  </p:cSld>
  <p:transition>
    <p:fade thruBlk="tru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An additional limitation of currently available data on the impact of universal education programs is their short-term focus.</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It is not clear if ongoing interventions might serve as “booster shots” to enhance and reinforce a program’s impact.</a:t>
            </a:r>
            <a:endParaRPr b="1" lang="en-US" sz="3200" spc="-1" strike="noStrike">
              <a:solidFill>
                <a:srgbClr val="000000"/>
              </a:solidFill>
              <a:latin typeface="Arial"/>
            </a:endParaRPr>
          </a:p>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Follow-up evaluations of these programs have been rare, and thus  little is currently known about their impact on reducing suicidal behavior among the targeted group.</a:t>
            </a:r>
            <a:endParaRPr b="1" lang="en-US" sz="3200" spc="-1" strike="noStrike">
              <a:solidFill>
                <a:srgbClr val="000000"/>
              </a:solidFill>
              <a:latin typeface="Arial"/>
            </a:endParaRPr>
          </a:p>
        </p:txBody>
      </p:sp>
    </p:spTree>
  </p:cSld>
  <p:transition>
    <p:fade thruBlk="tru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Longitudinal controlled studies that look at youth several years after participating in educational programs are needed to address the question of long-term behavioral change.  </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This will require addressing the fact that neither high schools nor colleges currently have a reliable system for reporting suicidal behaviors among students, thus hampering collection of reliable data to determine an educational program’s impact. </a:t>
            </a:r>
            <a:endParaRPr b="1" lang="en-US" sz="3000" spc="-1" strike="noStrike">
              <a:solidFill>
                <a:srgbClr val="000000"/>
              </a:solidFill>
              <a:latin typeface="Arial"/>
            </a:endParaRPr>
          </a:p>
          <a:p>
            <a:pPr marL="343080" indent="-343080">
              <a:spcBef>
                <a:spcPts val="7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Also, students graduate and leave the school environment, making follow-up difficult.</a:t>
            </a:r>
            <a:endParaRPr b="1" lang="en-US" sz="3000" spc="-1" strike="noStrike">
              <a:solidFill>
                <a:srgbClr val="000000"/>
              </a:solidFill>
              <a:latin typeface="Arial"/>
            </a:endParaRPr>
          </a:p>
        </p:txBody>
      </p:sp>
    </p:spTree>
  </p:cSld>
  <p:transition>
    <p:fade thruBlk="tru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Long-term controlled studies of gatekeeper training programs are likewise needed to determine the frequency or the effectiveness of participants’ direct interventions during the years following the training.  </a:t>
            </a:r>
            <a:endParaRPr b="1" lang="en-US" sz="3200" spc="-1" strike="noStrike">
              <a:solidFill>
                <a:srgbClr val="000000"/>
              </a:solidFill>
              <a:latin typeface="Arial"/>
            </a:endParaRPr>
          </a:p>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Because little is known about particular approaches that make referral efforts safe and effective, further evaluation is needed of the impact of such programs on referral processes, adequate treatment, and, in turn, the reduction of suicide risk factors and suicidal behavior among youth</a:t>
            </a:r>
            <a:endParaRPr b="1" lang="en-US" sz="3200" spc="-1" strike="noStrike">
              <a:solidFill>
                <a:srgbClr val="000000"/>
              </a:solidFill>
              <a:latin typeface="Arial"/>
            </a:endParaRPr>
          </a:p>
        </p:txBody>
      </p:sp>
    </p:spTree>
  </p:cSld>
  <p:transition>
    <p:fade thruBlk="tru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ome concerns have been voiced by high school personnel and parents that overt discussion of suicide in the school curriculum may increase suicidal thoughts and behavior, and adequate attention has generally not been given by evaluators to documenting adverse effects.</a:t>
            </a:r>
            <a:endParaRPr b="1" lang="en-US" sz="3200" spc="-1" strike="noStrike">
              <a:solidFill>
                <a:srgbClr val="000000"/>
              </a:solidFill>
              <a:latin typeface="Arial"/>
            </a:endParaRPr>
          </a:p>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One study found statistically significant increases in hopelessness and maladaptive coping resources among some male students after exposure to a suicide awareness curriculum.</a:t>
            </a:r>
            <a:endParaRPr b="1" lang="en-US" sz="3200" spc="-1" strike="noStrike">
              <a:solidFill>
                <a:srgbClr val="000000"/>
              </a:solidFill>
              <a:latin typeface="Arial"/>
            </a:endParaRPr>
          </a:p>
        </p:txBody>
      </p:sp>
    </p:spTree>
  </p:cSld>
  <p:transition>
    <p:fade thruBlk="tru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9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Studies by Shaffer and colleagues and Vieland and colleagues found that students who had previously made a suicide attempt were less likely to recommend suicide awareness programs in the schools, and were more likely to feel that talking about suicide in the classroom would increase suicidal behavior among some students.</a:t>
            </a:r>
            <a:endParaRPr b="1" lang="en-US" sz="3000" spc="-1" strike="noStrike">
              <a:solidFill>
                <a:srgbClr val="000000"/>
              </a:solidFill>
              <a:latin typeface="Arial"/>
            </a:endParaRPr>
          </a:p>
          <a:p>
            <a:pPr marL="343080" indent="-343080">
              <a:lnSpc>
                <a:spcPct val="9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It is essential that school personnel be made aware of referral sources in the community and for the school to have in place a plan of action for identified students that includes a debriefing component for peers and faculty who are involved in making referrals.</a:t>
            </a:r>
            <a:endParaRPr b="1" lang="en-US" sz="3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03:18:43Z</dcterms:created>
  <dc:creator>Brittany Whitesel</dc:creator>
  <dc:description/>
  <dc:language>en-US</dc:language>
  <cp:lastModifiedBy>Aubrey H. Fine</cp:lastModifiedBy>
  <dcterms:modified xsi:type="dcterms:W3CDTF">2006-04-24T22:01:49Z</dcterms:modified>
  <cp:revision>69</cp:revision>
  <dc:subject/>
  <dc:title>Depression and Bipolar Disorder</dc:title>
</cp:coreProperties>
</file>